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C1B8-9A52-4F08-B362-8A39FD8C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B04E-33FB-44CA-9306-EAE68499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710E-6848-411B-9D2D-E1F7F82B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AB78-8A80-4096-8467-9BAE7B70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D98B-FFA8-48EA-A110-9091644B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E567-4313-485B-BECB-08F10848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459-3B15-4D06-8FAB-7D5E3506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93A2-51CE-4AE0-9514-4D662AEA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41CD-142C-4053-A49B-B241F398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19FD-CED6-4EE2-9D78-6A1212D5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EFF0-9D58-42F5-84DA-699291EF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0BB7-07F7-4DA9-86ED-AB8BAB9E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400440"/>
            <a:ext cx="3591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0AF5-4226-4089-AEAC-8293440F9DA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57200"/>
            <a:ext cx="8001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Tahoma"/>
              </a:rPr>
              <a:t>Chapter 15</a:t>
            </a:r>
            <a:br>
              <a:rPr sz="2800"/>
            </a:br>
            <a:r>
              <a:rPr b="1" lang="tr-TR" sz="2800" spc="-1" strike="noStrike">
                <a:solidFill>
                  <a:srgbClr val="ff0000"/>
                </a:solidFill>
                <a:latin typeface="Tahoma"/>
              </a:rPr>
              <a:t>UML  Interaction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Provide a reference for frequently used UML interaction diagram notation – sequence and communication diagra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905120"/>
            <a:ext cx="7391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5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tr-TR" sz="1500" spc="-1" strike="noStrike">
                <a:solidFill>
                  <a:srgbClr val="000000"/>
                </a:solidFill>
                <a:latin typeface="Comic Sans MS"/>
              </a:rPr>
              <a:t>Cats are smarter than dogs. You can’t get eight cats to pull a sled    through snow.” </a:t>
            </a:r>
            <a:br>
              <a:rPr sz="1500"/>
            </a:br>
            <a:r>
              <a:rPr b="1" i="1" lang="tr-TR" sz="1500" spc="-1" strike="noStrike">
                <a:solidFill>
                  <a:srgbClr val="000000"/>
                </a:solidFill>
                <a:latin typeface="Comic Sans MS"/>
              </a:rPr>
              <a:t>- Jeff Valdez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3A9A-978F-410E-B869-405030528AB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10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Instance creation and object lifelines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438200"/>
            <a:ext cx="8229600" cy="398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6793-564B-4A2B-8711-DF470FFC2BC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11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Object destructio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924200"/>
            <a:ext cx="8229600" cy="300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AD1C-42F4-4163-B447-EF0A8864A5C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12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Example UML frame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873080"/>
            <a:ext cx="8229600" cy="311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8DF1-EFC2-469E-B797-70439F6F299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Frame  Operato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omic Sans MS"/>
              </a:rPr>
              <a:t>al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omic Sans MS"/>
              </a:rPr>
              <a:t>loop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omic Sans MS"/>
              </a:rPr>
              <a:t>op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omic Sans MS"/>
              </a:rPr>
              <a:t>pa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omic Sans MS"/>
              </a:rPr>
              <a:t>reg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B5DF-3422-49C2-ADA9-4CF8878C062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13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A conditional message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077320" cy="3181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09480" y="3657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14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A conditional message in UML 1.x no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295280" y="4027320"/>
            <a:ext cx="6858000" cy="283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8168-D3E5-40E8-BBE6-61CCBB3F5F9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15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Mutually exclusive conditional messages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1355760"/>
            <a:ext cx="8305920" cy="418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4EC0-A68F-4F95-A914-D76D107E6F9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16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Iteration over a collection using relatively explicit notatio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2014560"/>
            <a:ext cx="8229600" cy="2828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162600" y="5486400"/>
            <a:ext cx="53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See the corresponding code given in p.23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941A-7976-4961-88C2-76D6ADEE2C2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17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Iteration over a collection leaving things more implicit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871640"/>
            <a:ext cx="8229600" cy="31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CD3D-C765-43BA-AF82-94155944C2D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18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Nesting of frames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496880"/>
            <a:ext cx="8229600" cy="386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8A5-1CB8-48D6-B81C-7B75F7791C4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19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Example interaction occurrence, sd and ref frames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008000"/>
            <a:ext cx="8229600" cy="484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18FC-4837-492B-9376-05B5E6180E4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1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Sequence Diagra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600200" y="990720"/>
          <a:ext cx="5867280" cy="27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867280" cy="27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600200" y="4267080"/>
          <a:ext cx="5943600" cy="243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4267080"/>
                    <a:ext cx="5943600" cy="24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62120" y="38862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2  Communication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4012-7078-4146-A102-8E83BF2B047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20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Invoking class or static metthods; showing a class object as an instance of a metaclass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2376360"/>
            <a:ext cx="8229600" cy="2105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162600" y="5486400"/>
            <a:ext cx="53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See the corresponding code given in p.23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4B2-8B89-40A7-8482-9CF8F3CE01D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21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An approach to modeling polymorphic cases in sequence diagram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858000" cy="58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A900-AEB8-4FBE-B607-719F9693321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22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Asynchronous calls and active objects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731960"/>
            <a:ext cx="8229600" cy="3394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191040" y="5486400"/>
            <a:ext cx="578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See the corresponding code given in p.239-2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7587-40CC-4E0B-982A-CB6B04D9FE7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23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Link line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229600" cy="2584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34290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24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Messa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80880" y="3962520"/>
            <a:ext cx="8229600" cy="270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EFF6-2983-40C1-84DC-57F76582ACC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25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Messages to “this”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895480" y="1066680"/>
          <a:ext cx="35514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066680"/>
                    <a:ext cx="35514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7896-DD96-442B-8539-DCBE7BE7321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26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Instance creatio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057320"/>
            <a:ext cx="8229600" cy="474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C037-5875-4025-8312-58181ADD2C0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27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Sequence numbering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2295360"/>
            <a:ext cx="8229600" cy="22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51E2-134B-4166-A6EF-FD24810D800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28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Complex sequence numbering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520" y="1046160"/>
            <a:ext cx="8076960" cy="485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586-800A-494C-8C42-1F4CF5AB1D8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29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Conditional message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2295360"/>
            <a:ext cx="8229600" cy="22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7465-F294-4E0E-842B-BB70D9D836D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30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Mutually exclusive messages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535040"/>
            <a:ext cx="8229600" cy="37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F6F4-8472-46AA-AC00-9C46B639F55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Strengths and Weaknesses of Interaction Diagram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omic Sans MS"/>
              </a:rPr>
              <a:t>Sequence Diagra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omic Sans MS"/>
              </a:rPr>
              <a:t>Communication Diagra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ADBA-CFFD-408A-8DDC-285E1AA4E0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31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Iteratio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2217600"/>
            <a:ext cx="8229600" cy="242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DA56-2946-4879-ACC9-D8DE5276563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32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Iteration over a collectio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101600"/>
            <a:ext cx="8229600" cy="465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1CBC-F42B-45BC-A778-0D007A8B24D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33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Messages to a class object (static method invocation)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2376360"/>
            <a:ext cx="8229600" cy="210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F53F-20EB-4C8B-83FC-B6D404C86CF7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34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An approach to modeling polymorphic cases in communication diagrams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409760"/>
            <a:ext cx="822960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7ED2-2427-4C7D-88D5-B65B090ED87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35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Asycnhronous call in a communication diagram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779480"/>
            <a:ext cx="8229600" cy="329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35CB-595D-44FC-A7BC-34E56DDBA855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3  Sequence Diagra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914400"/>
          <a:ext cx="7772400" cy="19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777240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57200" y="33526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4  Communication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09480" y="3809880"/>
            <a:ext cx="8229600" cy="261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1A85-7987-450F-AC98-8F0A3772045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5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Lifeline nboxes to show the participants in interactions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968400"/>
            <a:ext cx="7925040" cy="489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7B66-9C3D-4B45-8103-51FEFF356C5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6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Singletons in interaction diagrams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2664000"/>
            <a:ext cx="8229600" cy="153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69D6-70EE-4FBE-94C7-8837F5F749A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7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Messages and focus of control with execution specification bar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229600" cy="525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E21F-41C5-4811-89DA-E06A28055E0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8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Two ways to show a return result from a message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20720"/>
            <a:ext cx="8229600" cy="361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8C31-8858-4928-BC01-D428A4739B3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5.9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Messages to “this”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990720" y="1087560"/>
          <a:ext cx="7086600" cy="50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087560"/>
                    <a:ext cx="7086600" cy="50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6 - Oct.16,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0E42-9FAC-4DD2-A5E6-1B9CE536781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3:51:44Z</dcterms:created>
  <dc:creator>KIVANCD</dc:creator>
  <dc:description>RLSD 61016 KD</dc:description>
  <dc:language>en-US</dc:language>
  <cp:lastModifiedBy>KIVANCD</cp:lastModifiedBy>
  <dcterms:modified xsi:type="dcterms:W3CDTF">2006-10-30T22:24:45Z</dcterms:modified>
  <cp:revision>50</cp:revision>
  <dc:subject/>
  <dc:title>Object Oriented Analysis and Design - Lecture 6</dc:title>
</cp:coreProperties>
</file>