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2.png" ContentType="image/png"/>
  <Override PartName="/ppt/media/image7.wmf" ContentType="image/x-wmf"/>
  <Override PartName="/ppt/media/image11.wmf" ContentType="image/x-wmf"/>
  <Override PartName="/ppt/media/image9.wmf" ContentType="image/x-wmf"/>
  <Override PartName="/ppt/media/image8.png" ContentType="image/png"/>
  <Override PartName="/ppt/media/image16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7.png" ContentType="image/png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A2DB-FAEE-47F7-8E8E-D5E9236DE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4231-B56E-465B-8A98-8F167B4C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084E-AAFA-49D3-B137-81C93F50C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9E77-C079-4FA2-97C1-F3C5B6662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83D7-0E2A-4316-84B5-DC50CE68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96A7-B2FA-4109-B75C-5F0AB407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2FDC-65D3-4C6E-8354-9623378B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E7C6-E4F4-4AE8-A6C1-24D23427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FFC7-E502-4CA8-820C-B3183843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3EC3-5770-4993-B6A3-6A9285FF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BAF7-3008-41E4-988E-793E53ED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8078-66CC-4A90-9A4E-B28F1AC1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400440"/>
            <a:ext cx="3591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5C6D-2445-4ECE-89BE-131E9B3CF25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457200"/>
            <a:ext cx="8001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0000"/>
                </a:solidFill>
                <a:latin typeface="Tahoma"/>
              </a:rPr>
              <a:t>Chapter 16</a:t>
            </a:r>
            <a:br>
              <a:rPr sz="2800"/>
            </a:br>
            <a:r>
              <a:rPr b="1" lang="tr-TR" sz="2800" spc="-1" strike="noStrike">
                <a:solidFill>
                  <a:srgbClr val="ff0000"/>
                </a:solidFill>
                <a:latin typeface="Tahoma"/>
              </a:rPr>
              <a:t>UML Class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781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Provide a reference for frequently used UML class diagram notation to illustrate classes, interfaces, and their associa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tr-TR" sz="2000" spc="-1" strike="noStrike">
                <a:solidFill>
                  <a:srgbClr val="3333cc"/>
                </a:solidFill>
                <a:latin typeface="Comic Sans MS"/>
              </a:rPr>
              <a:t>Static object model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1905120"/>
            <a:ext cx="7239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5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tr-TR" sz="1500" spc="-1" strike="noStrike">
                <a:solidFill>
                  <a:srgbClr val="000000"/>
                </a:solidFill>
                <a:latin typeface="Comic Sans MS"/>
              </a:rPr>
              <a:t>To iterate is human, to recurse, divine</a:t>
            </a:r>
            <a:r>
              <a:rPr b="1" i="1" lang="en-US" sz="15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i="1" lang="tr-TR" sz="1500" spc="-1" strike="noStrike">
                <a:solidFill>
                  <a:srgbClr val="000000"/>
                </a:solidFill>
                <a:latin typeface="Comic Sans MS"/>
              </a:rPr>
              <a:t>” </a:t>
            </a:r>
            <a:br>
              <a:rPr sz="1500"/>
            </a:br>
            <a:r>
              <a:rPr b="1" i="1" lang="tr-TR" sz="1500" spc="-1" strike="noStrike">
                <a:solidFill>
                  <a:srgbClr val="000000"/>
                </a:solidFill>
                <a:latin typeface="Comic Sans MS"/>
              </a:rPr>
              <a:t>- anonymou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7 - Oct.30,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5FBE-B28D-4FD5-BA4C-9CBBCAD3C17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thod names: creat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tr-TR" sz="2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reate</a:t>
            </a:r>
            <a:r>
              <a:rPr b="0" lang="tr-TR" sz="22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message is the UML language independent form to indicate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instantiation and initialization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en translating the design to an OOPL</a:t>
            </a:r>
            <a:r>
              <a:rPr b="0" lang="tr-TR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it must be expressed in terms of its idioms for instantiation and initialization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invocation of the new operator and a constructor call in Java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209680" y="4038480"/>
            <a:ext cx="4495680" cy="1828800"/>
            <a:chOff x="2209680" y="4038480"/>
            <a:chExt cx="4495680" cy="1828800"/>
          </a:xfrm>
        </p:grpSpPr>
        <p:sp>
          <p:nvSpPr>
            <p:cNvPr id="70" name=""/>
            <p:cNvSpPr/>
            <p:nvPr/>
          </p:nvSpPr>
          <p:spPr>
            <a:xfrm>
              <a:off x="2209680" y="4038480"/>
              <a:ext cx="4495680" cy="182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constructor&gt;&gt; SuperclassFoo(Lon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09680" y="4038480"/>
              <a:ext cx="4495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lass 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7 - Oct.30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67D0-C2BC-4BFD-8B68-855CA36C218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thod names: Accessing Method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ccessing methods are those which retrieve (accessor method - get) or set (mutator method) attributes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t is common idiom to have an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accessor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tr-TR" sz="2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getter</a:t>
            </a:r>
            <a:r>
              <a:rPr b="0" lang="tr-TR" sz="2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mutator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tr-TR" sz="2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setter</a:t>
            </a:r>
            <a:r>
              <a:rPr b="0" lang="tr-TR" sz="2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or each attribute, and to declare all attribute private (to enforce encapsulation)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omic Sans MS"/>
              </a:rPr>
              <a:t>Guideline: Ignore them while modeling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7 - Oct.30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91C9-555F-4E40-B38B-30501E960B2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thod names: Multi-Objec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message to a multi-object is interpreted as a message to the container/collection objec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ava’s map, C++’s map, Smalltalk’s dictionar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762120" y="2529000"/>
          <a:ext cx="7848360" cy="42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529000"/>
                    <a:ext cx="7848360" cy="42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7 - Oct.30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3393-A13A-487F-BCFE-F62DD5439DD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g. 16.6</a:t>
            </a: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Two ways to show a collection attribute in the UML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991720" cy="570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7 - Oct.30,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037C-09F3-4132-94DB-40F7751C80C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thod Name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nguage Dependent Syntax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basic UML format for methods: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thodName(parameterLis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type of the attributes, method parameters, and method return values may all optionally be shown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design class diagram should be created by considering the audience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it is being created in a CASE tool with automatic code generation, full and exhaustive details are necessary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it is being created for 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softwar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velopers to read, exhaustive low-level detail may adversely effect the noise-to-value rati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7 - Oct.30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441B-AC61-4D06-A3E8-1CDC33E3B40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sociations and Navigabil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ssoci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a structural relationship that specifies that objects of one thing are connected to objects of anoth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avigabilit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a property of the role which indicates that it is possible to navigate uni-directionally across the association from objects of the source to target clas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avigability implies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visibilit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avigability is identified from Interaction Diagram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st, if not all, associations in design-oriented class diagrams should be adorned with the necessary navigability arrow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e an association with a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navigability adornme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rom A to B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sends a message to B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creates an instance B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needs to maintain a connection to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8580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7480" y="68580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7 - Oct.30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4B3E-41E2-408E-A513-40B60F05CF2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ssociations with </a:t>
            </a:r>
            <a:r>
              <a:rPr b="1" lang="tr-TR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vigability </a:t>
            </a:r>
            <a:r>
              <a:rPr b="1" lang="tr-T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rnm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61960" y="1143000"/>
          <a:ext cx="7743960" cy="51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1960" y="1143000"/>
                    <a:ext cx="7743960" cy="51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175760" y="762120"/>
            <a:ext cx="6619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We will just ignore/inhibit the navigability adornments si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İt confuses the interpretation of domain and class mode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7 - Oct.30,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6B3A-7ECD-430C-97B3-CBD5A8037F9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ding dependency relationship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Dependency relationship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indicates that one element (of any kind, including classes, use cases, and so on) has knowledge of another element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dependency is a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using relationshi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at states a change in specification of one thing may affect another thing that uses it, but not necessarily the revers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dependency relationship is useful to depict non-attribute visibility between classes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ameter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lobal or local visibi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Dependency is a form of </a:t>
            </a:r>
            <a:r>
              <a:rPr b="0" lang="tr-TR" sz="1800" spc="-1" strike="noStrike">
                <a:solidFill>
                  <a:srgbClr val="3333cc"/>
                </a:solidFill>
                <a:latin typeface="Comic Sans MS"/>
              </a:rPr>
              <a:t>coupling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7620120" y="68580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7 - Oct.30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5FF6-DC95-4079-B002-DC3C4EB8FF9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pendency Relationships Non-Attribute Visibil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37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7 - Oct.30,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EA56-CEC8-4F55-A7B7-BB7824C54DA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gure 16.10 Showing dependency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class Foo {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doX( ) {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ystem.runFinalization( 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038480" y="1214280"/>
            <a:ext cx="5105520" cy="2293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4648320"/>
            <a:ext cx="8763120" cy="1752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33520" y="42670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gure 16.11 Optional dependency labels in the UM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7 - Oct.30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7317-0E97-46DA-A8B0-29A5AAF8E0C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Fig 16.1 Common UML class diagram notation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7 - Oct.30,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2AC6-8F35-4238-A26A-C8719CCC034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tation for Method Bodies in DCD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04920" y="1523880"/>
          <a:ext cx="8686800" cy="483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8686800" cy="48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7 - Oct.30,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91FA-06A0-488D-8BDF-8A52C4E81E5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fac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5791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UML has several ways to show interface implementations. 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ince both the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socket line notation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and the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dependency line notation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used curved lines not common in drawing tools, most people use a dependency arrow and the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«interface» stereotyp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934320" y="1143000"/>
            <a:ext cx="1980720" cy="4723920"/>
            <a:chOff x="6934320" y="1143000"/>
            <a:chExt cx="1980720" cy="4723920"/>
          </a:xfrm>
        </p:grpSpPr>
        <p:grpSp>
          <p:nvGrpSpPr>
            <p:cNvPr id="106" name=""/>
            <p:cNvGrpSpPr/>
            <p:nvPr/>
          </p:nvGrpSpPr>
          <p:grpSpPr>
            <a:xfrm>
              <a:off x="7010280" y="1143000"/>
              <a:ext cx="1904760" cy="1523880"/>
              <a:chOff x="7010280" y="1143000"/>
              <a:chExt cx="1904760" cy="1523880"/>
            </a:xfrm>
          </p:grpSpPr>
          <p:sp>
            <p:nvSpPr>
              <p:cNvPr id="107" name=""/>
              <p:cNvSpPr/>
              <p:nvPr/>
            </p:nvSpPr>
            <p:spPr>
              <a:xfrm>
                <a:off x="7010280" y="1143000"/>
                <a:ext cx="1904760" cy="15238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010280" y="2133360"/>
                <a:ext cx="19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315200" y="1295280"/>
                <a:ext cx="127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«interface»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Tim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090200" y="2209680"/>
                <a:ext cx="102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getTime(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 flipV="1">
              <a:off x="7848360" y="2666880"/>
              <a:ext cx="0" cy="114264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6934320" y="3809880"/>
              <a:ext cx="1904760" cy="2057040"/>
              <a:chOff x="6934320" y="3809880"/>
              <a:chExt cx="1904760" cy="2057040"/>
            </a:xfrm>
          </p:grpSpPr>
          <p:sp>
            <p:nvSpPr>
              <p:cNvPr id="113" name=""/>
              <p:cNvSpPr/>
              <p:nvPr/>
            </p:nvSpPr>
            <p:spPr>
              <a:xfrm>
                <a:off x="6934320" y="3809880"/>
                <a:ext cx="1904760" cy="20570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934320" y="4495320"/>
                <a:ext cx="19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934320" y="5257080"/>
                <a:ext cx="19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92600" y="3961800"/>
                <a:ext cx="86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lock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239240" y="5333400"/>
                <a:ext cx="1192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etTime( 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" name=""/>
          <p:cNvSpPr/>
          <p:nvPr/>
        </p:nvSpPr>
        <p:spPr>
          <a:xfrm flipV="1">
            <a:off x="7848720" y="266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96080" y="2666880"/>
            <a:ext cx="292320" cy="216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7 - Oct.30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BAE7-9EB3-4ACE-BF20-F6D664A9020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ML stereotyp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stereotype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represents a refinement of an existing modeling concept and is defined within a UML profil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ML uses </a:t>
            </a:r>
            <a:r>
              <a:rPr b="0" i="1" lang="en-US" sz="2200" spc="-1" strike="noStrike">
                <a:solidFill>
                  <a:srgbClr val="3333cc"/>
                </a:solidFill>
                <a:latin typeface="Comic Sans MS"/>
              </a:rPr>
              <a:t>stereotype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encapsulated in guillemots (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«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and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»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&gt;&gt;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) to extend many diagram symbol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Guillemot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can be found in th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latin-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symbol set in Windows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Insert Symbo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comman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«interface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«extends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«includes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«actor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«create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«destroy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7 - Oct.30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522A-7EFE-4E6D-9971-492B6FCB9E9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g. 16.8</a:t>
            </a: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tereotype declaration and use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320" y="1803240"/>
            <a:ext cx="8991360" cy="330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7 - Oct.30,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922D-7EE9-4E89-A5C7-6A6FC667A23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faces – Different Notation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6320" y="914400"/>
            <a:ext cx="8991360" cy="586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7 - Oct.30,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143D-D9DD-4D90-9A21-D1DB10B7A73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ggregation and Composi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ggregat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– (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very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ldomly used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 – Just ignore i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ole/part relationship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as-a relationshi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tr-TR" sz="1600" spc="-1" strike="noStrike">
                <a:solidFill>
                  <a:srgbClr val="000000"/>
                </a:solidFill>
                <a:latin typeface="Comic Sans MS"/>
              </a:rPr>
              <a:t>No meaningful example can be given in practice. KD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Composition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s a type of aggregation and a strong kind of whole/part relationship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. An instance of the part belongs to only one composite instance at a time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.The part must always belong to a composite, a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.The composite is responsible for the creation and deletion of its parts. (If the composite is destroyed, its parts must either be destroyed, or attached to another composite.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324480" y="1506600"/>
            <a:ext cx="2607840" cy="644040"/>
            <a:chOff x="6324480" y="1506600"/>
            <a:chExt cx="2607840" cy="644040"/>
          </a:xfrm>
        </p:grpSpPr>
        <p:sp>
          <p:nvSpPr>
            <p:cNvPr id="129" name=""/>
            <p:cNvSpPr/>
            <p:nvPr/>
          </p:nvSpPr>
          <p:spPr>
            <a:xfrm>
              <a:off x="6324480" y="1828800"/>
              <a:ext cx="19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9221000">
              <a:off x="8381880" y="159984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4114800"/>
            <a:ext cx="914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7 - Oct.30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81F3-BB4B-448E-8C51-15B03BB4474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eneraliz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generalization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is a relationship between a general thing (called the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super clas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or parent) and a more specific kind of that thing (called the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subclas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or child)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is-a-kind-of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relationship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s this the same as OO PL inheritance</a:t>
            </a:r>
            <a:r>
              <a:rPr b="0" lang="tr-TR" sz="22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mai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n mode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g, n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software modeling, y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477120" y="482760"/>
            <a:ext cx="1611720" cy="482040"/>
            <a:chOff x="6477120" y="482760"/>
            <a:chExt cx="1611720" cy="482040"/>
          </a:xfrm>
        </p:grpSpPr>
        <p:sp>
          <p:nvSpPr>
            <p:cNvPr id="135" name=""/>
            <p:cNvSpPr/>
            <p:nvPr/>
          </p:nvSpPr>
          <p:spPr>
            <a:xfrm>
              <a:off x="6477120" y="723960"/>
              <a:ext cx="135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3795800">
              <a:off x="7662240" y="575280"/>
              <a:ext cx="380880" cy="29628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7 - Oct.30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2C36-DA76-4B1B-B329-2178E09ECE6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strai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UML constraint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is a restriction or condition on a UML element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2165400"/>
            <a:ext cx="8686800" cy="406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7 - Oct.30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7F50-A7E9-411A-85B4-0E13C5BC8CF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sociation Class</a:t>
            </a: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ahoma"/>
              </a:rPr>
              <a:t>(*important</a:t>
            </a: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association clas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allows you treat an association itself as a class, and model it with attributes, operations, and other feature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will see that it is necessary to use an association class in modeling of some case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52280" y="3443400"/>
            <a:ext cx="9068040" cy="26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7 - Oct.30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2A21-AA30-4F6F-8C4B-49CF6CA3964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gure 16.17 Singleton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39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7 - Oct.30,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E495-8BBC-49BA-829C-5A19873810F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g. 16.2</a:t>
            </a: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 UML class diagrams in two perspectives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1757520"/>
            <a:ext cx="8686800" cy="3528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36920" y="5638680"/>
            <a:ext cx="774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omic Sans MS"/>
              </a:rPr>
              <a:t>By default, Methods are public and attributes are privat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7 - Oct.30,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DF93-7C80-4A1E-94BC-ABFBD754FA2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ser Defined Compartments</a:t>
            </a:r>
            <a:br>
              <a:rPr sz="2800"/>
            </a:b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Seldomly used in practic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28814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7 - Oct.30,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5B39-A7E6-4ADF-9AC3-7CD13DFC00BB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ctive Clas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active object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runs on and controls its own thread of execution. The class of an active object is an 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active clas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3520" y="2971800"/>
            <a:ext cx="8229600" cy="26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7 - Oct.30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2871-84F1-48EF-8B95-1AA5327400B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en to create DCDs</a:t>
            </a: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? </a:t>
            </a:r>
            <a:br>
              <a:rPr sz="18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though this presentation of design class diagrams follows the creation of interaction diagrams, in practice they are usually created 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in parallel</a:t>
            </a: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1360440"/>
            <a:ext cx="9144000" cy="526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7 - Oct.30,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DAD1-6B09-4BB3-86D5-EAF8BC0D0629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as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ception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Design Model and DCDs will not usually be started until elaboration because it involves detailed design decisions, which are premature during incep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laboration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uring this phase, DCDs will accompany the UC  realization interaction diagrams; they may be created for the most architecturally significant classes of the design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SE tools can reverse-engineer (generate) DCDs from source c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nstruction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CDs will continue to be generated from the source code as an aid in visualizing the static structure of the syst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7 - Oct.30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FD34-C684-4D76-B40A-A9E01160B51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457200"/>
            <a:ext cx="8001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0000"/>
                </a:solidFill>
                <a:latin typeface="Tahoma"/>
              </a:rPr>
              <a:t>Chapter 1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8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Designing for Vis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3886200"/>
            <a:ext cx="6781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Identify four kinds of visibilit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Design to establish visibi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95280" y="1905120"/>
            <a:ext cx="7239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5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en-US" sz="1500" spc="-1" strike="noStrike">
                <a:solidFill>
                  <a:srgbClr val="000000"/>
                </a:solidFill>
                <a:latin typeface="Comic Sans MS"/>
              </a:rPr>
              <a:t>A mathematician is a device for turning coffee into theorems.</a:t>
            </a:r>
            <a:r>
              <a:rPr b="1" i="1" lang="tr-TR" sz="1500" spc="-1" strike="noStrike">
                <a:solidFill>
                  <a:srgbClr val="000000"/>
                </a:solidFill>
                <a:latin typeface="Comic Sans MS"/>
              </a:rPr>
              <a:t>” </a:t>
            </a:r>
            <a:br>
              <a:rPr sz="1500"/>
            </a:br>
            <a:r>
              <a:rPr b="1" i="1" lang="tr-TR" sz="15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i="1" lang="en-US" sz="1500" spc="-1" strike="noStrike">
                <a:solidFill>
                  <a:srgbClr val="000000"/>
                </a:solidFill>
                <a:latin typeface="Comic Sans MS"/>
              </a:rPr>
              <a:t>Paul Erd</a:t>
            </a:r>
            <a:r>
              <a:rPr b="1" i="1" lang="tr-TR" sz="1500" spc="-1" strike="noStrike">
                <a:solidFill>
                  <a:srgbClr val="000000"/>
                </a:solidFill>
                <a:latin typeface="Comic Sans MS"/>
              </a:rPr>
              <a:t>ö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7 - Oct.30,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445E-A0D8-4B77-A0EF-FBABC69D6F1A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Introduc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Visibility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is the ability of one object to see or have reference to another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  When is visibility necessary?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  To send a message from one object to another, the receiver object must be visible to the sender, so the sender has to have a pointer or reference to the receiver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ose new to object design sometimes don’t think about and design to achieve necessary visibilit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7 - Oct.30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931C-FD85-4981-9040-1ABD4C5003F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172200" cy="49528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65960" y="457200"/>
            <a:ext cx="898164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3333cc"/>
                </a:solidFill>
                <a:latin typeface="Arial Unicode MS"/>
              </a:rPr>
              <a:t>Q</a:t>
            </a:r>
            <a:r>
              <a:rPr b="0" lang="tr-TR" sz="2200" spc="-1" strike="noStrike">
                <a:solidFill>
                  <a:srgbClr val="000000"/>
                </a:solidFill>
                <a:latin typeface="Arial Unicode MS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If A sends messages to B, which must be visible to which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 Unicode MS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.  “B is visible to A” means “A can send a message to B”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7 - Oct.30,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14E7-F280-48C9-9018-97A96C29F99D}" type="slidenum">
              <a:t>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isibil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Visibility is related to the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scope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 one resource (such as an instance) within the scope of another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motivation to consider visibility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an object A to send a message to an object B, B must be visible to 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w visibility can be achieved from object A to object B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 kinds of visibilit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ttribute visibilit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B is an attribute of 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arameter visibilit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B is a parameter of a method of 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ocal visibilit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B is a local object in a method of 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Global visibilit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B is in some way globally visib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7 - Oct.30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700F-C3E4-472C-ADA7-97030D8A3AF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ttribute Visibil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Attribute visibility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from A to B exists when B is an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attribute of A</a:t>
            </a:r>
            <a:r>
              <a:rPr b="0" lang="tr-TR" sz="2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latively permane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visibility because it persists as long as A and B exi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st common form of visibi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057"/>
          <a:stretch/>
        </p:blipFill>
        <p:spPr>
          <a:xfrm>
            <a:off x="0" y="3108240"/>
            <a:ext cx="9144000" cy="36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7 - Oct.30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7BF8-634E-4988-90FE-BCE5D4E078A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rameter Visibil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Parameter visibility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from A to B exists when B is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passed as a parameter to a method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of A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latively temporar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visibility because it persists only within the scope of the method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econd most common form of visibility in the OO systems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7 - Oct.30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2189-3864-4C9E-9EBB-090E7490DE0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 we can see…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definition of design class diagrams occurs within th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design ph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creation of design class diagrams is dependent upon the prior creation of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nteraction diagram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nceptual model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ML does not specifically define 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DCD but UP does – it is part of the Design Mode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design class diagra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llustrates the specifications for SW classes and interface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ical information included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asses, associations, and attribute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erfaces, with their operations and constant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thod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ttribute type inform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avigability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ependenci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7 - Oct.30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0E6A-4001-44D4-B2EB-61512C6E04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rameter to Attribute Visibil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t is common to transform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arameter visibility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into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ttribute visibilit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7 - Oct.30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0FBF-0B8B-45D2-8EEF-16DA6C563CE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l Visibil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Local visibility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from A to B exists when B is declared as a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local object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within a method of A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latively temporar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visibility since it persists only within the scope of the meth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52280" y="2971800"/>
            <a:ext cx="8839440" cy="375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7 - Oct.30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FE48-B66C-42EC-87B7-94F16F1E116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l Visibil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re are two common means by which local visibility is achieved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e a new local instance and assign it to a local variab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sign the returning object from a method invocation to a local variable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variat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f this method does not explicitly declare a variable, but one implicitly exists as the result of a returning object from a method invoc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Object.getAnotherObject.doSomething(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7 - Oct.30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F7EF-8EBE-45DC-A000-E06436D620C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lobal Visibil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Global visibility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from A to B exists when B is global to A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latively permanent visibility since it persists as long as A and B exi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least common form of visibility in OO System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ays to achieve global visibility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sign an instance to a global variab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the Singleton patter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7 - Oct.30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6C27-01FD-4948-9899-C90868EF0DE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ngleton Pattern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(Gang of Four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ctly one instance of a class is needed. Objects need a single point of acces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e a class method that returns the singleton object, instantiating it if it does not exi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print queue—many programs must access one queue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7 - Oct.30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AD40-979E-41C2-BDD0-6F62A70468C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Illustrating Visibility in the UML</a:t>
            </a:r>
            <a:endParaRPr b="1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047600" y="1219320"/>
            <a:ext cx="7048800" cy="48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7 - Oct.30,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727C-B779-4F40-BC1A-95E6A1AA10C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Visibility in the UML</a:t>
            </a:r>
            <a:endParaRPr b="1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y outside classifier with visibility to the given classifier can use the feature; specified by pre-pending the symbol “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y descendant of the classifier can use the feature; specified by pre-pending the symbol “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ly the classifier itself can use the feature; specified by pre-pending the symbol “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7 - Oct.30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65B7-3A5A-43B1-A6C9-383277E97C8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Questions &amp; Answ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.  Which would you use if you wanted a relatively permanent connection?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.  attribute, or globa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. Which would you use if you didn't want a permanent connection?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ameter, or loca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. How would you create a local visibility?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.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e a new instance - use result of a method cal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w would you achieve a global visibility?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a global variable in C++, static (or class) variable (in C++ or Java) - use the Singleton pattern (a static method that returns the object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7 - Oct.30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5E31-F34C-4149-A914-3A5C281DF1D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g. 16.3</a:t>
            </a: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 Attribute text vs. Association line vs. Hybrid notations for a UML attribute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320" y="838080"/>
            <a:ext cx="9067680" cy="6007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257800" y="3124080"/>
            <a:ext cx="1295280" cy="3812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navig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72200" y="350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7 - Oct.30,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D0B3-4971-41BE-867F-2F20F832971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g. 16.</a:t>
            </a: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4 Idioms in association notation usage in different perspectives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686800" cy="5029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62720" y="4267080"/>
            <a:ext cx="1371600" cy="8384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Role name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multiplic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at target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24480" y="518148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7 - Oct.30,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87A9-26C9-4E3B-96C5-A1D741245A0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g. 16.</a:t>
            </a: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5 Applying the guidelines to show attributes in two notations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3460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38080" y="4737240"/>
            <a:ext cx="693432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tr-TR" sz="1600" spc="-1" strike="noStrike">
                <a:solidFill>
                  <a:srgbClr val="000000"/>
                </a:solidFill>
                <a:latin typeface="Courier New"/>
              </a:rPr>
              <a:t>ublic class Regist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int i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ale currentSa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tore location;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42000" y="4724280"/>
            <a:ext cx="39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Guideline: Use attribute text notation for primitive data type objects for which unique identity is not important, e.g., Date, Boolean, Character, String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7 - Oct.30,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FFDD-078E-4669-9013-CD778746811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ow to </a:t>
            </a: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ke a DC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dentify all th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lass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articipating in the SW solution by analyzing the interaction diagram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raw them in a class diagram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uplicate th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ttributes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om the associated concepts in the conceptual model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etho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mes by analyzing the interaction diagram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yp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formation to the attributes and methods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 th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ssociations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cessary to support the required attribute visibility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avigabilit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rrows to the associations to indicate the direction of attribute visibility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ependency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lationship lines to indicate non-attribute visibility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7 - Oct.30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7278-87E4-4B40-B8F0-E73A29C19EB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thod Names: Issu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following special issues must be considered with respect to method names: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pretation of the create() messag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piction of accessing method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pretation of messages to multi-object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nguage-dependent syntax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7 - Oct.30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9D7B-7E82-4E56-969A-8EBCEB975D4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03:51:44Z</dcterms:created>
  <dc:creator>KIVANCD</dc:creator>
  <dc:description>RLSD 61030 KD</dc:description>
  <dc:language>en-US</dc:language>
  <cp:lastModifiedBy>KIVANCD</cp:lastModifiedBy>
  <dcterms:modified xsi:type="dcterms:W3CDTF">2006-10-30T21:48:00Z</dcterms:modified>
  <cp:revision>56</cp:revision>
  <dc:subject/>
  <dc:title>CS-319 Object Oriented Analysis and Design - Lecture 7</dc:title>
</cp:coreProperties>
</file>