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9AD-C249-4F12-A133-A2CE0E84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103-88A5-4B03-8658-461E8724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69E-37F6-4C9F-9572-B65C2066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BB2-9683-4431-8438-BACD3941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5BD-9E2D-4427-8020-934F7EE1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B1C-061D-4F33-A1F0-D3118D0D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8E1-E9E2-401F-9540-9A15EE7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F81-1993-4F6E-9242-0A4E9C47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021-8425-4D7C-9F62-DC4C712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569-6B51-4F47-9472-FE721492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8DA-A47C-4B19-A089-32825488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358-36B6-434B-9918-E731A6B3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9814-C167-42C6-B789-54E5001630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1 User Centred Desig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UCD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ftware development should focus on the needs of user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chp7_1_a%20(2)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870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732-F3EA-45A7-8CD4-01262996FC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d U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2938680" cy="3353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958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019920" y="3352680"/>
            <a:ext cx="285264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5B8-CC8A-469D-82B4-EC368BEE49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etter U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7212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72120" y="3535200"/>
            <a:ext cx="2911680" cy="3322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819520" y="76320"/>
            <a:ext cx="2938320" cy="3352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819520" y="3522600"/>
            <a:ext cx="2917800" cy="33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854-5FCA-4578-B3C4-ADF955EEC74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6 Evaluating User Interfa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bility can only be assured by careful evaluatio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uristic evaluatio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Pick some use cases to evalu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For each window, page or dialog that appears during the execution of the use c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y it in detail to look for possible usability defec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When you discover a usability defect write down the following inform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hort description of the defec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r ideas for how the defect might be fix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CE1-2773-4D40-92DE-476F600CF6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aluating User Interfa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aluation by observation of user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users corresponding to each of the most important ac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the most important use ca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rite sufficient instructions about each of the scenari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range evaluation sessions with us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lain the purpose of the evalu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ferably videotape each sess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verse with the users as they are performing the tas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he users finish all the tasks, de-brief th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ke note of any difficulties experienced by the us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ulate recommended chan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E95-5155-41FD-A166-F0A6333208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Difficulties and Risks in Use Cas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odelling and UI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s differ wid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ount for differences among users when you design the system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 perform usability studies, try the system with many different types of us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terface design and implementation can often take the majority of work in an applic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UI design an integral part of the software engineering proce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ocate time for many iterations of prototyping and evaluation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ers often underestimate the weaknesses of a G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all software engineers have training in UI develop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ways test with us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y the UIs of other softwar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720-D214-40CA-9BCD-DCD7F1F63B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4 Basics of User Interface Desig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oday’s world, the user interface is often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st complex pa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system to desig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can take over half of all development effort and is the part that is most likely to cause users to perceive a lack of quality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922-171B-4394-B8CE-11EF0D5939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main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fi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problem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rst attemp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ine the tasks that the UI must help the user per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terface prototyping (iterati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Address the use c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ıscuss 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h and evaluate by users and ui design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ine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cases and user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ults of prototyping will enable you to finalize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quirem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49C-090A-4233-A1DD-1479DFCA66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bility vs. Ut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verall usefulness of a software system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be considered on two quality dimensions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the system provide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w capabiliti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llow the user to achieve their goal?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s 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t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 the system allow the user to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arn and to u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raw capabilitie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sil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sabili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utility and usability are essenti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must be measured in the context of particular types of users (e.g., particular actor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5F1-30CA-4B12-B196-19B19ACFCE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pects of usa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chp7_4_b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510680" cy="50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518-0CDB-4D68-8A5D-5E9472A8B0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erent learning cur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common to describe learnibility in terms of learning curv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52320" y="1781280"/>
          <a:ext cx="8491680" cy="44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781280"/>
                    <a:ext cx="849168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415-3379-4137-A54A-5E402C824F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basic terminology of user interface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log (Box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 specific window with which a user can interact, but which is not the main UI window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dget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fic components of a user interface. e.g., menus, lists, input fields, and scroll ba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fordanc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The set of operations that the user can do at any given point in ti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t any stage in the dialog, the system is displaying certain information in certain widgets, and has a certain affordan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 situation in which the UI restricts what the user can 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al dialog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 dialog in which the system is in a very restrictive mo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edback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Th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se from the syste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never the user does something, is called feedback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coding techniq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Ways of encoding information so as to communicate it to the use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093-562D-4A1F-9203-734283F7EB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48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encoding techniq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 and fo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c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tograph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rams and abstract graphic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ing and borde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ken word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i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sound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mations and vide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sh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4AA-7F87-4296-BC6E-1189F1B70C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p7_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AED-C682-45D8-98A0-11611FF0F04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KIVANCD</dc:creator>
  <dc:description>RLSD 51127</dc:description>
  <dc:language>en-US</dc:language>
  <cp:lastModifiedBy>KIVANCD</cp:lastModifiedBy>
  <dcterms:modified xsi:type="dcterms:W3CDTF">2006-11-28T05:32:54Z</dcterms:modified>
  <cp:revision>96</cp:revision>
  <dc:subject/>
  <dc:title>CS319 - UI Principles</dc:title>
</cp:coreProperties>
</file>