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450D1-9675-442C-B5F0-70427CA52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2575-5D61-4F6D-8A5D-9EDADD141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8DA9-E199-4DFC-AD2D-E6C46C779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F67A-3EA0-449B-8B4C-08A28CE16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53D34-D411-45E2-B895-ED69B761D5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69CC1-D66D-4D19-9143-61DD2AFED1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66768-5F4D-4DA7-992A-956AC899AA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6170A-77CB-4AD1-99C6-6E4346BD0B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F683B-B008-4CBA-83BF-E7C8C37FF3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932D2-787E-40DD-A928-1DAD6B5D1A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26112-E808-4B85-AEAE-C79932F4DB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CE1C2-38BC-4911-A200-4BF4A70DF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6DDDC-B661-42BA-B530-6281DB075A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2748E-C61B-47D1-99A2-1106590346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3643C-12E8-4BA1-8FDE-09E3DF2EBE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71D56-C07E-4E72-AF35-56391BAD8B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65AA0-284D-42F2-81B8-DCC6D0222B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9105-3BB3-47F8-85CE-6A598A98A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1D38-2082-4F82-B874-C9708824B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F7FD-8FB0-4CB9-860B-E256C7601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E223-510A-4C34-8689-BCF7E6E79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5793-FFF0-4471-82F6-28D6BD9A3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E2F6E-0189-4B9D-962D-72E021B52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93A0-D44B-40EC-BC06-38F856107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9123-2272-4B0B-835C-8DDA52992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7E3F-2432-4148-8CB4-0C3E5D676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 – Introduction to Computers and C++ Programm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295280"/>
            <a:ext cx="81536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hat Is a Computer?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mputer Organiz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volution of Operating System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ersonal Computing, Distributed Computing and Client/Server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mput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achine Languages, Assembly Languages and High-level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History of C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C Standard Library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Key Software Trend: Object Technology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++ and C++ How to Program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and Java How to Program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ther High-level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uctured Programm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Basics of a typical C Program Development Environmen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ECEF-9FE7-4101-B5B0-EA53FA2E19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7 History of 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olved by Ritchie from two previous programming languages, BCPL and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develop UN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write modern operating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rdware independent (portab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 late 1970's C had evolved to "Traditional C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slight variations of C existed, and were incompat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ittee formed to create a "unambiguous, machine-independent"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 created in 1989, updated in 1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22B5-39CB-4230-8FE8-073C53C4A3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8 The C Standard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programs consist of pieces/modules calle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programmer can create his own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tage: the programmer knows exactly how it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advantage: time consu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s will often use the C library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se as building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oid re-inventing the whe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premade function exists, generally best to use it rather than write your 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 functions carefully written, efficient, and por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B1A0-EC56-4018-BDB2-B45B71FFDE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9 The Key Software Trend: Object Technolog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able software components that model items in the real wor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aningful software un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objects, time objects, paycheck objects, invoice objects, audio objects, video objects, file objects, record objec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noun can be represented as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y reus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understandable, better organized, and easier to maintain than procedural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vor modula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FB81D-933D-436A-8F86-8B0DDB8D36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++ and C++ How to Progra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erset of C developed by Bjarne Stroustrup at Bell La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"Spruces up" C, and provides object-oriented cap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-oriented design very powerf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to 100 fold increase in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minant language in industry and academ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cause C++ includes C, some feel it is best to master C, then learn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ing in Chapter 15, we begin our introduction to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170B2-8DD9-497C-B842-2490B83771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1 Java and Java How to Progra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is use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Web pages with dynamic and interactive cont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 large-scale enterprise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hance the functionality of Web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applications for consumer devices (such as cell phones, pagers and personal digital assist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How to Prog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sely followed the development of Java by Su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aches first-year programming students the essentials of graphics, images, animation, audio, video, database, networking, multithreading and collaborative compu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9F7A-2B2B-4D5E-BCE2-CA2A790CB9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2 Other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high-level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TR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scientific and engineering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B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manipulate large amounts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cal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nded for academic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61B41-F739-468F-B39C-3DF50910A1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3 Structured Programm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iplined approach to writing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ear, easy to test and debug and easy to mod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tas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ing that many activities run in parall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F02F-F13E-4608-9624-6AE01821A6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4 Basics of a Typical C Program Development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1143000"/>
            <a:ext cx="4724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s of C++ Progr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1066680"/>
            <a:ext cx="1905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is created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ditor and sto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dis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-1201680"/>
            <a:ext cx="5486400" cy="8439120"/>
            <a:chOff x="0" y="-1201680"/>
            <a:chExt cx="5486400" cy="8439120"/>
          </a:xfrm>
        </p:grpSpPr>
        <p:sp>
          <p:nvSpPr>
            <p:cNvPr id="128" name=""/>
            <p:cNvSpPr/>
            <p:nvPr/>
          </p:nvSpPr>
          <p:spPr>
            <a:xfrm>
              <a:off x="0" y="311400"/>
              <a:ext cx="5486400" cy="69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-1201680"/>
              <a:ext cx="548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0" y="7237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19720" y="1285920"/>
            <a:ext cx="4800600" cy="5572080"/>
            <a:chOff x="4419720" y="1285920"/>
            <a:chExt cx="4800600" cy="5572080"/>
          </a:xfrm>
        </p:grpSpPr>
        <p:sp>
          <p:nvSpPr>
            <p:cNvPr id="132" name=""/>
            <p:cNvSpPr/>
            <p:nvPr/>
          </p:nvSpPr>
          <p:spPr>
            <a:xfrm>
              <a:off x="7238880" y="1828800"/>
              <a:ext cx="1981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rocessor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es the c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15200" y="4267080"/>
              <a:ext cx="1828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er puts program in mem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15200" y="5334120"/>
              <a:ext cx="182880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PUtakes ea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ruction and executes it, possibly storing new data values as the program execu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38880" y="2438280"/>
              <a:ext cx="1905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iler creates object code and store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 on dis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38880" y="3276720"/>
              <a:ext cx="1905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nker links the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de with the libra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19720" y="3855960"/>
              <a:ext cx="1199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2529000"/>
              <a:ext cx="1199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3855960"/>
              <a:ext cx="1199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46600" y="4000680"/>
              <a:ext cx="7398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Lo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22840" y="152388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22840" y="214776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22840" y="408456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86400" y="3657600"/>
              <a:ext cx="1498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mary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22840" y="568476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6908760" y="3733200"/>
              <a:ext cx="342360" cy="1524600"/>
              <a:chOff x="6908760" y="3733200"/>
              <a:chExt cx="342360" cy="1524600"/>
            </a:xfrm>
          </p:grpSpPr>
          <p:sp>
            <p:nvSpPr>
              <p:cNvPr id="147" name=""/>
              <p:cNvSpPr/>
              <p:nvPr/>
            </p:nvSpPr>
            <p:spPr>
              <a:xfrm>
                <a:off x="6908760" y="373392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6908760" y="449460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7079760" y="449568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7079760" y="373284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908760" y="5333400"/>
              <a:ext cx="342360" cy="1524600"/>
              <a:chOff x="6908760" y="5333400"/>
              <a:chExt cx="342360" cy="1524600"/>
            </a:xfrm>
          </p:grpSpPr>
          <p:sp>
            <p:nvSpPr>
              <p:cNvPr id="152" name=""/>
              <p:cNvSpPr/>
              <p:nvPr/>
            </p:nvSpPr>
            <p:spPr>
              <a:xfrm>
                <a:off x="6908760" y="533412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6908760" y="609480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7079760" y="609588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7079760" y="533304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6908760" y="1294200"/>
              <a:ext cx="342360" cy="458640"/>
              <a:chOff x="6908760" y="1294200"/>
              <a:chExt cx="342360" cy="458640"/>
            </a:xfrm>
          </p:grpSpPr>
          <p:sp>
            <p:nvSpPr>
              <p:cNvPr id="157" name=""/>
              <p:cNvSpPr/>
              <p:nvPr/>
            </p:nvSpPr>
            <p:spPr>
              <a:xfrm>
                <a:off x="6908760" y="129528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6908760" y="152208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7079760" y="152352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7079760" y="12938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6909120" y="190980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909120" y="213732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7080120" y="213840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7080120" y="190872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19720" y="2529000"/>
              <a:ext cx="1199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84600" y="2671920"/>
              <a:ext cx="9781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Compi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22840" y="275760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6908760" y="2516760"/>
              <a:ext cx="342360" cy="458640"/>
              <a:chOff x="6908760" y="2516760"/>
              <a:chExt cx="342360" cy="458640"/>
            </a:xfrm>
          </p:grpSpPr>
          <p:sp>
            <p:nvSpPr>
              <p:cNvPr id="169" name=""/>
              <p:cNvSpPr/>
              <p:nvPr/>
            </p:nvSpPr>
            <p:spPr>
              <a:xfrm>
                <a:off x="6908760" y="25178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6908760" y="27446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7079760" y="274608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7079760" y="251640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5622840" y="336564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09120" y="312588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909120" y="335340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7080120" y="335448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080120" y="312480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419720" y="1285920"/>
              <a:ext cx="1199880" cy="457200"/>
              <a:chOff x="4419720" y="1285920"/>
              <a:chExt cx="1199880" cy="457200"/>
            </a:xfrm>
          </p:grpSpPr>
          <p:sp>
            <p:nvSpPr>
              <p:cNvPr id="179" name=""/>
              <p:cNvSpPr/>
              <p:nvPr/>
            </p:nvSpPr>
            <p:spPr>
              <a:xfrm>
                <a:off x="4419720" y="1285920"/>
                <a:ext cx="11998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419720" y="1285920"/>
                <a:ext cx="11998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7320" y="1429920"/>
                <a:ext cx="543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Edi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419720" y="1919160"/>
              <a:ext cx="1199880" cy="457200"/>
              <a:chOff x="4419720" y="1919160"/>
              <a:chExt cx="1199880" cy="457200"/>
            </a:xfrm>
          </p:grpSpPr>
          <p:sp>
            <p:nvSpPr>
              <p:cNvPr id="183" name=""/>
              <p:cNvSpPr/>
              <p:nvPr/>
            </p:nvSpPr>
            <p:spPr>
              <a:xfrm>
                <a:off x="4419720" y="1919160"/>
                <a:ext cx="11998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4419720" y="1919160"/>
                <a:ext cx="1199880" cy="457200"/>
                <a:chOff x="4419720" y="1919160"/>
                <a:chExt cx="1199880" cy="4572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419720" y="1919160"/>
                  <a:ext cx="119988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490280" y="2053080"/>
                  <a:ext cx="105804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Preprocess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7" name=""/>
            <p:cNvGrpSpPr/>
            <p:nvPr/>
          </p:nvGrpSpPr>
          <p:grpSpPr>
            <a:xfrm>
              <a:off x="4419720" y="3137040"/>
              <a:ext cx="1199880" cy="457200"/>
              <a:chOff x="4419720" y="3137040"/>
              <a:chExt cx="1199880" cy="457200"/>
            </a:xfrm>
          </p:grpSpPr>
          <p:sp>
            <p:nvSpPr>
              <p:cNvPr id="188" name=""/>
              <p:cNvSpPr/>
              <p:nvPr/>
            </p:nvSpPr>
            <p:spPr>
              <a:xfrm>
                <a:off x="4419720" y="3137040"/>
                <a:ext cx="11998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4419720" y="3137040"/>
                <a:ext cx="1199880" cy="457200"/>
                <a:chOff x="4419720" y="3137040"/>
                <a:chExt cx="1199880" cy="4572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419720" y="3137040"/>
                  <a:ext cx="119988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747320" y="3271680"/>
                  <a:ext cx="5436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Link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4419720" y="5456160"/>
              <a:ext cx="1199880" cy="457200"/>
              <a:chOff x="4419720" y="5456160"/>
              <a:chExt cx="1199880" cy="4572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4419720" y="5456160"/>
                <a:ext cx="1199880" cy="457200"/>
                <a:chOff x="4419720" y="5456160"/>
                <a:chExt cx="1199880" cy="4572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419720" y="5456160"/>
                  <a:ext cx="119988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004720" y="5735520"/>
                  <a:ext cx="2916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4419720" y="5456160"/>
                <a:ext cx="1199880" cy="457200"/>
                <a:chOff x="4419720" y="5456160"/>
                <a:chExt cx="1199880" cy="4572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419720" y="5456160"/>
                  <a:ext cx="119988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876200" y="5608440"/>
                  <a:ext cx="2862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"/>
            <p:cNvSpPr/>
            <p:nvPr/>
          </p:nvSpPr>
          <p:spPr>
            <a:xfrm>
              <a:off x="5181480" y="5257800"/>
              <a:ext cx="2057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mary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6137280" y="5595840"/>
              <a:ext cx="773280" cy="1212840"/>
              <a:chOff x="6137280" y="5595840"/>
              <a:chExt cx="773280" cy="1212840"/>
            </a:xfrm>
          </p:grpSpPr>
          <p:sp>
            <p:nvSpPr>
              <p:cNvPr id="201" name=""/>
              <p:cNvSpPr/>
              <p:nvPr/>
            </p:nvSpPr>
            <p:spPr>
              <a:xfrm>
                <a:off x="6459480" y="6359400"/>
                <a:ext cx="86400" cy="3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137280" y="5595840"/>
                <a:ext cx="767160" cy="1212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138360" y="559692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138360" y="5749560"/>
                <a:ext cx="772200" cy="152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138360" y="589932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138360" y="605124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138360" y="620244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138360" y="6354360"/>
                <a:ext cx="772200" cy="303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58"/>
                    </a:lnTo>
                    <a:lnTo>
                      <a:pt x="0" y="19958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138360" y="665748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481080" y="6354360"/>
                <a:ext cx="8640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6137280" y="4008600"/>
              <a:ext cx="773280" cy="1214280"/>
              <a:chOff x="6137280" y="4008600"/>
              <a:chExt cx="773280" cy="1214280"/>
            </a:xfrm>
          </p:grpSpPr>
          <p:sp>
            <p:nvSpPr>
              <p:cNvPr id="212" name=""/>
              <p:cNvSpPr/>
              <p:nvPr/>
            </p:nvSpPr>
            <p:spPr>
              <a:xfrm>
                <a:off x="6137280" y="4008600"/>
                <a:ext cx="767160" cy="121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138360" y="400968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138360" y="4161960"/>
                <a:ext cx="772200" cy="152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138360" y="4314600"/>
                <a:ext cx="772200" cy="908280"/>
                <a:chOff x="6138360" y="4314600"/>
                <a:chExt cx="772200" cy="9082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459480" y="4773960"/>
                  <a:ext cx="8640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8360" y="4314600"/>
                  <a:ext cx="77220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138360" y="4465800"/>
                  <a:ext cx="772200" cy="150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138360" y="4617000"/>
                  <a:ext cx="77220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138360" y="4768920"/>
                  <a:ext cx="772200" cy="302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58"/>
                      </a:lnTo>
                      <a:lnTo>
                        <a:pt x="0" y="19958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138360" y="5072040"/>
                  <a:ext cx="772200" cy="150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480720" y="4768920"/>
                  <a:ext cx="8640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6137280" y="2608200"/>
              <a:ext cx="797040" cy="309600"/>
              <a:chOff x="6137280" y="2608200"/>
              <a:chExt cx="797040" cy="3096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6137280" y="2609280"/>
                <a:ext cx="797040" cy="308520"/>
                <a:chOff x="6137280" y="2609280"/>
                <a:chExt cx="797040" cy="3085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6137280" y="2840760"/>
                  <a:ext cx="79704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138000" y="2648520"/>
                  <a:ext cx="79632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137280" y="2609280"/>
                  <a:ext cx="79704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6137280" y="2840400"/>
                <a:ext cx="79704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138000" y="2647440"/>
                <a:ext cx="79632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145200" y="2839680"/>
                <a:ext cx="78156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43560" y="2709360"/>
                <a:ext cx="3841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143040" y="2640960"/>
                <a:ext cx="7876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137280" y="2608200"/>
                <a:ext cx="79704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6137280" y="3211560"/>
              <a:ext cx="797040" cy="309600"/>
              <a:chOff x="6137280" y="3211560"/>
              <a:chExt cx="797040" cy="30960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6137280" y="3212640"/>
                <a:ext cx="797040" cy="308520"/>
                <a:chOff x="6137280" y="3212640"/>
                <a:chExt cx="797040" cy="3085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137280" y="3444120"/>
                  <a:ext cx="79704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138000" y="3251880"/>
                  <a:ext cx="79632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137280" y="3212640"/>
                  <a:ext cx="79704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6137280" y="3443760"/>
                <a:ext cx="79704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138000" y="3250800"/>
                <a:ext cx="79632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145200" y="3443040"/>
                <a:ext cx="78156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343560" y="3312720"/>
                <a:ext cx="3841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143040" y="3244320"/>
                <a:ext cx="7876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137280" y="3211560"/>
                <a:ext cx="79704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637160" y="4586400"/>
              <a:ext cx="849240" cy="309600"/>
              <a:chOff x="4637160" y="4586400"/>
              <a:chExt cx="849240" cy="30960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4637880" y="4586760"/>
                <a:ext cx="848520" cy="309240"/>
                <a:chOff x="4637880" y="4586760"/>
                <a:chExt cx="848520" cy="3092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637880" y="4818960"/>
                  <a:ext cx="8485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638600" y="4626000"/>
                  <a:ext cx="847800" cy="229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637880" y="4586760"/>
                  <a:ext cx="8485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4637160" y="4817880"/>
                <a:ext cx="8485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37880" y="4625640"/>
                <a:ext cx="8478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645440" y="4817880"/>
                <a:ext cx="8323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6760" y="4686840"/>
                <a:ext cx="40896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44000" y="4618800"/>
                <a:ext cx="83844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37160" y="4586400"/>
                <a:ext cx="8485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022720" y="4313160"/>
              <a:ext cx="360" cy="304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25360" y="556272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CP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6172200" y="1981080"/>
              <a:ext cx="797040" cy="309600"/>
              <a:chOff x="6172200" y="1981080"/>
              <a:chExt cx="797040" cy="30960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6172200" y="1982160"/>
                <a:ext cx="797040" cy="308520"/>
                <a:chOff x="6172200" y="1982160"/>
                <a:chExt cx="797040" cy="3085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6172200" y="2213640"/>
                  <a:ext cx="79704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172920" y="2021400"/>
                  <a:ext cx="79632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172200" y="1982160"/>
                  <a:ext cx="79704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6172200" y="2213280"/>
                <a:ext cx="79704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172920" y="2020320"/>
                <a:ext cx="79632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180120" y="2212560"/>
                <a:ext cx="78156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378480" y="2082240"/>
                <a:ext cx="3841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177960" y="2013840"/>
                <a:ext cx="7876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72200" y="1981080"/>
                <a:ext cx="79704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6172200" y="1371600"/>
              <a:ext cx="797040" cy="309600"/>
              <a:chOff x="6172200" y="1371600"/>
              <a:chExt cx="797040" cy="30960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6172200" y="1372680"/>
                <a:ext cx="797040" cy="308520"/>
                <a:chOff x="6172200" y="1372680"/>
                <a:chExt cx="797040" cy="3085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172200" y="1604160"/>
                  <a:ext cx="79704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172920" y="1411920"/>
                  <a:ext cx="79632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172200" y="1372680"/>
                  <a:ext cx="79704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6172200" y="1603800"/>
                <a:ext cx="79704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72920" y="1410840"/>
                <a:ext cx="79632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180120" y="1603080"/>
                <a:ext cx="78156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78480" y="1472760"/>
                <a:ext cx="3841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177960" y="1404360"/>
                <a:ext cx="7876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72200" y="1371600"/>
                <a:ext cx="79704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44B0-77BE-441B-8860-CB9197E3A8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5 Hardware Tren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year or two the following approximately dou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mount of memory in which to execute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mount of secondary storage (such as disk stora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hold programs and data over the longer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or sp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peeds at which computers execute their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953B-15B7-4EB3-AEE2-39EF0E68D1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6 History of the Intern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net en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ick and easy communication via e-ma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national networking of compu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transfer of digital data via small pac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multiple users to send and receive data simultaneous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entralize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one part of the Internet fails, other parts can still ope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tion carrying capacity of communications 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758E3-D1F9-4C43-912A-3000F008A6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 – Introduction to Computers and C++ Programm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8001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20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ardware Trend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istory of the Interne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istory of the World Wide Web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General Notes About C and this 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1043E-46C6-4989-8799-5870E4BBC4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7 History of the World Wide Web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Wide We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e and view multimedia-based documents on almost any su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information instantly and conveniently accessible worldw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sible for individuals and small businesses to get worldwide expos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ing the way business is d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E639-FA4C-4A29-B641-4A8A2A0A3E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8 General Notes About C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nd This Book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c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that are convoluted are difficult to read, understand, and mod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is a portable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can run on many different compu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ever, portability is an elusive 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o a careful walkthrough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details and subtleties are not cove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you need additional technical detai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the C standard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the book by Kernigan and Ritch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D9E2-5351-4F80-AD86-EF3DB5DE82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 programming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d programming and proper programming techn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book also co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3 introduce the C++ programming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s 2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0 introduce the Java programming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urse is appropriat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chnically oriented people with little or no programming experie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erienced programmers who want a deep and rigorous treatment of the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46F02-EEFF-4515-A1FA-3A87392A2F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    What is a Computer?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ice capable of performing computations and making logical deci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ers process data under the control of sets of instructions called computer program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ous devices comprising a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board, screen, mouse, disks, memory, CD-ROM, and processing un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that run on a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B7DC-8390-4BEC-A660-28D4488055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3 Computer Organ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logical units in every compu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-414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tains information from input devices (keyboard, mo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-414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uni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information (to screen, to printer, to control other de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-414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un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id access, low capacity, stores inpu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-414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ithmetic and logic unit (ALU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arithmetic calculations and logic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-414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ntral processing unit (CPU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vises and coordinates the other sections of the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-414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ary storage uni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ap, long-term, high-capacity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s inactiv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6025-4BEF-4749-B2FA-1EDAF01D8A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4 Evolution of Operating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tch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only one job or task at a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age transitions between jo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ased through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 of work computers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er resources are shared by many jobs or tas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er runs a small portion of one user’s job then moves on to service the next u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FA08-C664-47B8-86E3-E6529AA48A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5 Personal Computing, Distributed Computing, and Client/Server Comput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compu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conomical enough for individ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comput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ing distributed over net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/server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ring of information across computer networks between file servers and clients (personal computer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83BF-8DB1-4E44-B5A1-1028CBAEB7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programming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chine langua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s of numbers giving machine specific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3000427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4005934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2002740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embly langu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-like abbreviations representing elementary computer operations (translated via assembl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AD   BASE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OVER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  GROSS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67843-B3DD-45BC-897C-D57AC4EC9F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-level langu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s similar to everyday Engl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mathematical notations (translated via compil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ossPay = basePay + overTime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CC87-ACEC-4509-BF1F-F823CB52E5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jason</cp:lastModifiedBy>
  <dcterms:modified xsi:type="dcterms:W3CDTF">2000-12-11T14:17:08Z</dcterms:modified>
  <cp:revision>447</cp:revision>
  <dc:subject/>
  <dc:title>Chapter 1 – Introduction to Computers and C++ Programming</dc:title>
</cp:coreProperties>
</file>