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499E-AF0E-4A89-979D-E56885C83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E7A0-BF98-4CFB-BB17-B524A4045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9902-6A48-40B1-8C83-D847BB3CF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4E966-D728-4A00-92B9-723A2A758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9C0CF-F1A9-4915-9060-6AD8A50BFA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090A1-5636-45D8-A964-2DD4E9866B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72AA6-CF80-4BD1-825E-76B69C9091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A92FA-A8AB-4BF6-B975-F2B0EFCB57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CF80F-B751-4580-AA36-3E0C2853BB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7532B-1F44-4305-B775-937F881533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5659E-A982-48BB-9751-90752C1D5F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3EB9-6753-4FD1-9048-B1C436DB3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90A8-F30A-4E93-A87E-72F1BACC21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AD433-3A81-465F-B60A-EF3507C0B1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95351-56EC-436F-8937-3C43B940E3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D3817-3EE3-40B9-8128-4CA70E8C7D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4E94D-ED8D-4FC4-B1D0-95F158B5A5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9A2B-A0BE-4441-8F19-5117F732F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EEC5-7C79-4A82-AFFA-49985E043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CB23-ED00-4F0B-8B07-54B8B4710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8BEB4-900B-4406-8F93-A78D08560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B584-C671-4534-8798-78074A115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EA15-8207-4444-AEE7-724CB1F86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59362-7FCB-43F7-AA2C-66357720C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5F42-DDC3-4239-AF86-78E041F47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9548-8EB2-4541-AAC7-173553694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 - Introduction to C Programm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308240"/>
            <a:ext cx="78487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 Simple C Program: Printing a Line of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nother Simple C Program: Adding Two Inte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emory 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rithmetic i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cision Making: Equality and Relational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AEFF-7A31-4B83-82FB-6074EBD976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nother Simple C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ssignment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s a value to 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a binary operator (has two operan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variable1 + variable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gets variable1 + variable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receiving value on le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f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"Sum is %d\n"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can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ans decimal integer will be pri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ecifies what integer will be pri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culations can be performed insi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Sum is %d\n", integer1 + integer2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CD85-83C6-402E-A6B7-BFBFB767EB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4 Memory Concep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ames correspond to locations in the computer's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variable has a name, a type, a size and a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ever a new value is placed into a variable (throug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for example), it replaces (and destroys) the previous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ing variables from memory does not change th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isual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-838440" y="4889520"/>
            <a:ext cx="9360000" cy="1588320"/>
            <a:chOff x="-838440" y="4889520"/>
            <a:chExt cx="9360000" cy="1588320"/>
          </a:xfrm>
        </p:grpSpPr>
        <p:sp>
          <p:nvSpPr>
            <p:cNvPr id="202" name=""/>
            <p:cNvSpPr/>
            <p:nvPr/>
          </p:nvSpPr>
          <p:spPr>
            <a:xfrm>
              <a:off x="-838440" y="603576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600" y="4889520"/>
              <a:ext cx="8508960" cy="11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240" y="490068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10000"/>
                  </a:solidFill>
                  <a:latin typeface="Courier New"/>
                  <a:ea typeface="Times New Roman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03840" y="4986360"/>
              <a:ext cx="1701720" cy="927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50960" y="5273640"/>
              <a:ext cx="10749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53120" y="5268960"/>
              <a:ext cx="1341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ger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71920" y="526896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05480" y="5273640"/>
              <a:ext cx="306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05480" y="5268960"/>
              <a:ext cx="335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4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9280" y="526896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514F-0839-4620-BC72-1A059342F1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5     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hmetic cal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multiplication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div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 division truncates rema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ulus operat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returns the remaind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arithmetic operators act before others (i.e., multiplication before addi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arenthesis when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Find the average of three variabl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use: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+ b + c / 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a + b + c ) /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FABE2-242E-4E3A-9849-4D98C25A41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5     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hmetic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of operator preced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47640" y="1295280"/>
          <a:ext cx="7493040" cy="29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295280"/>
                    <a:ext cx="7493040" cy="29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-76320" y="3962520"/>
          <a:ext cx="9258480" cy="3276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320" y="3962520"/>
                    <a:ext cx="925848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AD26D-E6E9-4B2D-A3C8-8D0ED645A2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able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actions (calculations, input/output of dat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deci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want to pr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pass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fail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iven the value of a test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o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ple version in this section, more detail la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condition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n the body of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 execu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on-zero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 always resumes after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 words reserved for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used as identifiers or variabl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8110-54F8-4ADE-AB81-BA067D329A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98400" y="1523880"/>
          <a:ext cx="7772400" cy="429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523880"/>
                    <a:ext cx="777240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6BFD4-3ABF-4D1F-8A95-838DA32C52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689120" y="1981080"/>
          <a:ext cx="5778360" cy="41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1981080"/>
                    <a:ext cx="577836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FA75-5E8F-4E72-8A5A-77902D1A83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statemen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0"/>
            <a:ext cx="6780960" cy="6553080"/>
            <a:chOff x="0" y="0"/>
            <a:chExt cx="6780960" cy="6553080"/>
          </a:xfrm>
        </p:grpSpPr>
        <p:grpSp>
          <p:nvGrpSpPr>
            <p:cNvPr id="231" name=""/>
            <p:cNvGrpSpPr/>
            <p:nvPr/>
          </p:nvGrpSpPr>
          <p:grpSpPr>
            <a:xfrm>
              <a:off x="0" y="0"/>
              <a:ext cx="6780960" cy="234000"/>
              <a:chOff x="0" y="0"/>
              <a:chExt cx="6780960" cy="23400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2.13: fig02_13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234000"/>
              <a:ext cx="6780960" cy="234000"/>
              <a:chOff x="0" y="234000"/>
              <a:chExt cx="6780960" cy="23400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234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234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Using if statements, relation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468000"/>
              <a:ext cx="6780960" cy="234000"/>
              <a:chOff x="0" y="468000"/>
              <a:chExt cx="6780960" cy="23400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468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468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operators, and equality operator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702000"/>
              <a:ext cx="6780960" cy="234000"/>
              <a:chOff x="0" y="702000"/>
              <a:chExt cx="6780960" cy="23400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702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702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936000"/>
              <a:ext cx="6780960" cy="234000"/>
              <a:chOff x="0" y="936000"/>
              <a:chExt cx="6780960" cy="23400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936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936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1170000"/>
              <a:ext cx="6780960" cy="234000"/>
              <a:chOff x="0" y="1170000"/>
              <a:chExt cx="6780960" cy="23400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1170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1170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1404000"/>
              <a:ext cx="6780960" cy="234000"/>
              <a:chOff x="0" y="1404000"/>
              <a:chExt cx="6780960" cy="23400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1404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1404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1638360"/>
              <a:ext cx="6780960" cy="234000"/>
              <a:chOff x="0" y="1638360"/>
              <a:chExt cx="6780960" cy="23400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1638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638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um1, num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1872360"/>
              <a:ext cx="6780960" cy="234000"/>
              <a:chOff x="0" y="1872360"/>
              <a:chExt cx="6780960" cy="23400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1872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1872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2106360"/>
              <a:ext cx="6780960" cy="234000"/>
              <a:chOff x="0" y="2106360"/>
              <a:chExt cx="6780960" cy="23400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2106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2106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nter two integers, and I will tell you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0" y="2340360"/>
              <a:ext cx="6780960" cy="234000"/>
              <a:chOff x="0" y="2340360"/>
              <a:chExt cx="6780960" cy="23400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2340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2340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the relationships they satisfy: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0" y="2574360"/>
              <a:ext cx="6780960" cy="234000"/>
              <a:chOff x="0" y="2574360"/>
              <a:chExt cx="6780960" cy="23400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2574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2574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d%d", &amp;num1, &amp;num2 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read two integer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0" y="2808360"/>
              <a:ext cx="6780960" cy="234000"/>
              <a:chOff x="0" y="2808360"/>
              <a:chExt cx="6780960" cy="23400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2808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2808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0" y="3042360"/>
              <a:ext cx="6780960" cy="234000"/>
              <a:chOff x="0" y="3042360"/>
              <a:chExt cx="6780960" cy="234000"/>
            </a:xfrm>
          </p:grpSpPr>
          <p:sp>
            <p:nvSpPr>
              <p:cNvPr id="271" name=""/>
              <p:cNvSpPr/>
              <p:nvPr/>
            </p:nvSpPr>
            <p:spPr>
              <a:xfrm>
                <a:off x="0" y="3042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3042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== num2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0" y="3276360"/>
              <a:ext cx="6780960" cy="234000"/>
              <a:chOff x="0" y="3276360"/>
              <a:chExt cx="6780960" cy="234000"/>
            </a:xfrm>
          </p:grpSpPr>
          <p:sp>
            <p:nvSpPr>
              <p:cNvPr id="274" name=""/>
              <p:cNvSpPr/>
              <p:nvPr/>
            </p:nvSpPr>
            <p:spPr>
              <a:xfrm>
                <a:off x="0" y="3276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3276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d is equal to %d\n", num1, num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0" y="3510720"/>
              <a:ext cx="6780960" cy="234000"/>
              <a:chOff x="0" y="3510720"/>
              <a:chExt cx="6780960" cy="23400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3510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3510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0" y="3744720"/>
              <a:ext cx="6780960" cy="234000"/>
              <a:chOff x="0" y="3744720"/>
              <a:chExt cx="6780960" cy="23400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3744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3744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!= num2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0" y="3978720"/>
              <a:ext cx="6780960" cy="234000"/>
              <a:chOff x="0" y="3978720"/>
              <a:chExt cx="6780960" cy="23400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3978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3978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d is not equal to %d\n", num1, num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0" y="4212720"/>
              <a:ext cx="6780960" cy="234000"/>
              <a:chOff x="0" y="4212720"/>
              <a:chExt cx="6780960" cy="23400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4212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4212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0" y="4446720"/>
              <a:ext cx="6780960" cy="234000"/>
              <a:chOff x="0" y="4446720"/>
              <a:chExt cx="6780960" cy="23400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4446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4446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&lt; num2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0" y="4680720"/>
              <a:ext cx="6780960" cy="234000"/>
              <a:chOff x="0" y="4680720"/>
              <a:chExt cx="6780960" cy="234000"/>
            </a:xfrm>
          </p:grpSpPr>
          <p:sp>
            <p:nvSpPr>
              <p:cNvPr id="292" name=""/>
              <p:cNvSpPr/>
              <p:nvPr/>
            </p:nvSpPr>
            <p:spPr>
              <a:xfrm>
                <a:off x="0" y="4680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4680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d is less than %d\n", num1, num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0" y="4914720"/>
              <a:ext cx="6780960" cy="234000"/>
              <a:chOff x="0" y="4914720"/>
              <a:chExt cx="6780960" cy="23400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4914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4914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5148720"/>
              <a:ext cx="6780960" cy="234000"/>
              <a:chOff x="0" y="5148720"/>
              <a:chExt cx="6780960" cy="23400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5148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5148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&gt; num2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5382720"/>
              <a:ext cx="6780960" cy="234000"/>
              <a:chOff x="0" y="5382720"/>
              <a:chExt cx="6780960" cy="23400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5382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5382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d is greater than %d\n", num1, num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0" y="5617080"/>
              <a:ext cx="6780960" cy="234000"/>
              <a:chOff x="0" y="5617080"/>
              <a:chExt cx="6780960" cy="23400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5617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5617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0" y="5851080"/>
              <a:ext cx="6780960" cy="234000"/>
              <a:chOff x="0" y="5851080"/>
              <a:chExt cx="6780960" cy="234000"/>
            </a:xfrm>
          </p:grpSpPr>
          <p:sp>
            <p:nvSpPr>
              <p:cNvPr id="307" name=""/>
              <p:cNvSpPr/>
              <p:nvPr/>
            </p:nvSpPr>
            <p:spPr>
              <a:xfrm>
                <a:off x="0" y="5851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5851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&lt;= num2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0" y="6085080"/>
              <a:ext cx="6780960" cy="234000"/>
              <a:chOff x="0" y="6085080"/>
              <a:chExt cx="6780960" cy="234000"/>
            </a:xfrm>
          </p:grpSpPr>
          <p:sp>
            <p:nvSpPr>
              <p:cNvPr id="310" name=""/>
              <p:cNvSpPr/>
              <p:nvPr/>
            </p:nvSpPr>
            <p:spPr>
              <a:xfrm>
                <a:off x="0" y="6085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6085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d is less than or equal to %d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0" y="6319080"/>
              <a:ext cx="6780960" cy="234000"/>
              <a:chOff x="0" y="6319080"/>
              <a:chExt cx="6780960" cy="234000"/>
            </a:xfrm>
          </p:grpSpPr>
          <p:sp>
            <p:nvSpPr>
              <p:cNvPr id="313" name=""/>
              <p:cNvSpPr/>
              <p:nvPr/>
            </p:nvSpPr>
            <p:spPr>
              <a:xfrm>
                <a:off x="0" y="6319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6319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num1, num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2C8F5-1688-429F-9BBA-B268966CAC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Exi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0" y="0"/>
            <a:ext cx="6780960" cy="2133720"/>
            <a:chOff x="0" y="0"/>
            <a:chExt cx="6780960" cy="2133720"/>
          </a:xfrm>
        </p:grpSpPr>
        <p:grpSp>
          <p:nvGrpSpPr>
            <p:cNvPr id="317" name=""/>
            <p:cNvGrpSpPr/>
            <p:nvPr/>
          </p:nvGrpSpPr>
          <p:grpSpPr>
            <a:xfrm>
              <a:off x="0" y="0"/>
              <a:ext cx="6780960" cy="304560"/>
              <a:chOff x="0" y="0"/>
              <a:chExt cx="6780960" cy="304560"/>
            </a:xfrm>
          </p:grpSpPr>
          <p:sp>
            <p:nvSpPr>
              <p:cNvPr id="318" name=""/>
              <p:cNvSpPr/>
              <p:nvPr/>
            </p:nvSpPr>
            <p:spPr>
              <a:xfrm>
                <a:off x="0" y="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0" y="304560"/>
              <a:ext cx="6780960" cy="304560"/>
              <a:chOff x="0" y="304560"/>
              <a:chExt cx="6780960" cy="30456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30456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30456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&gt;= num2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0" y="609480"/>
              <a:ext cx="6780960" cy="304920"/>
              <a:chOff x="0" y="609480"/>
              <a:chExt cx="6780960" cy="30492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60948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60948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d is greater than or equal to %d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0" y="914400"/>
              <a:ext cx="6780960" cy="304560"/>
              <a:chOff x="0" y="914400"/>
              <a:chExt cx="6780960" cy="304560"/>
            </a:xfrm>
          </p:grpSpPr>
          <p:sp>
            <p:nvSpPr>
              <p:cNvPr id="327" name=""/>
              <p:cNvSpPr/>
              <p:nvPr/>
            </p:nvSpPr>
            <p:spPr>
              <a:xfrm>
                <a:off x="0" y="9144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9144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num1, num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0" y="1219320"/>
              <a:ext cx="6780960" cy="304560"/>
              <a:chOff x="0" y="1219320"/>
              <a:chExt cx="6780960" cy="304560"/>
            </a:xfrm>
          </p:grpSpPr>
          <p:sp>
            <p:nvSpPr>
              <p:cNvPr id="330" name=""/>
              <p:cNvSpPr/>
              <p:nvPr/>
            </p:nvSpPr>
            <p:spPr>
              <a:xfrm>
                <a:off x="0" y="121932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121932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0" y="1523880"/>
              <a:ext cx="6780960" cy="304560"/>
              <a:chOff x="0" y="1523880"/>
              <a:chExt cx="6780960" cy="304560"/>
            </a:xfrm>
          </p:grpSpPr>
          <p:sp>
            <p:nvSpPr>
              <p:cNvPr id="333" name=""/>
              <p:cNvSpPr/>
              <p:nvPr/>
            </p:nvSpPr>
            <p:spPr>
              <a:xfrm>
                <a:off x="0" y="15238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15238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indicate program ended successfully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0" y="1828800"/>
              <a:ext cx="6780960" cy="304920"/>
              <a:chOff x="0" y="1828800"/>
              <a:chExt cx="6780960" cy="30492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182880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182880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" name=""/>
          <p:cNvSpPr/>
          <p:nvPr/>
        </p:nvSpPr>
        <p:spPr>
          <a:xfrm>
            <a:off x="0" y="2500200"/>
            <a:ext cx="67816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wo integers, and I will tell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lationships they satisfy: 3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not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less than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less than or equal to 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886200"/>
            <a:ext cx="67816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wo integers, and I will tell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lationships they satisfy: 22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2 is not equal to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2 is greater than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2 is greater than or equal to 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D6063-7B05-405B-9D59-34080EBE5D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programming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d and disciplined approach to program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roduced in chapters 3 and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hroughout the remainder of the bo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139B-389B-4F13-9EB3-7B4D63659A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 Simple C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xt surrounded b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ignored by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describ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processor direc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ls computer to load contents of a certain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dio.h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llows standard input/output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4920" y="1146240"/>
            <a:ext cx="4876560" cy="2054160"/>
            <a:chOff x="304920" y="1146240"/>
            <a:chExt cx="4876560" cy="2054160"/>
          </a:xfrm>
        </p:grpSpPr>
        <p:grpSp>
          <p:nvGrpSpPr>
            <p:cNvPr id="101" name=""/>
            <p:cNvGrpSpPr/>
            <p:nvPr/>
          </p:nvGrpSpPr>
          <p:grpSpPr>
            <a:xfrm>
              <a:off x="304920" y="1146240"/>
              <a:ext cx="4876560" cy="205200"/>
              <a:chOff x="304920" y="1146240"/>
              <a:chExt cx="4876560" cy="205200"/>
            </a:xfrm>
          </p:grpSpPr>
          <p:sp>
            <p:nvSpPr>
              <p:cNvPr id="102" name=""/>
              <p:cNvSpPr/>
              <p:nvPr/>
            </p:nvSpPr>
            <p:spPr>
              <a:xfrm>
                <a:off x="304920" y="1146240"/>
                <a:ext cx="4876560" cy="205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4920" y="1146240"/>
                <a:ext cx="4876560" cy="205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2.1: fig02_01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04920" y="1351440"/>
              <a:ext cx="4876560" cy="205200"/>
              <a:chOff x="304920" y="1351440"/>
              <a:chExt cx="4876560" cy="205200"/>
            </a:xfrm>
          </p:grpSpPr>
          <p:sp>
            <p:nvSpPr>
              <p:cNvPr id="105" name=""/>
              <p:cNvSpPr/>
              <p:nvPr/>
            </p:nvSpPr>
            <p:spPr>
              <a:xfrm>
                <a:off x="304920" y="1351440"/>
                <a:ext cx="4876560" cy="205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4920" y="1351440"/>
                <a:ext cx="4876560" cy="205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A first program in C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304920" y="1557000"/>
              <a:ext cx="4876560" cy="205200"/>
              <a:chOff x="304920" y="1557000"/>
              <a:chExt cx="4876560" cy="205200"/>
            </a:xfrm>
          </p:grpSpPr>
          <p:sp>
            <p:nvSpPr>
              <p:cNvPr id="108" name=""/>
              <p:cNvSpPr/>
              <p:nvPr/>
            </p:nvSpPr>
            <p:spPr>
              <a:xfrm>
                <a:off x="304920" y="1557000"/>
                <a:ext cx="4876560" cy="205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04920" y="1557000"/>
                <a:ext cx="4876560" cy="205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304920" y="1762560"/>
              <a:ext cx="4876560" cy="205200"/>
              <a:chOff x="304920" y="1762560"/>
              <a:chExt cx="4876560" cy="205200"/>
            </a:xfrm>
          </p:grpSpPr>
          <p:sp>
            <p:nvSpPr>
              <p:cNvPr id="111" name=""/>
              <p:cNvSpPr/>
              <p:nvPr/>
            </p:nvSpPr>
            <p:spPr>
              <a:xfrm>
                <a:off x="304920" y="1762560"/>
                <a:ext cx="4876560" cy="205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4920" y="1762560"/>
                <a:ext cx="4876560" cy="205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04920" y="1967760"/>
              <a:ext cx="4876560" cy="205200"/>
              <a:chOff x="304920" y="1967760"/>
              <a:chExt cx="4876560" cy="205200"/>
            </a:xfrm>
          </p:grpSpPr>
          <p:sp>
            <p:nvSpPr>
              <p:cNvPr id="114" name=""/>
              <p:cNvSpPr/>
              <p:nvPr/>
            </p:nvSpPr>
            <p:spPr>
              <a:xfrm>
                <a:off x="304920" y="1967760"/>
                <a:ext cx="4876560" cy="205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4920" y="1967760"/>
                <a:ext cx="4876560" cy="205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304920" y="2173320"/>
              <a:ext cx="4876560" cy="205200"/>
              <a:chOff x="304920" y="2173320"/>
              <a:chExt cx="4876560" cy="205200"/>
            </a:xfrm>
          </p:grpSpPr>
          <p:sp>
            <p:nvSpPr>
              <p:cNvPr id="117" name=""/>
              <p:cNvSpPr/>
              <p:nvPr/>
            </p:nvSpPr>
            <p:spPr>
              <a:xfrm>
                <a:off x="304920" y="2173320"/>
                <a:ext cx="4876560" cy="205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4920" y="2173320"/>
                <a:ext cx="4876560" cy="205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304920" y="2378520"/>
              <a:ext cx="4876560" cy="205200"/>
              <a:chOff x="304920" y="2378520"/>
              <a:chExt cx="4876560" cy="205200"/>
            </a:xfrm>
          </p:grpSpPr>
          <p:sp>
            <p:nvSpPr>
              <p:cNvPr id="120" name=""/>
              <p:cNvSpPr/>
              <p:nvPr/>
            </p:nvSpPr>
            <p:spPr>
              <a:xfrm>
                <a:off x="304920" y="2378520"/>
                <a:ext cx="4876560" cy="205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04920" y="2378520"/>
                <a:ext cx="4876560" cy="205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Welcome to C!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04920" y="2584080"/>
              <a:ext cx="4876560" cy="205200"/>
              <a:chOff x="304920" y="2584080"/>
              <a:chExt cx="4876560" cy="205200"/>
            </a:xfrm>
          </p:grpSpPr>
          <p:sp>
            <p:nvSpPr>
              <p:cNvPr id="123" name=""/>
              <p:cNvSpPr/>
              <p:nvPr/>
            </p:nvSpPr>
            <p:spPr>
              <a:xfrm>
                <a:off x="304920" y="2584080"/>
                <a:ext cx="4876560" cy="205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04920" y="2584080"/>
                <a:ext cx="4876560" cy="205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304920" y="2789640"/>
              <a:ext cx="4876560" cy="205200"/>
              <a:chOff x="304920" y="2789640"/>
              <a:chExt cx="4876560" cy="205200"/>
            </a:xfrm>
          </p:grpSpPr>
          <p:sp>
            <p:nvSpPr>
              <p:cNvPr id="126" name=""/>
              <p:cNvSpPr/>
              <p:nvPr/>
            </p:nvSpPr>
            <p:spPr>
              <a:xfrm>
                <a:off x="304920" y="2789640"/>
                <a:ext cx="4876560" cy="205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04920" y="2789640"/>
                <a:ext cx="4876560" cy="205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04920" y="2995200"/>
              <a:ext cx="4876560" cy="205200"/>
              <a:chOff x="304920" y="2995200"/>
              <a:chExt cx="4876560" cy="205200"/>
            </a:xfrm>
          </p:grpSpPr>
          <p:sp>
            <p:nvSpPr>
              <p:cNvPr id="129" name=""/>
              <p:cNvSpPr/>
              <p:nvPr/>
            </p:nvSpPr>
            <p:spPr>
              <a:xfrm>
                <a:off x="304920" y="2995200"/>
                <a:ext cx="4876560" cy="205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4920" y="2995200"/>
                <a:ext cx="4876560" cy="205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304920" y="3276720"/>
            <a:ext cx="487656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 to C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1447920"/>
            <a:ext cx="3504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988B-EDE8-4D00-A77C-91550CC5B9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 Simple C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programs contain one or more functions, exactly one of which must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enthesis used to indicate a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ans th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"returns" an integer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ace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indicate a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dies of all functions must be contained in br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553C-790C-4BBF-8A48-21FEAB7AA2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 Simple C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f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"Welcome to C!\n"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ructs computer to perform an 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, prints the string of characters within quote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tire line called a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statements must end with a semicolon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cape characte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that printf should do something out of the ord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newline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3FCA-A777-4C44-BAB3-B78ADF3866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 Simple C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way to exit a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in this case, means that the program terminated norm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brac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en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been reac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a function is called, linker locates it in the lib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s it into object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function name is misspelled, the linker will produce an error because it will not be able to find function in the lib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5F7E-A00A-4EEC-9A5F-79C4F2F60E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Sum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0"/>
            <a:ext cx="6780960" cy="4723920"/>
            <a:chOff x="0" y="0"/>
            <a:chExt cx="6780960" cy="4723920"/>
          </a:xfrm>
        </p:grpSpPr>
        <p:grpSp>
          <p:nvGrpSpPr>
            <p:cNvPr id="141" name=""/>
            <p:cNvGrpSpPr/>
            <p:nvPr/>
          </p:nvGrpSpPr>
          <p:grpSpPr>
            <a:xfrm>
              <a:off x="0" y="0"/>
              <a:ext cx="6780960" cy="277560"/>
              <a:chOff x="0" y="0"/>
              <a:chExt cx="6780960" cy="277560"/>
            </a:xfrm>
          </p:grpSpPr>
          <p:sp>
            <p:nvSpPr>
              <p:cNvPr id="142" name=""/>
              <p:cNvSpPr/>
              <p:nvPr/>
            </p:nvSpPr>
            <p:spPr>
              <a:xfrm>
                <a:off x="0" y="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2.5: fig02_05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0" y="277560"/>
              <a:ext cx="6780960" cy="277560"/>
              <a:chOff x="0" y="277560"/>
              <a:chExt cx="6780960" cy="277560"/>
            </a:xfrm>
          </p:grpSpPr>
          <p:sp>
            <p:nvSpPr>
              <p:cNvPr id="145" name=""/>
              <p:cNvSpPr/>
              <p:nvPr/>
            </p:nvSpPr>
            <p:spPr>
              <a:xfrm>
                <a:off x="0" y="27756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27756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Addition program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0" y="555480"/>
              <a:ext cx="6780960" cy="277920"/>
              <a:chOff x="0" y="555480"/>
              <a:chExt cx="6780960" cy="277920"/>
            </a:xfrm>
          </p:grpSpPr>
          <p:sp>
            <p:nvSpPr>
              <p:cNvPr id="148" name=""/>
              <p:cNvSpPr/>
              <p:nvPr/>
            </p:nvSpPr>
            <p:spPr>
              <a:xfrm>
                <a:off x="0" y="555480"/>
                <a:ext cx="6780960" cy="277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555480"/>
                <a:ext cx="6780960" cy="277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0" y="833760"/>
              <a:ext cx="6780960" cy="277560"/>
              <a:chOff x="0" y="833760"/>
              <a:chExt cx="6780960" cy="277560"/>
            </a:xfrm>
          </p:grpSpPr>
          <p:sp>
            <p:nvSpPr>
              <p:cNvPr id="151" name=""/>
              <p:cNvSpPr/>
              <p:nvPr/>
            </p:nvSpPr>
            <p:spPr>
              <a:xfrm>
                <a:off x="0" y="83376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83376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0" y="1111320"/>
              <a:ext cx="6780960" cy="277560"/>
              <a:chOff x="0" y="1111320"/>
              <a:chExt cx="6780960" cy="277560"/>
            </a:xfrm>
          </p:grpSpPr>
          <p:sp>
            <p:nvSpPr>
              <p:cNvPr id="154" name=""/>
              <p:cNvSpPr/>
              <p:nvPr/>
            </p:nvSpPr>
            <p:spPr>
              <a:xfrm>
                <a:off x="0" y="111132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111132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0" y="1389240"/>
              <a:ext cx="6780960" cy="277560"/>
              <a:chOff x="0" y="1389240"/>
              <a:chExt cx="6780960" cy="277560"/>
            </a:xfrm>
          </p:grpSpPr>
          <p:sp>
            <p:nvSpPr>
              <p:cNvPr id="157" name=""/>
              <p:cNvSpPr/>
              <p:nvPr/>
            </p:nvSpPr>
            <p:spPr>
              <a:xfrm>
                <a:off x="0" y="138924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138924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0" y="1667160"/>
              <a:ext cx="6780960" cy="277920"/>
              <a:chOff x="0" y="1667160"/>
              <a:chExt cx="6780960" cy="27792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1667160"/>
                <a:ext cx="6780960" cy="277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1667160"/>
                <a:ext cx="6780960" cy="277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teger1, integer2, sum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declaration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0" y="1945080"/>
              <a:ext cx="6780960" cy="277560"/>
              <a:chOff x="0" y="1945080"/>
              <a:chExt cx="6780960" cy="277560"/>
            </a:xfrm>
          </p:grpSpPr>
          <p:sp>
            <p:nvSpPr>
              <p:cNvPr id="163" name=""/>
              <p:cNvSpPr/>
              <p:nvPr/>
            </p:nvSpPr>
            <p:spPr>
              <a:xfrm>
                <a:off x="0" y="194508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94508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0" y="2223000"/>
              <a:ext cx="6780960" cy="277560"/>
              <a:chOff x="0" y="2223000"/>
              <a:chExt cx="6780960" cy="277560"/>
            </a:xfrm>
          </p:grpSpPr>
          <p:sp>
            <p:nvSpPr>
              <p:cNvPr id="166" name=""/>
              <p:cNvSpPr/>
              <p:nvPr/>
            </p:nvSpPr>
            <p:spPr>
              <a:xfrm>
                <a:off x="0" y="222300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222300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nter first integer\n"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prompt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0" y="2500920"/>
              <a:ext cx="6780960" cy="277560"/>
              <a:chOff x="0" y="2500920"/>
              <a:chExt cx="6780960" cy="277560"/>
            </a:xfrm>
          </p:grpSpPr>
          <p:sp>
            <p:nvSpPr>
              <p:cNvPr id="169" name=""/>
              <p:cNvSpPr/>
              <p:nvPr/>
            </p:nvSpPr>
            <p:spPr>
              <a:xfrm>
                <a:off x="0" y="250092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250092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d", &amp;integer1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read an integer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0" y="2778840"/>
              <a:ext cx="6780960" cy="277920"/>
              <a:chOff x="0" y="2778840"/>
              <a:chExt cx="6780960" cy="277920"/>
            </a:xfrm>
          </p:grpSpPr>
          <p:sp>
            <p:nvSpPr>
              <p:cNvPr id="172" name=""/>
              <p:cNvSpPr/>
              <p:nvPr/>
            </p:nvSpPr>
            <p:spPr>
              <a:xfrm>
                <a:off x="0" y="2778840"/>
                <a:ext cx="6780960" cy="277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2778840"/>
                <a:ext cx="6780960" cy="277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nter second integer\n"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prompt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0" y="3056760"/>
              <a:ext cx="6780960" cy="277560"/>
              <a:chOff x="0" y="3056760"/>
              <a:chExt cx="6780960" cy="277560"/>
            </a:xfrm>
          </p:grpSpPr>
          <p:sp>
            <p:nvSpPr>
              <p:cNvPr id="175" name=""/>
              <p:cNvSpPr/>
              <p:nvPr/>
            </p:nvSpPr>
            <p:spPr>
              <a:xfrm>
                <a:off x="0" y="305676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305676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d", &amp;integer2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read an integer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0" y="3334680"/>
              <a:ext cx="6780960" cy="277560"/>
              <a:chOff x="0" y="3334680"/>
              <a:chExt cx="6780960" cy="27756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333468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333468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um = integer1 + integer2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assignment of sum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0" y="3612600"/>
              <a:ext cx="6780960" cy="277560"/>
              <a:chOff x="0" y="3612600"/>
              <a:chExt cx="6780960" cy="277560"/>
            </a:xfrm>
          </p:grpSpPr>
          <p:sp>
            <p:nvSpPr>
              <p:cNvPr id="181" name=""/>
              <p:cNvSpPr/>
              <p:nvPr/>
            </p:nvSpPr>
            <p:spPr>
              <a:xfrm>
                <a:off x="0" y="361260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361260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Sum is %d\n", sum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print sum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0" y="3890520"/>
              <a:ext cx="6780960" cy="277920"/>
              <a:chOff x="0" y="3890520"/>
              <a:chExt cx="6780960" cy="27792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3890520"/>
                <a:ext cx="6780960" cy="277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3890520"/>
                <a:ext cx="6780960" cy="277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0" y="4168440"/>
              <a:ext cx="6780960" cy="277560"/>
              <a:chOff x="0" y="4168440"/>
              <a:chExt cx="6780960" cy="277560"/>
            </a:xfrm>
          </p:grpSpPr>
          <p:sp>
            <p:nvSpPr>
              <p:cNvPr id="187" name=""/>
              <p:cNvSpPr/>
              <p:nvPr/>
            </p:nvSpPr>
            <p:spPr>
              <a:xfrm>
                <a:off x="0" y="416844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844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indicate that program ended successfully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0" y="4446360"/>
              <a:ext cx="6780960" cy="277560"/>
              <a:chOff x="0" y="4446360"/>
              <a:chExt cx="6780960" cy="277560"/>
            </a:xfrm>
          </p:grpSpPr>
          <p:sp>
            <p:nvSpPr>
              <p:cNvPr id="190" name=""/>
              <p:cNvSpPr/>
              <p:nvPr/>
            </p:nvSpPr>
            <p:spPr>
              <a:xfrm>
                <a:off x="0" y="444636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444636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" name=""/>
          <p:cNvSpPr/>
          <p:nvPr/>
        </p:nvSpPr>
        <p:spPr>
          <a:xfrm>
            <a:off x="0" y="5105520"/>
            <a:ext cx="67816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first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econd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 is 1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F6D6C-9516-484D-B5FE-CCC4F3F8FF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nother Simple C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ents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eger1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eger2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ation of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: locations in memory where a value can be 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ans the variables can hold integer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ames (identifier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ger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ge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rs: consist of letters, digits (cannot begin with a digit) and underscores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sen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ations appear before executable stat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n executable statement references and undeclared variable it will produce a syntax (compiler)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D8B6-2BCA-4439-B111-C6701F9F23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nother Simple C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canf( "%d", &amp;integer1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tains a value from the u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es standard input (usually keyboa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 has tw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indicates data should be a decimal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integer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location in memory to store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confusing in beginning – for now, just remember to include it with the variable name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executing the program the user responds to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 by typing in a number, then pressing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turn)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0A853-652A-44AD-BBCB-E47F7CFF5A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6T15:05:59Z</dcterms:created>
  <dc:creator>kalid</dc:creator>
  <dc:description/>
  <dc:language>en-US</dc:language>
  <cp:lastModifiedBy>jason</cp:lastModifiedBy>
  <dcterms:modified xsi:type="dcterms:W3CDTF">2000-12-11T16:16:42Z</dcterms:modified>
  <cp:revision>155</cp:revision>
  <dc:subject/>
  <dc:title>PowerPoint Presentation</dc:title>
</cp:coreProperties>
</file>