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7008813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1A2143-216B-4212-A11C-992AB62FA7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92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8126DF-D614-4DA7-8AEB-EFBA63B9B8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F0099D-8129-48C4-A6D1-DE0C54C5AB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EF2CFB-9691-4AB5-AA74-96E3B076FC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C14AE8-E796-4CE7-AE57-26ECE532E76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234FAC-FF5D-4757-9697-ED778A422E6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944C1B-7337-49B5-854B-0F3A7447863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104D6C-E51A-4053-8794-ACB6AF85930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66BC0D-2E67-4874-A4CD-6063977A8BC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D20040-8D22-4B81-B3FD-F21696FE1D6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50416A-F750-453C-B79F-230FE8DD290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ADE6D1-7FAC-4F9A-BE4A-0FC1B179CF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6848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3E5F49-349D-4A83-A73E-D676A5D60EA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BFF202-11A6-41B4-AB4E-3809BCEDE0D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685800" y="3892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053B67-61EA-4D05-A6ED-B5B07734CB7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6848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AB3BCA-883F-4323-BD95-AD63D2656C3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31380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594144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68580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31380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594144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AC1DEC-AC5E-4290-996E-268236BB5DD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5AFD8A-C2E5-4D0C-BB06-A35BCCDB02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7BEE77-FFDC-41DD-B771-0056485E33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2A311B-328D-4033-AFAF-160F1929C1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04F2CA-C44F-4356-9EC2-3FE205AE82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026902-00DF-4B30-989C-75F942F4AD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D055C5-BB18-4F53-A29C-62672967C7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2E0371-A824-4D78-8227-6B5A5C1482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lick to edit the title text forma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FEB3D-0FEC-4C96-8A79-09E9E66779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6553080"/>
            <a:ext cx="358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0 Prentice Hall, Inc. 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3886200" y="655308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>
            <a:hlinkClick r:id="" action="ppaction://hlinkshowjump?jump=previousslide"/>
          </p:cNvPr>
          <p:cNvSpPr/>
          <p:nvPr/>
        </p:nvSpPr>
        <p:spPr>
          <a:xfrm rot="10800000">
            <a:off x="3505320" y="655272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3794"/>
                </a:moveTo>
                <a:lnTo>
                  <a:pt x="21390" y="10800"/>
                </a:lnTo>
                <a:lnTo>
                  <a:pt x="7377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>
            <a:hlinkClick r:id="" action="ppaction://hlinkshowjump?jump=nextslide"/>
          </p:cNvPr>
          <p:cNvSpPr/>
          <p:nvPr/>
        </p:nvSpPr>
        <p:spPr>
          <a:xfrm>
            <a:off x="3886200" y="655308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>
            <a:hlinkClick r:id="" action="ppaction://hlinkshowjump?jump=previousslide"/>
          </p:cNvPr>
          <p:cNvSpPr/>
          <p:nvPr/>
        </p:nvSpPr>
        <p:spPr>
          <a:xfrm rot="10800000">
            <a:off x="3505320" y="655272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3794"/>
                </a:moveTo>
                <a:lnTo>
                  <a:pt x="21390" y="10800"/>
                </a:lnTo>
                <a:lnTo>
                  <a:pt x="7377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6553080"/>
            <a:ext cx="358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0 Prentice Hall, Inc. 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781680" y="15228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vantGarde"/>
                <a:ea typeface="Times New Roman"/>
              </a:rPr>
              <a:t>Out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6781320" y="76320"/>
            <a:ext cx="305280" cy="685800"/>
            <a:chOff x="6781320" y="76320"/>
            <a:chExt cx="305280" cy="685800"/>
          </a:xfrm>
        </p:grpSpPr>
        <p:sp>
          <p:nvSpPr>
            <p:cNvPr id="47" name="">
              <a:hlinkClick r:id="" action="ppaction://hlinkshowjump?jump=previousslide"/>
            </p:cNvPr>
            <p:cNvSpPr/>
            <p:nvPr/>
          </p:nvSpPr>
          <p:spPr>
            <a:xfrm rot="5400000">
              <a:off x="6781320" y="75960"/>
              <a:ext cx="304920" cy="304920"/>
            </a:xfrm>
            <a:custGeom>
              <a:avLst/>
              <a:gdLst>
                <a:gd name="textAreaLeft" fmla="*/ 19440 w 304920"/>
                <a:gd name="textAreaRight" fmla="*/ 285480 w 30492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1600" h="21600">
                  <a:moveTo>
                    <a:pt x="3794" y="10800"/>
                  </a:moveTo>
                  <a:lnTo>
                    <a:pt x="17806" y="3794"/>
                  </a:lnTo>
                  <a:lnTo>
                    <a:pt x="17806" y="17806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>
              <a:hlinkClick r:id="" action="ppaction://hlinkshowjump?jump=nextslide"/>
            </p:cNvPr>
            <p:cNvSpPr/>
            <p:nvPr/>
          </p:nvSpPr>
          <p:spPr>
            <a:xfrm rot="16200000">
              <a:off x="6781680" y="457200"/>
              <a:ext cx="304560" cy="304920"/>
            </a:xfrm>
            <a:custGeom>
              <a:avLst/>
              <a:gdLst>
                <a:gd name="textAreaLeft" fmla="*/ 19440 w 304560"/>
                <a:gd name="textAreaRight" fmla="*/ 285120 w 30456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26">
                  <a:moveTo>
                    <a:pt x="0" y="0"/>
                  </a:moveTo>
                  <a:lnTo>
                    <a:pt x="21600" y="0"/>
                  </a:lnTo>
                  <a:lnTo>
                    <a:pt x="21600" y="21626"/>
                  </a:lnTo>
                  <a:lnTo>
                    <a:pt x="0" y="21626"/>
                  </a:lnTo>
                  <a:close/>
                </a:path>
                <a:path fill="lightenLess" w="21600" h="21626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26">
                  <a:moveTo>
                    <a:pt x="21600" y="0"/>
                  </a:moveTo>
                  <a:lnTo>
                    <a:pt x="21600" y="21626"/>
                  </a:lnTo>
                  <a:lnTo>
                    <a:pt x="20200" y="20226"/>
                  </a:lnTo>
                  <a:lnTo>
                    <a:pt x="20200" y="1400"/>
                  </a:lnTo>
                  <a:close/>
                </a:path>
                <a:path fill="darkenLess" w="21600" h="21626">
                  <a:moveTo>
                    <a:pt x="21600" y="21626"/>
                  </a:moveTo>
                  <a:lnTo>
                    <a:pt x="0" y="21626"/>
                  </a:lnTo>
                  <a:lnTo>
                    <a:pt x="1400" y="20226"/>
                  </a:lnTo>
                  <a:lnTo>
                    <a:pt x="20200" y="20226"/>
                  </a:lnTo>
                  <a:close/>
                </a:path>
                <a:path fill="lighten" w="21600" h="21626">
                  <a:moveTo>
                    <a:pt x="0" y="21626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26"/>
                  </a:lnTo>
                  <a:close/>
                </a:path>
                <a:path fill="darken" w="21600" h="21626">
                  <a:moveTo>
                    <a:pt x="3794" y="10813"/>
                  </a:moveTo>
                  <a:lnTo>
                    <a:pt x="17806" y="3806"/>
                  </a:lnTo>
                  <a:lnTo>
                    <a:pt x="17806" y="17819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" name=""/>
          <p:cNvSpPr/>
          <p:nvPr/>
        </p:nvSpPr>
        <p:spPr>
          <a:xfrm>
            <a:off x="6705720" y="838080"/>
            <a:ext cx="243828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sldNum" idx="2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3073C-4849-463F-8281-EA0B5F326E2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781680" y="15228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vantGarde"/>
                <a:ea typeface="Times New Roman"/>
              </a:rPr>
              <a:t>Out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6781320" y="76320"/>
            <a:ext cx="305280" cy="685800"/>
            <a:chOff x="6781320" y="76320"/>
            <a:chExt cx="305280" cy="685800"/>
          </a:xfrm>
        </p:grpSpPr>
        <p:sp>
          <p:nvSpPr>
            <p:cNvPr id="53" name="">
              <a:hlinkClick r:id="" action="ppaction://hlinkshowjump?jump=previousslide"/>
            </p:cNvPr>
            <p:cNvSpPr/>
            <p:nvPr/>
          </p:nvSpPr>
          <p:spPr>
            <a:xfrm rot="5400000">
              <a:off x="6781320" y="75960"/>
              <a:ext cx="304920" cy="304920"/>
            </a:xfrm>
            <a:custGeom>
              <a:avLst/>
              <a:gdLst>
                <a:gd name="textAreaLeft" fmla="*/ 19440 w 304920"/>
                <a:gd name="textAreaRight" fmla="*/ 285480 w 30492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1600" h="21600">
                  <a:moveTo>
                    <a:pt x="3794" y="10800"/>
                  </a:moveTo>
                  <a:lnTo>
                    <a:pt x="17806" y="3794"/>
                  </a:lnTo>
                  <a:lnTo>
                    <a:pt x="17806" y="17806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>
              <a:hlinkClick r:id="" action="ppaction://hlinkshowjump?jump=nextslide"/>
            </p:cNvPr>
            <p:cNvSpPr/>
            <p:nvPr/>
          </p:nvSpPr>
          <p:spPr>
            <a:xfrm rot="16200000">
              <a:off x="6781680" y="457200"/>
              <a:ext cx="304560" cy="304920"/>
            </a:xfrm>
            <a:custGeom>
              <a:avLst/>
              <a:gdLst>
                <a:gd name="textAreaLeft" fmla="*/ 19440 w 304560"/>
                <a:gd name="textAreaRight" fmla="*/ 285120 w 30456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26">
                  <a:moveTo>
                    <a:pt x="0" y="0"/>
                  </a:moveTo>
                  <a:lnTo>
                    <a:pt x="21600" y="0"/>
                  </a:lnTo>
                  <a:lnTo>
                    <a:pt x="21600" y="21626"/>
                  </a:lnTo>
                  <a:lnTo>
                    <a:pt x="0" y="21626"/>
                  </a:lnTo>
                  <a:close/>
                </a:path>
                <a:path fill="lightenLess" w="21600" h="21626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26">
                  <a:moveTo>
                    <a:pt x="21600" y="0"/>
                  </a:moveTo>
                  <a:lnTo>
                    <a:pt x="21600" y="21626"/>
                  </a:lnTo>
                  <a:lnTo>
                    <a:pt x="20200" y="20226"/>
                  </a:lnTo>
                  <a:lnTo>
                    <a:pt x="20200" y="1400"/>
                  </a:lnTo>
                  <a:close/>
                </a:path>
                <a:path fill="darkenLess" w="21600" h="21626">
                  <a:moveTo>
                    <a:pt x="21600" y="21626"/>
                  </a:moveTo>
                  <a:lnTo>
                    <a:pt x="0" y="21626"/>
                  </a:lnTo>
                  <a:lnTo>
                    <a:pt x="1400" y="20226"/>
                  </a:lnTo>
                  <a:lnTo>
                    <a:pt x="20200" y="20226"/>
                  </a:lnTo>
                  <a:close/>
                </a:path>
                <a:path fill="lighten" w="21600" h="21626">
                  <a:moveTo>
                    <a:pt x="0" y="21626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26"/>
                  </a:lnTo>
                  <a:close/>
                </a:path>
                <a:path fill="darken" w="21600" h="21626">
                  <a:moveTo>
                    <a:pt x="3794" y="10813"/>
                  </a:moveTo>
                  <a:lnTo>
                    <a:pt x="17806" y="3806"/>
                  </a:lnTo>
                  <a:lnTo>
                    <a:pt x="17806" y="17819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" name=""/>
          <p:cNvSpPr/>
          <p:nvPr/>
        </p:nvSpPr>
        <p:spPr>
          <a:xfrm>
            <a:off x="6629400" y="838080"/>
            <a:ext cx="243828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vantGarde"/>
              </a:rPr>
              <a:t>Click to edit the title text format</a:t>
            </a: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620120" cy="1067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apter 3 - Structured Program Development</a:t>
            </a:r>
            <a:endParaRPr b="1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5" name=""/>
          <p:cNvSpPr/>
          <p:nvPr/>
        </p:nvSpPr>
        <p:spPr>
          <a:xfrm>
            <a:off x="609480" y="1295280"/>
            <a:ext cx="7848720" cy="451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vantGarde"/>
                <a:ea typeface="Times New Roman"/>
              </a:rPr>
              <a:t>Out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3.1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Introdu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3.2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Algorithms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3.3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Pseudo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3.4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Control Struct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3.5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The If Selection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3.6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The If/Else Selection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3.7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The While Repetition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3.8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Formulating Algorithms: Case Study 1 (Counter-Controlled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Repeti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3.9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Formulating Algorithms with Top-down, Stepwise Refinement: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Case Study 2 (Sentinel-Controlled Repeti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3.10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Formulating Algorithms with Top-down, Stepwise Refinement: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Case Study 3 (Nested Control Structur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3.11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Assignment Operat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3.12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Increment and Decrement Operat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4C0004-2F3E-4383-9488-D60807346EF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3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.6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The </a:t>
            </a:r>
            <a:r>
              <a:rPr b="1" sz="2800" spc="-1" strike="noStrike">
                <a:solidFill>
                  <a:srgbClr val="ff3300"/>
                </a:solidFill>
                <a:latin typeface="Courier New"/>
              </a:rPr>
              <a:t>if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/</a:t>
            </a:r>
            <a:r>
              <a:rPr b="1" sz="2800" spc="-1" strike="noStrike">
                <a:solidFill>
                  <a:srgbClr val="ff3300"/>
                </a:solidFill>
                <a:latin typeface="Courier New"/>
              </a:rPr>
              <a:t>else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 Selection Structur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i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nly performs an action if the condition i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ru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pecifies an action to be performed both when the condition i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and when it i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fal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suedocod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If student’s grade is greater than or equal to 60</a:t>
            </a:r>
            <a:br>
              <a:rPr sz="2000"/>
            </a:b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Print “Passed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else</a:t>
            </a:r>
            <a:br>
              <a:rPr sz="2000"/>
            </a:b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Print “Failed”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ote spacing/indentation conven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1622520"/>
            <a:ext cx="5521320" cy="18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3433680"/>
            <a:ext cx="5521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3473280"/>
            <a:ext cx="914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404716-97C9-4C9C-AAF5-F9E8D1ACEEE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3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.6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The </a:t>
            </a:r>
            <a:r>
              <a:rPr b="1" sz="2800" spc="-1" strike="noStrike">
                <a:solidFill>
                  <a:srgbClr val="ff3300"/>
                </a:solidFill>
                <a:latin typeface="Courier New"/>
              </a:rPr>
              <a:t>if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/</a:t>
            </a:r>
            <a:r>
              <a:rPr b="1" sz="2800" spc="-1" strike="noStrike">
                <a:solidFill>
                  <a:srgbClr val="ff3300"/>
                </a:solidFill>
                <a:latin typeface="Courier New"/>
              </a:rPr>
              <a:t>else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 Selection Structur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 cod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 ( grade &gt;= 60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ntf( "Passed\n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ntf( "Failed\n")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rnary conditional operator (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?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akes three arguments (condition, value if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value if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fals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ur pseudocode could be writte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ntf( "%s\n", grade &gt;= 60 ? "Passed" : "Failed" )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r it could have been writte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rade &gt;= 60 ? printf( “Passed\n” ) : printf( “Failed\n”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662A4B-5217-45E7-8384-890DDE2612F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3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.6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The </a:t>
            </a:r>
            <a:r>
              <a:rPr b="1" sz="2800" spc="-1" strike="noStrike">
                <a:solidFill>
                  <a:srgbClr val="ff3300"/>
                </a:solidFill>
                <a:latin typeface="Courier New"/>
              </a:rPr>
              <a:t>if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/</a:t>
            </a:r>
            <a:r>
              <a:rPr b="1" sz="2800" spc="-1" strike="noStrike">
                <a:solidFill>
                  <a:srgbClr val="ff3300"/>
                </a:solidFill>
                <a:latin typeface="Courier New"/>
              </a:rPr>
              <a:t>else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 Selection Structur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low chart of the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election 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sted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tructur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est for multiple cases by placing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selection structures insid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selection structu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nce condition is met, rest of statements skipp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ep indentation usually not used in practi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304920" y="1676520"/>
            <a:ext cx="8457120" cy="2437560"/>
            <a:chOff x="304920" y="1676520"/>
            <a:chExt cx="8457120" cy="2437560"/>
          </a:xfrm>
        </p:grpSpPr>
        <p:sp>
          <p:nvSpPr>
            <p:cNvPr id="141" name=""/>
            <p:cNvSpPr/>
            <p:nvPr/>
          </p:nvSpPr>
          <p:spPr>
            <a:xfrm>
              <a:off x="4650120" y="3534120"/>
              <a:ext cx="3133800" cy="3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90" y="0"/>
                  </a:move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036840" y="2404800"/>
              <a:ext cx="6375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tru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309680" y="3534120"/>
              <a:ext cx="3160080" cy="3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91" y="0"/>
                  </a:move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  <a:head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302120" y="3232440"/>
              <a:ext cx="360" cy="2988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0" y="19932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475360" y="2404800"/>
              <a:ext cx="7794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fals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772760" y="2626920"/>
              <a:ext cx="360" cy="3603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19943"/>
                  </a:move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  <a:head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294200" y="2626920"/>
              <a:ext cx="360" cy="3603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19943"/>
                  </a:move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  <a:head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780320" y="3232440"/>
              <a:ext cx="360" cy="2988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0" y="19932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9" name=""/>
            <p:cNvGrpSpPr/>
            <p:nvPr/>
          </p:nvGrpSpPr>
          <p:grpSpPr>
            <a:xfrm>
              <a:off x="304920" y="2989440"/>
              <a:ext cx="1978920" cy="245520"/>
              <a:chOff x="304920" y="2989440"/>
              <a:chExt cx="1978920" cy="245520"/>
            </a:xfrm>
          </p:grpSpPr>
          <p:sp>
            <p:nvSpPr>
              <p:cNvPr id="150" name=""/>
              <p:cNvSpPr/>
              <p:nvPr/>
            </p:nvSpPr>
            <p:spPr>
              <a:xfrm>
                <a:off x="501120" y="3045600"/>
                <a:ext cx="1583280" cy="174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print “Failed”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304920" y="2989440"/>
                <a:ext cx="1978920" cy="24552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85" y="0"/>
                    </a:moveTo>
                    <a:lnTo>
                      <a:pt x="19985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85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6970320" y="3045600"/>
              <a:ext cx="1619280" cy="17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rint “Passed”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783120" y="2989440"/>
              <a:ext cx="1978920" cy="24552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85" y="0"/>
                  </a:moveTo>
                  <a:lnTo>
                    <a:pt x="19985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85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4" name=""/>
            <p:cNvGrpSpPr/>
            <p:nvPr/>
          </p:nvGrpSpPr>
          <p:grpSpPr>
            <a:xfrm>
              <a:off x="4466520" y="3477960"/>
              <a:ext cx="183600" cy="636120"/>
              <a:chOff x="4466520" y="3477960"/>
              <a:chExt cx="183600" cy="636120"/>
            </a:xfrm>
          </p:grpSpPr>
          <p:sp>
            <p:nvSpPr>
              <p:cNvPr id="155" name=""/>
              <p:cNvSpPr/>
              <p:nvPr/>
            </p:nvSpPr>
            <p:spPr>
              <a:xfrm>
                <a:off x="4559040" y="3604320"/>
                <a:ext cx="1440" cy="38592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19947"/>
                    </a:move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  <a:head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4466520" y="3990600"/>
                <a:ext cx="180720" cy="123480"/>
              </a:xfrm>
              <a:prstGeom prst="ellips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4469400" y="3477960"/>
                <a:ext cx="180720" cy="123480"/>
              </a:xfrm>
              <a:prstGeom prst="ellips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1294200" y="1676520"/>
              <a:ext cx="6478200" cy="1384920"/>
              <a:chOff x="1294200" y="1676520"/>
              <a:chExt cx="6478200" cy="1384920"/>
            </a:xfrm>
          </p:grpSpPr>
          <p:grpSp>
            <p:nvGrpSpPr>
              <p:cNvPr id="159" name=""/>
              <p:cNvGrpSpPr/>
              <p:nvPr/>
            </p:nvGrpSpPr>
            <p:grpSpPr>
              <a:xfrm>
                <a:off x="4449240" y="1676520"/>
                <a:ext cx="181080" cy="502560"/>
                <a:chOff x="4449240" y="1676520"/>
                <a:chExt cx="181080" cy="502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4538880" y="1803240"/>
                  <a:ext cx="1440" cy="3758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0" y="19946"/>
                      </a:moveTo>
                      <a:lnTo>
                        <a:pt x="0" y="0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  <a:headEnd len="sm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4449240" y="1676520"/>
                  <a:ext cx="181080" cy="123480"/>
                </a:xfrm>
                <a:prstGeom prst="ellipse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1294200" y="2179080"/>
                <a:ext cx="6478200" cy="882360"/>
                <a:chOff x="1294200" y="2179080"/>
                <a:chExt cx="6478200" cy="88236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5973120" y="2620080"/>
                  <a:ext cx="1799280" cy="72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83" y="0"/>
                      </a:moveTo>
                      <a:lnTo>
                        <a:pt x="0" y="0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1294200" y="2620080"/>
                  <a:ext cx="1799280" cy="72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83" y="0"/>
                      </a:moveTo>
                      <a:lnTo>
                        <a:pt x="0" y="0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65" name=""/>
                <p:cNvGrpSpPr/>
                <p:nvPr/>
              </p:nvGrpSpPr>
              <p:grpSpPr>
                <a:xfrm>
                  <a:off x="3087720" y="2179080"/>
                  <a:ext cx="2878920" cy="882360"/>
                  <a:chOff x="3087720" y="2179080"/>
                  <a:chExt cx="2878920" cy="882360"/>
                </a:xfrm>
              </p:grpSpPr>
              <p:sp>
                <p:nvSpPr>
                  <p:cNvPr id="166" name=""/>
                  <p:cNvSpPr/>
                  <p:nvPr/>
                </p:nvSpPr>
                <p:spPr>
                  <a:xfrm>
                    <a:off x="3087720" y="2179080"/>
                    <a:ext cx="2878920" cy="88236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990" y="10000"/>
                        </a:moveTo>
                        <a:lnTo>
                          <a:pt x="9990" y="19977"/>
                        </a:lnTo>
                        <a:lnTo>
                          <a:pt x="0" y="10000"/>
                        </a:lnTo>
                        <a:lnTo>
                          <a:pt x="9990" y="0"/>
                        </a:lnTo>
                        <a:lnTo>
                          <a:pt x="19990" y="1000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7" name=""/>
                  <p:cNvSpPr/>
                  <p:nvPr/>
                </p:nvSpPr>
                <p:spPr>
                  <a:xfrm>
                    <a:off x="3715920" y="2544480"/>
                    <a:ext cx="1621080" cy="19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Courier New"/>
                        <a:ea typeface="Times New Roman"/>
                      </a:rPr>
                      <a:t>grade &gt;= 60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93994A-2FC1-4F99-B85D-A08E51C0BE9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3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.6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The </a:t>
            </a:r>
            <a:r>
              <a:rPr b="1" sz="2800" spc="-1" strike="noStrike">
                <a:solidFill>
                  <a:srgbClr val="ff3300"/>
                </a:solidFill>
                <a:latin typeface="Courier New"/>
              </a:rPr>
              <a:t>if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/</a:t>
            </a:r>
            <a:r>
              <a:rPr b="1" sz="2800" spc="-1" strike="noStrike">
                <a:solidFill>
                  <a:srgbClr val="ff3300"/>
                </a:solidFill>
                <a:latin typeface="Courier New"/>
              </a:rPr>
              <a:t>else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 Selection Structur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seudocode for a nested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structu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3333cc"/>
                </a:solidFill>
                <a:latin typeface="Times New Roman"/>
              </a:rPr>
              <a:t>If student’s grade is greater than or equal to 90</a:t>
            </a:r>
            <a:br>
              <a:rPr sz="2200"/>
            </a:br>
            <a:r>
              <a:rPr b="0" i="1" lang="en-US" sz="2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3333cc"/>
                </a:solidFill>
                <a:latin typeface="Times New Roman"/>
              </a:rPr>
              <a:t>Print “A”</a:t>
            </a:r>
            <a:br>
              <a:rPr sz="2200"/>
            </a:br>
            <a:r>
              <a:rPr b="0" i="1" lang="en-US" sz="2200" spc="-1" strike="noStrike">
                <a:solidFill>
                  <a:srgbClr val="3333cc"/>
                </a:solidFill>
                <a:latin typeface="Times New Roman"/>
              </a:rPr>
              <a:t>else </a:t>
            </a:r>
            <a:br>
              <a:rPr sz="2200"/>
            </a:br>
            <a:r>
              <a:rPr b="0" i="1" lang="en-US" sz="2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3333cc"/>
                </a:solidFill>
                <a:latin typeface="Times New Roman"/>
              </a:rPr>
              <a:t>If student’s grade is greater than or equal to 80</a:t>
            </a:r>
            <a:br>
              <a:rPr sz="2200"/>
            </a:br>
            <a:r>
              <a:rPr b="0" i="1" lang="en-US" sz="2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3333cc"/>
                </a:solidFill>
                <a:latin typeface="Times New Roman"/>
              </a:rPr>
              <a:t>    Print “B”</a:t>
            </a:r>
            <a:br>
              <a:rPr sz="2200"/>
            </a:br>
            <a:r>
              <a:rPr b="0" i="1" lang="en-US" sz="2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3333cc"/>
                </a:solidFill>
                <a:latin typeface="Times New Roman"/>
              </a:rPr>
              <a:t>else </a:t>
            </a:r>
            <a:br>
              <a:rPr sz="2200"/>
            </a:br>
            <a:r>
              <a:rPr b="0" i="1" lang="en-US" sz="2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3333cc"/>
                </a:solidFill>
                <a:latin typeface="Times New Roman"/>
              </a:rPr>
              <a:t>    If student’s grade is greater than or equal to 70 </a:t>
            </a:r>
            <a:br>
              <a:rPr sz="2200"/>
            </a:br>
            <a:r>
              <a:rPr b="0" i="1" lang="en-US" sz="2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3333cc"/>
                </a:solidFill>
                <a:latin typeface="Times New Roman"/>
              </a:rPr>
              <a:t>        Print “C”</a:t>
            </a:r>
            <a:br>
              <a:rPr sz="2200"/>
            </a:br>
            <a:r>
              <a:rPr b="0" i="1" lang="en-US" sz="2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3333cc"/>
                </a:solidFill>
                <a:latin typeface="Times New Roman"/>
              </a:rPr>
              <a:t>    else </a:t>
            </a:r>
            <a:br>
              <a:rPr sz="2200"/>
            </a:br>
            <a:r>
              <a:rPr b="0" i="1" lang="en-US" sz="2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3333cc"/>
                </a:solidFill>
                <a:latin typeface="Times New Roman"/>
              </a:rPr>
              <a:t>        If student’s grade is greater than or equal to 60 </a:t>
            </a:r>
            <a:br>
              <a:rPr sz="2200"/>
            </a:br>
            <a:r>
              <a:rPr b="0" i="1" lang="en-US" sz="2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3333cc"/>
                </a:solidFill>
                <a:latin typeface="Times New Roman"/>
              </a:rPr>
              <a:t>            Print “D”</a:t>
            </a:r>
            <a:br>
              <a:rPr sz="2200"/>
            </a:br>
            <a:r>
              <a:rPr b="0" i="1" lang="en-US" sz="2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3333cc"/>
                </a:solidFill>
                <a:latin typeface="Times New Roman"/>
              </a:rPr>
              <a:t>        else</a:t>
            </a:r>
            <a:br>
              <a:rPr sz="2200"/>
            </a:br>
            <a:r>
              <a:rPr b="0" i="1" lang="en-US" sz="2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3333cc"/>
                </a:solidFill>
                <a:latin typeface="Times New Roman"/>
              </a:rPr>
              <a:t>            Print “F”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FAB3D4-BCAF-4ABD-817B-9490BCE55F8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3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.6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The </a:t>
            </a:r>
            <a:r>
              <a:rPr b="1" sz="2800" spc="-1" strike="noStrike">
                <a:solidFill>
                  <a:srgbClr val="ff3300"/>
                </a:solidFill>
                <a:latin typeface="Courier New"/>
              </a:rPr>
              <a:t>if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/</a:t>
            </a:r>
            <a:r>
              <a:rPr b="1" sz="2800" spc="-1" strike="noStrike">
                <a:solidFill>
                  <a:srgbClr val="ff3300"/>
                </a:solidFill>
                <a:latin typeface="Courier New"/>
              </a:rPr>
              <a:t>else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 Selection Structur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09120" y="1066320"/>
            <a:ext cx="815364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ound statement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t of statements within a pair of brac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 ( grade &gt;= 60 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ntf( "Passed.\n"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lse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ntf( "Failed.\n"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ntf( "You must take this course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again.\n" )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Without the braces, the statem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ntf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"You must take this course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again.\n"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ould be executed automatical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3E0AD9-6A8D-4847-810C-5D4B4927CBD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3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.6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The </a:t>
            </a:r>
            <a:r>
              <a:rPr b="1" sz="2800" spc="-1" strike="noStrike">
                <a:solidFill>
                  <a:srgbClr val="ff3300"/>
                </a:solidFill>
                <a:latin typeface="Courier New"/>
              </a:rPr>
              <a:t>if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/</a:t>
            </a:r>
            <a:r>
              <a:rPr b="1" sz="2800" spc="-1" strike="noStrike">
                <a:solidFill>
                  <a:srgbClr val="ff3300"/>
                </a:solidFill>
                <a:latin typeface="Courier New"/>
              </a:rPr>
              <a:t>else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 Selection Structur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lock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mpound statements with declara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ntax err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ught by compil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gic errors: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Have their effect at execution tim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on-fatal:  program runs, but has incorrect outpu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atal:  program exits prematurel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1584CE-807C-4F7A-B051-0E45AD01CCE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3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.7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The </a:t>
            </a:r>
            <a:r>
              <a:rPr b="1" sz="2800" spc="-1" strike="noStrike">
                <a:solidFill>
                  <a:srgbClr val="ff3300"/>
                </a:solidFill>
                <a:latin typeface="Courier New"/>
              </a:rPr>
              <a:t>while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 Repetition Structure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	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petition 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ogrammer specifies an action to be repeated while some condition remain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ru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suedocode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While there are more items on my shopping list</a:t>
            </a:r>
            <a:br>
              <a:rPr sz="2000"/>
            </a:b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 Purchase next item and cross it off my lis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loop repeated until condition become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fal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2184480"/>
            <a:ext cx="5486400" cy="13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3262320"/>
            <a:ext cx="5486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3567240"/>
            <a:ext cx="914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CE3D2E-58A1-4C20-86D4-26D8666BA25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3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.7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The </a:t>
            </a:r>
            <a:r>
              <a:rPr b="1" sz="2800" spc="-1" strike="noStrike">
                <a:solidFill>
                  <a:srgbClr val="ff3300"/>
                </a:solidFill>
                <a:latin typeface="Courier New"/>
              </a:rPr>
              <a:t>while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 Repetition Structur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product = 2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hile ( product &lt;= 1000 )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oduct = 2 * produc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1066680" y="3124080"/>
            <a:ext cx="6781320" cy="2513880"/>
            <a:chOff x="1066680" y="3124080"/>
            <a:chExt cx="6781320" cy="2513880"/>
          </a:xfrm>
        </p:grpSpPr>
        <p:sp>
          <p:nvSpPr>
            <p:cNvPr id="182" name=""/>
            <p:cNvSpPr/>
            <p:nvPr/>
          </p:nvSpPr>
          <p:spPr>
            <a:xfrm>
              <a:off x="1066680" y="3803400"/>
              <a:ext cx="2908080" cy="12286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90" y="9989"/>
                  </a:moveTo>
                  <a:lnTo>
                    <a:pt x="9990" y="19977"/>
                  </a:lnTo>
                  <a:lnTo>
                    <a:pt x="0" y="9989"/>
                  </a:lnTo>
                  <a:lnTo>
                    <a:pt x="9990" y="0"/>
                  </a:lnTo>
                  <a:lnTo>
                    <a:pt x="19990" y="9989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415160" y="4314240"/>
              <a:ext cx="220752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roduct &lt;= 10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516760" y="3296520"/>
              <a:ext cx="360" cy="5140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19945"/>
                  </a:move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  <a:head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16760" y="5032080"/>
              <a:ext cx="360" cy="4334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19935"/>
                  </a:move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  <a:head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425680" y="3124080"/>
              <a:ext cx="181800" cy="169200"/>
            </a:xfrm>
            <a:prstGeom prst="ellipse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425680" y="5468760"/>
              <a:ext cx="181800" cy="169200"/>
            </a:xfrm>
            <a:prstGeom prst="ellipse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974760" y="4426920"/>
              <a:ext cx="727200" cy="3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58" y="0"/>
                  </a:move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  <a:head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758480" y="4317480"/>
              <a:ext cx="3029040" cy="28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roduct = 2 * produc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701960" y="4240080"/>
              <a:ext cx="3146040" cy="3726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90" y="0"/>
                  </a:moveTo>
                  <a:lnTo>
                    <a:pt x="19990" y="19925"/>
                  </a:lnTo>
                  <a:lnTo>
                    <a:pt x="0" y="19925"/>
                  </a:lnTo>
                  <a:lnTo>
                    <a:pt x="0" y="0"/>
                  </a:lnTo>
                  <a:lnTo>
                    <a:pt x="19990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001400" y="4105800"/>
              <a:ext cx="642960" cy="33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tr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698920" y="5039280"/>
              <a:ext cx="787320" cy="33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fal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539800" y="3493440"/>
              <a:ext cx="3751920" cy="3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92" y="0"/>
                  </a:move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280200" y="3493440"/>
              <a:ext cx="360" cy="7318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0" y="19962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0" y="2184480"/>
            <a:ext cx="5486400" cy="13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0" y="3567240"/>
            <a:ext cx="914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E570FF-773A-4989-8EF9-8B957B65DEB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3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.8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Formulating Algorithms</a:t>
            </a:r>
            <a:br>
              <a:rPr sz="2800"/>
            </a:b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(Counter-Controlled Repetition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unter-controlled repeti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oop repeated until counter reaches a certain valu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finite repetition: number of repetitions is know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ample:  A class of ten students took a quiz. The grades (integers in the range 0 to 100) for this quiz are available to you. Determine the class average on the quiz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seudocode: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Set total to zero</a:t>
            </a:r>
            <a:br>
              <a:rPr sz="2000"/>
            </a:b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Set grade counter to 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While grade counter is less than or equal to ten</a:t>
            </a:r>
            <a:br>
              <a:rPr sz="2000"/>
            </a:b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Input the next grade</a:t>
            </a:r>
            <a:br>
              <a:rPr sz="2000"/>
            </a:b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Add the grade into the total</a:t>
            </a:r>
            <a:br>
              <a:rPr sz="2000"/>
            </a:b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Add one to the grade coun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Set the class average to the total divided by ten</a:t>
            </a:r>
            <a:br>
              <a:rPr sz="2000"/>
            </a:b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Print the class averag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849919-7BAB-4ED9-872F-165BA7FA87E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1.  Initialize Variable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2.  Execute Loop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3.  Output result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0" y="0"/>
            <a:ext cx="6780960" cy="6629400"/>
            <a:chOff x="0" y="0"/>
            <a:chExt cx="6780960" cy="6629400"/>
          </a:xfrm>
        </p:grpSpPr>
        <p:grpSp>
          <p:nvGrpSpPr>
            <p:cNvPr id="201" name=""/>
            <p:cNvGrpSpPr/>
            <p:nvPr/>
          </p:nvGrpSpPr>
          <p:grpSpPr>
            <a:xfrm>
              <a:off x="0" y="0"/>
              <a:ext cx="6780960" cy="244800"/>
              <a:chOff x="0" y="0"/>
              <a:chExt cx="6780960" cy="244800"/>
            </a:xfrm>
          </p:grpSpPr>
          <p:sp>
            <p:nvSpPr>
              <p:cNvPr id="202" name=""/>
              <p:cNvSpPr/>
              <p:nvPr/>
            </p:nvSpPr>
            <p:spPr>
              <a:xfrm>
                <a:off x="0" y="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0" y="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* Fig. 3.6: fig03_06.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4" name=""/>
            <p:cNvGrpSpPr/>
            <p:nvPr/>
          </p:nvGrpSpPr>
          <p:grpSpPr>
            <a:xfrm>
              <a:off x="0" y="244800"/>
              <a:ext cx="6780960" cy="263520"/>
              <a:chOff x="0" y="244800"/>
              <a:chExt cx="6780960" cy="263520"/>
            </a:xfrm>
          </p:grpSpPr>
          <p:sp>
            <p:nvSpPr>
              <p:cNvPr id="205" name=""/>
              <p:cNvSpPr/>
              <p:nvPr/>
            </p:nvSpPr>
            <p:spPr>
              <a:xfrm>
                <a:off x="0" y="24480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0" y="24480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Class average program with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0" y="508320"/>
              <a:ext cx="6780960" cy="244800"/>
              <a:chOff x="0" y="508320"/>
              <a:chExt cx="6780960" cy="244800"/>
            </a:xfrm>
          </p:grpSpPr>
          <p:sp>
            <p:nvSpPr>
              <p:cNvPr id="208" name=""/>
              <p:cNvSpPr/>
              <p:nvPr/>
            </p:nvSpPr>
            <p:spPr>
              <a:xfrm>
                <a:off x="0" y="50832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0" y="50832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counter-controlled repetition */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0" name=""/>
            <p:cNvGrpSpPr/>
            <p:nvPr/>
          </p:nvGrpSpPr>
          <p:grpSpPr>
            <a:xfrm>
              <a:off x="0" y="753480"/>
              <a:ext cx="6780960" cy="244800"/>
              <a:chOff x="0" y="753480"/>
              <a:chExt cx="6780960" cy="244800"/>
            </a:xfrm>
          </p:grpSpPr>
          <p:sp>
            <p:nvSpPr>
              <p:cNvPr id="211" name=""/>
              <p:cNvSpPr/>
              <p:nvPr/>
            </p:nvSpPr>
            <p:spPr>
              <a:xfrm>
                <a:off x="0" y="75348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0" y="75348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stdio.h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3" name=""/>
            <p:cNvGrpSpPr/>
            <p:nvPr/>
          </p:nvGrpSpPr>
          <p:grpSpPr>
            <a:xfrm>
              <a:off x="0" y="998280"/>
              <a:ext cx="6780960" cy="244800"/>
              <a:chOff x="0" y="998280"/>
              <a:chExt cx="6780960" cy="244800"/>
            </a:xfrm>
          </p:grpSpPr>
          <p:sp>
            <p:nvSpPr>
              <p:cNvPr id="214" name=""/>
              <p:cNvSpPr/>
              <p:nvPr/>
            </p:nvSpPr>
            <p:spPr>
              <a:xfrm>
                <a:off x="0" y="99828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0" y="99828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6" name=""/>
            <p:cNvGrpSpPr/>
            <p:nvPr/>
          </p:nvGrpSpPr>
          <p:grpSpPr>
            <a:xfrm>
              <a:off x="0" y="1243080"/>
              <a:ext cx="6780960" cy="244800"/>
              <a:chOff x="0" y="1243080"/>
              <a:chExt cx="6780960" cy="244800"/>
            </a:xfrm>
          </p:grpSpPr>
          <p:sp>
            <p:nvSpPr>
              <p:cNvPr id="217" name=""/>
              <p:cNvSpPr/>
              <p:nvPr/>
            </p:nvSpPr>
            <p:spPr>
              <a:xfrm>
                <a:off x="0" y="124308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0" y="124308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9" name=""/>
            <p:cNvGrpSpPr/>
            <p:nvPr/>
          </p:nvGrpSpPr>
          <p:grpSpPr>
            <a:xfrm>
              <a:off x="0" y="1487880"/>
              <a:ext cx="6780960" cy="244800"/>
              <a:chOff x="0" y="1487880"/>
              <a:chExt cx="6780960" cy="244800"/>
            </a:xfrm>
          </p:grpSpPr>
          <p:sp>
            <p:nvSpPr>
              <p:cNvPr id="220" name=""/>
              <p:cNvSpPr/>
              <p:nvPr/>
            </p:nvSpPr>
            <p:spPr>
              <a:xfrm>
                <a:off x="0" y="148788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0" y="148788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2" name=""/>
            <p:cNvGrpSpPr/>
            <p:nvPr/>
          </p:nvGrpSpPr>
          <p:grpSpPr>
            <a:xfrm>
              <a:off x="0" y="1732680"/>
              <a:ext cx="6780960" cy="244800"/>
              <a:chOff x="0" y="1732680"/>
              <a:chExt cx="6780960" cy="244800"/>
            </a:xfrm>
          </p:grpSpPr>
          <p:sp>
            <p:nvSpPr>
              <p:cNvPr id="223" name=""/>
              <p:cNvSpPr/>
              <p:nvPr/>
            </p:nvSpPr>
            <p:spPr>
              <a:xfrm>
                <a:off x="0" y="173268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0" y="173268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counter, grade, total, average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5" name=""/>
            <p:cNvGrpSpPr/>
            <p:nvPr/>
          </p:nvGrpSpPr>
          <p:grpSpPr>
            <a:xfrm>
              <a:off x="0" y="1977480"/>
              <a:ext cx="6780960" cy="244800"/>
              <a:chOff x="0" y="1977480"/>
              <a:chExt cx="6780960" cy="244800"/>
            </a:xfrm>
          </p:grpSpPr>
          <p:sp>
            <p:nvSpPr>
              <p:cNvPr id="226" name=""/>
              <p:cNvSpPr/>
              <p:nvPr/>
            </p:nvSpPr>
            <p:spPr>
              <a:xfrm>
                <a:off x="0" y="197748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0" y="197748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8" name=""/>
            <p:cNvGrpSpPr/>
            <p:nvPr/>
          </p:nvGrpSpPr>
          <p:grpSpPr>
            <a:xfrm>
              <a:off x="0" y="2222280"/>
              <a:ext cx="6780960" cy="244800"/>
              <a:chOff x="0" y="2222280"/>
              <a:chExt cx="6780960" cy="244800"/>
            </a:xfrm>
          </p:grpSpPr>
          <p:sp>
            <p:nvSpPr>
              <p:cNvPr id="229" name=""/>
              <p:cNvSpPr/>
              <p:nvPr/>
            </p:nvSpPr>
            <p:spPr>
              <a:xfrm>
                <a:off x="0" y="222228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0" y="222228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* initialization phase */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1" name=""/>
            <p:cNvGrpSpPr/>
            <p:nvPr/>
          </p:nvGrpSpPr>
          <p:grpSpPr>
            <a:xfrm>
              <a:off x="0" y="2467080"/>
              <a:ext cx="6780960" cy="244800"/>
              <a:chOff x="0" y="2467080"/>
              <a:chExt cx="6780960" cy="244800"/>
            </a:xfrm>
          </p:grpSpPr>
          <p:sp>
            <p:nvSpPr>
              <p:cNvPr id="232" name=""/>
              <p:cNvSpPr/>
              <p:nvPr/>
            </p:nvSpPr>
            <p:spPr>
              <a:xfrm>
                <a:off x="0" y="246708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0" y="246708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total =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0" y="2711880"/>
              <a:ext cx="6780960" cy="244800"/>
              <a:chOff x="0" y="2711880"/>
              <a:chExt cx="6780960" cy="244800"/>
            </a:xfrm>
          </p:grpSpPr>
          <p:sp>
            <p:nvSpPr>
              <p:cNvPr id="235" name=""/>
              <p:cNvSpPr/>
              <p:nvPr/>
            </p:nvSpPr>
            <p:spPr>
              <a:xfrm>
                <a:off x="0" y="271188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271188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nter = 1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7" name=""/>
            <p:cNvGrpSpPr/>
            <p:nvPr/>
          </p:nvGrpSpPr>
          <p:grpSpPr>
            <a:xfrm>
              <a:off x="0" y="2957040"/>
              <a:ext cx="6780960" cy="244800"/>
              <a:chOff x="0" y="2957040"/>
              <a:chExt cx="6780960" cy="244800"/>
            </a:xfrm>
          </p:grpSpPr>
          <p:sp>
            <p:nvSpPr>
              <p:cNvPr id="238" name=""/>
              <p:cNvSpPr/>
              <p:nvPr/>
            </p:nvSpPr>
            <p:spPr>
              <a:xfrm>
                <a:off x="0" y="295704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295704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0" y="3201840"/>
              <a:ext cx="6780960" cy="244800"/>
              <a:chOff x="0" y="3201840"/>
              <a:chExt cx="6780960" cy="244800"/>
            </a:xfrm>
          </p:grpSpPr>
          <p:sp>
            <p:nvSpPr>
              <p:cNvPr id="241" name=""/>
              <p:cNvSpPr/>
              <p:nvPr/>
            </p:nvSpPr>
            <p:spPr>
              <a:xfrm>
                <a:off x="0" y="320184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0" y="320184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* processing phase */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3" name=""/>
            <p:cNvGrpSpPr/>
            <p:nvPr/>
          </p:nvGrpSpPr>
          <p:grpSpPr>
            <a:xfrm>
              <a:off x="0" y="3446640"/>
              <a:ext cx="6780960" cy="244800"/>
              <a:chOff x="0" y="3446640"/>
              <a:chExt cx="6780960" cy="244800"/>
            </a:xfrm>
          </p:grpSpPr>
          <p:sp>
            <p:nvSpPr>
              <p:cNvPr id="244" name=""/>
              <p:cNvSpPr/>
              <p:nvPr/>
            </p:nvSpPr>
            <p:spPr>
              <a:xfrm>
                <a:off x="0" y="344664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0" y="344664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whi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counter &lt;= 10 )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6" name=""/>
            <p:cNvGrpSpPr/>
            <p:nvPr/>
          </p:nvGrpSpPr>
          <p:grpSpPr>
            <a:xfrm>
              <a:off x="0" y="3691440"/>
              <a:ext cx="6780960" cy="244800"/>
              <a:chOff x="0" y="3691440"/>
              <a:chExt cx="6780960" cy="244800"/>
            </a:xfrm>
          </p:grpSpPr>
          <p:sp>
            <p:nvSpPr>
              <p:cNvPr id="247" name=""/>
              <p:cNvSpPr/>
              <p:nvPr/>
            </p:nvSpPr>
            <p:spPr>
              <a:xfrm>
                <a:off x="0" y="369144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0" y="369144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printf( "Enter grade: "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9" name=""/>
            <p:cNvGrpSpPr/>
            <p:nvPr/>
          </p:nvGrpSpPr>
          <p:grpSpPr>
            <a:xfrm>
              <a:off x="0" y="3936240"/>
              <a:ext cx="6780960" cy="244800"/>
              <a:chOff x="0" y="3936240"/>
              <a:chExt cx="6780960" cy="244800"/>
            </a:xfrm>
          </p:grpSpPr>
          <p:sp>
            <p:nvSpPr>
              <p:cNvPr id="250" name=""/>
              <p:cNvSpPr/>
              <p:nvPr/>
            </p:nvSpPr>
            <p:spPr>
              <a:xfrm>
                <a:off x="0" y="393624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0" y="393624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scanf( "%d", &amp;grade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2" name=""/>
            <p:cNvGrpSpPr/>
            <p:nvPr/>
          </p:nvGrpSpPr>
          <p:grpSpPr>
            <a:xfrm>
              <a:off x="0" y="4181040"/>
              <a:ext cx="6780960" cy="244800"/>
              <a:chOff x="0" y="4181040"/>
              <a:chExt cx="6780960" cy="244800"/>
            </a:xfrm>
          </p:grpSpPr>
          <p:sp>
            <p:nvSpPr>
              <p:cNvPr id="253" name=""/>
              <p:cNvSpPr/>
              <p:nvPr/>
            </p:nvSpPr>
            <p:spPr>
              <a:xfrm>
                <a:off x="0" y="418104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0" y="418104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total = total + grade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5" name=""/>
            <p:cNvGrpSpPr/>
            <p:nvPr/>
          </p:nvGrpSpPr>
          <p:grpSpPr>
            <a:xfrm>
              <a:off x="0" y="4425840"/>
              <a:ext cx="6780960" cy="244800"/>
              <a:chOff x="0" y="4425840"/>
              <a:chExt cx="6780960" cy="244800"/>
            </a:xfrm>
          </p:grpSpPr>
          <p:sp>
            <p:nvSpPr>
              <p:cNvPr id="256" name=""/>
              <p:cNvSpPr/>
              <p:nvPr/>
            </p:nvSpPr>
            <p:spPr>
              <a:xfrm>
                <a:off x="0" y="442584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0" y="442584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counter = counter + 1;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8" name=""/>
            <p:cNvGrpSpPr/>
            <p:nvPr/>
          </p:nvGrpSpPr>
          <p:grpSpPr>
            <a:xfrm>
              <a:off x="0" y="4670640"/>
              <a:ext cx="6780960" cy="244800"/>
              <a:chOff x="0" y="4670640"/>
              <a:chExt cx="6780960" cy="244800"/>
            </a:xfrm>
          </p:grpSpPr>
          <p:sp>
            <p:nvSpPr>
              <p:cNvPr id="259" name=""/>
              <p:cNvSpPr/>
              <p:nvPr/>
            </p:nvSpPr>
            <p:spPr>
              <a:xfrm>
                <a:off x="0" y="467064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0" y="467064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1" name=""/>
            <p:cNvGrpSpPr/>
            <p:nvPr/>
          </p:nvGrpSpPr>
          <p:grpSpPr>
            <a:xfrm>
              <a:off x="0" y="4915800"/>
              <a:ext cx="6780960" cy="244800"/>
              <a:chOff x="0" y="4915800"/>
              <a:chExt cx="6780960" cy="244800"/>
            </a:xfrm>
          </p:grpSpPr>
          <p:sp>
            <p:nvSpPr>
              <p:cNvPr id="262" name=""/>
              <p:cNvSpPr/>
              <p:nvPr/>
            </p:nvSpPr>
            <p:spPr>
              <a:xfrm>
                <a:off x="0" y="491580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0" y="491580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4" name=""/>
            <p:cNvGrpSpPr/>
            <p:nvPr/>
          </p:nvGrpSpPr>
          <p:grpSpPr>
            <a:xfrm>
              <a:off x="0" y="5160600"/>
              <a:ext cx="6780960" cy="244800"/>
              <a:chOff x="0" y="5160600"/>
              <a:chExt cx="6780960" cy="244800"/>
            </a:xfrm>
          </p:grpSpPr>
          <p:sp>
            <p:nvSpPr>
              <p:cNvPr id="265" name=""/>
              <p:cNvSpPr/>
              <p:nvPr/>
            </p:nvSpPr>
            <p:spPr>
              <a:xfrm>
                <a:off x="0" y="516060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0" y="516060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* termination phase */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7" name=""/>
            <p:cNvGrpSpPr/>
            <p:nvPr/>
          </p:nvGrpSpPr>
          <p:grpSpPr>
            <a:xfrm>
              <a:off x="0" y="5405400"/>
              <a:ext cx="6780960" cy="244800"/>
              <a:chOff x="0" y="5405400"/>
              <a:chExt cx="6780960" cy="244800"/>
            </a:xfrm>
          </p:grpSpPr>
          <p:sp>
            <p:nvSpPr>
              <p:cNvPr id="268" name=""/>
              <p:cNvSpPr/>
              <p:nvPr/>
            </p:nvSpPr>
            <p:spPr>
              <a:xfrm>
                <a:off x="0" y="540540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0" y="540540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average = total / 1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0" name=""/>
            <p:cNvGrpSpPr/>
            <p:nvPr/>
          </p:nvGrpSpPr>
          <p:grpSpPr>
            <a:xfrm>
              <a:off x="0" y="5650200"/>
              <a:ext cx="6780960" cy="244800"/>
              <a:chOff x="0" y="5650200"/>
              <a:chExt cx="6780960" cy="244800"/>
            </a:xfrm>
          </p:grpSpPr>
          <p:sp>
            <p:nvSpPr>
              <p:cNvPr id="271" name=""/>
              <p:cNvSpPr/>
              <p:nvPr/>
            </p:nvSpPr>
            <p:spPr>
              <a:xfrm>
                <a:off x="0" y="565020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0" y="565020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printf( "Class average is %d\n", average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3" name=""/>
            <p:cNvGrpSpPr/>
            <p:nvPr/>
          </p:nvGrpSpPr>
          <p:grpSpPr>
            <a:xfrm>
              <a:off x="0" y="5895000"/>
              <a:ext cx="6780960" cy="244800"/>
              <a:chOff x="0" y="5895000"/>
              <a:chExt cx="6780960" cy="244800"/>
            </a:xfrm>
          </p:grpSpPr>
          <p:sp>
            <p:nvSpPr>
              <p:cNvPr id="274" name=""/>
              <p:cNvSpPr/>
              <p:nvPr/>
            </p:nvSpPr>
            <p:spPr>
              <a:xfrm>
                <a:off x="0" y="589500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0" y="589500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6" name=""/>
            <p:cNvGrpSpPr/>
            <p:nvPr/>
          </p:nvGrpSpPr>
          <p:grpSpPr>
            <a:xfrm>
              <a:off x="0" y="6139800"/>
              <a:ext cx="6780960" cy="244800"/>
              <a:chOff x="0" y="6139800"/>
              <a:chExt cx="6780960" cy="244800"/>
            </a:xfrm>
          </p:grpSpPr>
          <p:sp>
            <p:nvSpPr>
              <p:cNvPr id="277" name=""/>
              <p:cNvSpPr/>
              <p:nvPr/>
            </p:nvSpPr>
            <p:spPr>
              <a:xfrm>
                <a:off x="0" y="613980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0" y="613980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0;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* indicate program ended successfully */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9" name=""/>
            <p:cNvGrpSpPr/>
            <p:nvPr/>
          </p:nvGrpSpPr>
          <p:grpSpPr>
            <a:xfrm>
              <a:off x="0" y="6384600"/>
              <a:ext cx="6780960" cy="244800"/>
              <a:chOff x="0" y="6384600"/>
              <a:chExt cx="6780960" cy="244800"/>
            </a:xfrm>
          </p:grpSpPr>
          <p:sp>
            <p:nvSpPr>
              <p:cNvPr id="280" name=""/>
              <p:cNvSpPr/>
              <p:nvPr/>
            </p:nvSpPr>
            <p:spPr>
              <a:xfrm>
                <a:off x="0" y="638460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0" y="638460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E95D61-CC79-499A-8ED9-EB8C0D50C18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3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.1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Introduc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fore writing a program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Have a thorough understanding of the problem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refully plan an approach for solving i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le writing a program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Know what “building blocks” are availab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 good programming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5EF860-60CE-44B4-B806-2CDBC03BD81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283" name=""/>
          <p:cNvSpPr/>
          <p:nvPr/>
        </p:nvSpPr>
        <p:spPr>
          <a:xfrm>
            <a:off x="0" y="0"/>
            <a:ext cx="6781680" cy="2466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ter grade: 9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ter grade: 7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ter grade: 7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ter grade: 8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ter grade: 8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ter grade: 9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ter grade: 5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ter grade: 7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ter grade: 8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ter grade: 9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lass average is 8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F6FBA4-50FF-4243-8E84-2A7A8531D7A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3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.9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Formulating Algorithms with Top-Down, Stepwise Refinemen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becomes: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Develop a class-averaging program that will process an arbitrary number of grades each time the program is ru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nknown number of stude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How will the program know to end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sentinel val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lso called signal value, dummy value, or flag valu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dicates “end of data entry.”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oop ends when user inputs the sentinel valu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ntinel value chosen so it cannot be confused with a regular input (such a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-1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in this case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FEE6A7-80FA-4E02-B7E6-9072CD4A432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3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.9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Formulating Algorithms with Top-Down, Stepwise Refinemen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p-down, stepwise refinemen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Begin with a pseudocode representation of the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top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Determine the class average for the qui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ivide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top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into smaller tasks and list them in order: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Initialize variables</a:t>
            </a:r>
            <a:br>
              <a:rPr sz="2000"/>
            </a:b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Input, sum and count the quiz grades</a:t>
            </a:r>
            <a:br>
              <a:rPr sz="2000"/>
            </a:b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Calculate and print the class averag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y programs have three phas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itialization: initializes the program variab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ocessing: inputs data values and adjusts program variables accordingl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ermination: calculates and prints the final resul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0824D8-B98C-4032-8C70-A98209B15CC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3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.9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Formulating Algorithms with Top-Down, Stepwise Refinemen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fine the initialization phase from </a:t>
            </a:r>
            <a:r>
              <a:rPr b="0" i="1" lang="en-US" sz="2800" spc="-1" strike="noStrike">
                <a:solidFill>
                  <a:srgbClr val="ff3300"/>
                </a:solidFill>
                <a:latin typeface="Times New Roman"/>
              </a:rPr>
              <a:t>Initialize variabl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Initialize total to zero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br>
              <a:rPr sz="2000"/>
            </a:b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Initialize counter to zer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fine </a:t>
            </a:r>
            <a:r>
              <a:rPr b="0" i="1" lang="en-US" sz="2800" spc="-1" strike="noStrike">
                <a:solidFill>
                  <a:srgbClr val="ff3300"/>
                </a:solidFill>
                <a:latin typeface="Times New Roman"/>
              </a:rPr>
              <a:t>Input, sum and count the quiz grad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Input the first grade (possibly the sentinel)</a:t>
            </a:r>
            <a:br>
              <a:rPr sz="2000"/>
            </a:b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While the user has not as yet entered the sentinel</a:t>
            </a:r>
            <a:br>
              <a:rPr sz="2000"/>
            </a:b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    Add this grade into the running total</a:t>
            </a:r>
            <a:br>
              <a:rPr sz="2000"/>
            </a:b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    Add one to the grade counter</a:t>
            </a:r>
            <a:br>
              <a:rPr sz="2000"/>
            </a:b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    Input the next grade (possibly the sentine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51A01C-0588-4047-A282-AB985BDAA6D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3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.9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Formulating Algorithms with Top-Down, Stepwise Refinemen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fine </a:t>
            </a:r>
            <a:r>
              <a:rPr b="0" i="1" lang="en-US" sz="2800" spc="-1" strike="noStrike">
                <a:solidFill>
                  <a:srgbClr val="ff3300"/>
                </a:solidFill>
                <a:latin typeface="Times New Roman"/>
              </a:rPr>
              <a:t>Calculate and print the class averag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If the counter is not equal to zero</a:t>
            </a:r>
            <a:br>
              <a:rPr sz="2000"/>
            </a:b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    Set the average to the total divided by the counter</a:t>
            </a:r>
            <a:br>
              <a:rPr sz="2000"/>
            </a:b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    Print the average</a:t>
            </a:r>
            <a:br>
              <a:rPr sz="2000"/>
            </a:b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else</a:t>
            </a:r>
            <a:br>
              <a:rPr sz="2000"/>
            </a:b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    Print “No grades were entered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07D7FD-896F-455A-A026-4C308C23B45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1.  Initialize Variable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2.  Get user in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2.1  Perform Loop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293" name=""/>
          <p:cNvGrpSpPr/>
          <p:nvPr/>
        </p:nvGrpSpPr>
        <p:grpSpPr>
          <a:xfrm>
            <a:off x="0" y="0"/>
            <a:ext cx="6780960" cy="6629040"/>
            <a:chOff x="0" y="0"/>
            <a:chExt cx="6780960" cy="6629040"/>
          </a:xfrm>
        </p:grpSpPr>
        <p:grpSp>
          <p:nvGrpSpPr>
            <p:cNvPr id="294" name=""/>
            <p:cNvGrpSpPr/>
            <p:nvPr/>
          </p:nvGrpSpPr>
          <p:grpSpPr>
            <a:xfrm>
              <a:off x="0" y="0"/>
              <a:ext cx="6780960" cy="276120"/>
              <a:chOff x="0" y="0"/>
              <a:chExt cx="6780960" cy="276120"/>
            </a:xfrm>
          </p:grpSpPr>
          <p:sp>
            <p:nvSpPr>
              <p:cNvPr id="295" name=""/>
              <p:cNvSpPr/>
              <p:nvPr/>
            </p:nvSpPr>
            <p:spPr>
              <a:xfrm>
                <a:off x="0" y="0"/>
                <a:ext cx="6780960" cy="276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0" y="0"/>
                <a:ext cx="6780960" cy="276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* Fig. 3.8: fig03_08.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7" name=""/>
            <p:cNvGrpSpPr/>
            <p:nvPr/>
          </p:nvGrpSpPr>
          <p:grpSpPr>
            <a:xfrm>
              <a:off x="0" y="276120"/>
              <a:ext cx="6780960" cy="276120"/>
              <a:chOff x="0" y="276120"/>
              <a:chExt cx="6780960" cy="276120"/>
            </a:xfrm>
          </p:grpSpPr>
          <p:sp>
            <p:nvSpPr>
              <p:cNvPr id="298" name=""/>
              <p:cNvSpPr/>
              <p:nvPr/>
            </p:nvSpPr>
            <p:spPr>
              <a:xfrm>
                <a:off x="0" y="276120"/>
                <a:ext cx="6780960" cy="276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0" y="276120"/>
                <a:ext cx="6780960" cy="276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Class average program with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0" y="552240"/>
              <a:ext cx="6780960" cy="276120"/>
              <a:chOff x="0" y="552240"/>
              <a:chExt cx="6780960" cy="276120"/>
            </a:xfrm>
          </p:grpSpPr>
          <p:sp>
            <p:nvSpPr>
              <p:cNvPr id="301" name=""/>
              <p:cNvSpPr/>
              <p:nvPr/>
            </p:nvSpPr>
            <p:spPr>
              <a:xfrm>
                <a:off x="0" y="552240"/>
                <a:ext cx="6780960" cy="276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0" y="552240"/>
                <a:ext cx="6780960" cy="276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sentinel-controlled repetition */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3" name=""/>
            <p:cNvGrpSpPr/>
            <p:nvPr/>
          </p:nvGrpSpPr>
          <p:grpSpPr>
            <a:xfrm>
              <a:off x="0" y="828720"/>
              <a:ext cx="6780960" cy="276120"/>
              <a:chOff x="0" y="828720"/>
              <a:chExt cx="6780960" cy="276120"/>
            </a:xfrm>
          </p:grpSpPr>
          <p:sp>
            <p:nvSpPr>
              <p:cNvPr id="304" name=""/>
              <p:cNvSpPr/>
              <p:nvPr/>
            </p:nvSpPr>
            <p:spPr>
              <a:xfrm>
                <a:off x="0" y="828720"/>
                <a:ext cx="6780960" cy="276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0" y="828720"/>
                <a:ext cx="6780960" cy="276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stdio.h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6" name=""/>
            <p:cNvGrpSpPr/>
            <p:nvPr/>
          </p:nvGrpSpPr>
          <p:grpSpPr>
            <a:xfrm>
              <a:off x="0" y="1104840"/>
              <a:ext cx="6780960" cy="276120"/>
              <a:chOff x="0" y="1104840"/>
              <a:chExt cx="6780960" cy="276120"/>
            </a:xfrm>
          </p:grpSpPr>
          <p:sp>
            <p:nvSpPr>
              <p:cNvPr id="307" name=""/>
              <p:cNvSpPr/>
              <p:nvPr/>
            </p:nvSpPr>
            <p:spPr>
              <a:xfrm>
                <a:off x="0" y="1104840"/>
                <a:ext cx="6780960" cy="276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0" y="1104840"/>
                <a:ext cx="6780960" cy="276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9" name=""/>
            <p:cNvGrpSpPr/>
            <p:nvPr/>
          </p:nvGrpSpPr>
          <p:grpSpPr>
            <a:xfrm>
              <a:off x="0" y="1380960"/>
              <a:ext cx="6780960" cy="276120"/>
              <a:chOff x="0" y="1380960"/>
              <a:chExt cx="6780960" cy="276120"/>
            </a:xfrm>
          </p:grpSpPr>
          <p:sp>
            <p:nvSpPr>
              <p:cNvPr id="310" name=""/>
              <p:cNvSpPr/>
              <p:nvPr/>
            </p:nvSpPr>
            <p:spPr>
              <a:xfrm>
                <a:off x="0" y="1380960"/>
                <a:ext cx="6780960" cy="276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0" y="1380960"/>
                <a:ext cx="6780960" cy="276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2" name=""/>
            <p:cNvGrpSpPr/>
            <p:nvPr/>
          </p:nvGrpSpPr>
          <p:grpSpPr>
            <a:xfrm>
              <a:off x="0" y="1657080"/>
              <a:ext cx="6780960" cy="276120"/>
              <a:chOff x="0" y="1657080"/>
              <a:chExt cx="6780960" cy="276120"/>
            </a:xfrm>
          </p:grpSpPr>
          <p:sp>
            <p:nvSpPr>
              <p:cNvPr id="313" name=""/>
              <p:cNvSpPr/>
              <p:nvPr/>
            </p:nvSpPr>
            <p:spPr>
              <a:xfrm>
                <a:off x="0" y="1657080"/>
                <a:ext cx="6780960" cy="276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0" y="1657080"/>
                <a:ext cx="6780960" cy="276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0" y="1933560"/>
              <a:ext cx="6780960" cy="276120"/>
              <a:chOff x="0" y="1933560"/>
              <a:chExt cx="6780960" cy="276120"/>
            </a:xfrm>
          </p:grpSpPr>
          <p:sp>
            <p:nvSpPr>
              <p:cNvPr id="316" name=""/>
              <p:cNvSpPr/>
              <p:nvPr/>
            </p:nvSpPr>
            <p:spPr>
              <a:xfrm>
                <a:off x="0" y="1933560"/>
                <a:ext cx="6780960" cy="276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0" y="1933560"/>
                <a:ext cx="6780960" cy="276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floa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average;    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* new data type */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8" name=""/>
            <p:cNvGrpSpPr/>
            <p:nvPr/>
          </p:nvGrpSpPr>
          <p:grpSpPr>
            <a:xfrm>
              <a:off x="0" y="2209680"/>
              <a:ext cx="6780960" cy="276120"/>
              <a:chOff x="0" y="2209680"/>
              <a:chExt cx="6780960" cy="276120"/>
            </a:xfrm>
          </p:grpSpPr>
          <p:sp>
            <p:nvSpPr>
              <p:cNvPr id="319" name=""/>
              <p:cNvSpPr/>
              <p:nvPr/>
            </p:nvSpPr>
            <p:spPr>
              <a:xfrm>
                <a:off x="0" y="2209680"/>
                <a:ext cx="6780960" cy="276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0" y="2209680"/>
                <a:ext cx="6780960" cy="276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counter, grade, tota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1" name=""/>
            <p:cNvGrpSpPr/>
            <p:nvPr/>
          </p:nvGrpSpPr>
          <p:grpSpPr>
            <a:xfrm>
              <a:off x="0" y="2485800"/>
              <a:ext cx="6780960" cy="276120"/>
              <a:chOff x="0" y="2485800"/>
              <a:chExt cx="6780960" cy="276120"/>
            </a:xfrm>
          </p:grpSpPr>
          <p:sp>
            <p:nvSpPr>
              <p:cNvPr id="322" name=""/>
              <p:cNvSpPr/>
              <p:nvPr/>
            </p:nvSpPr>
            <p:spPr>
              <a:xfrm>
                <a:off x="0" y="2485800"/>
                <a:ext cx="6780960" cy="276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0" y="2485800"/>
                <a:ext cx="6780960" cy="276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0" y="2761920"/>
              <a:ext cx="6780960" cy="276120"/>
              <a:chOff x="0" y="2761920"/>
              <a:chExt cx="6780960" cy="276120"/>
            </a:xfrm>
          </p:grpSpPr>
          <p:sp>
            <p:nvSpPr>
              <p:cNvPr id="325" name=""/>
              <p:cNvSpPr/>
              <p:nvPr/>
            </p:nvSpPr>
            <p:spPr>
              <a:xfrm>
                <a:off x="0" y="2761920"/>
                <a:ext cx="6780960" cy="276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0" y="2761920"/>
                <a:ext cx="6780960" cy="276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* initialization phase */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7" name=""/>
            <p:cNvGrpSpPr/>
            <p:nvPr/>
          </p:nvGrpSpPr>
          <p:grpSpPr>
            <a:xfrm>
              <a:off x="0" y="3038400"/>
              <a:ext cx="6780960" cy="276120"/>
              <a:chOff x="0" y="3038400"/>
              <a:chExt cx="6780960" cy="276120"/>
            </a:xfrm>
          </p:grpSpPr>
          <p:sp>
            <p:nvSpPr>
              <p:cNvPr id="328" name=""/>
              <p:cNvSpPr/>
              <p:nvPr/>
            </p:nvSpPr>
            <p:spPr>
              <a:xfrm>
                <a:off x="0" y="3038400"/>
                <a:ext cx="6780960" cy="276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0" y="3038400"/>
                <a:ext cx="6780960" cy="276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total =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0" name=""/>
            <p:cNvGrpSpPr/>
            <p:nvPr/>
          </p:nvGrpSpPr>
          <p:grpSpPr>
            <a:xfrm>
              <a:off x="0" y="3314520"/>
              <a:ext cx="6780960" cy="276120"/>
              <a:chOff x="0" y="3314520"/>
              <a:chExt cx="6780960" cy="276120"/>
            </a:xfrm>
          </p:grpSpPr>
          <p:sp>
            <p:nvSpPr>
              <p:cNvPr id="331" name=""/>
              <p:cNvSpPr/>
              <p:nvPr/>
            </p:nvSpPr>
            <p:spPr>
              <a:xfrm>
                <a:off x="0" y="3314520"/>
                <a:ext cx="6780960" cy="276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0" y="3314520"/>
                <a:ext cx="6780960" cy="276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nter =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3" name=""/>
            <p:cNvGrpSpPr/>
            <p:nvPr/>
          </p:nvGrpSpPr>
          <p:grpSpPr>
            <a:xfrm>
              <a:off x="0" y="3590640"/>
              <a:ext cx="6780960" cy="276120"/>
              <a:chOff x="0" y="3590640"/>
              <a:chExt cx="6780960" cy="276120"/>
            </a:xfrm>
          </p:grpSpPr>
          <p:sp>
            <p:nvSpPr>
              <p:cNvPr id="334" name=""/>
              <p:cNvSpPr/>
              <p:nvPr/>
            </p:nvSpPr>
            <p:spPr>
              <a:xfrm>
                <a:off x="0" y="3590640"/>
                <a:ext cx="6780960" cy="276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0" y="3590640"/>
                <a:ext cx="6780960" cy="276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6" name=""/>
            <p:cNvGrpSpPr/>
            <p:nvPr/>
          </p:nvGrpSpPr>
          <p:grpSpPr>
            <a:xfrm>
              <a:off x="0" y="3867120"/>
              <a:ext cx="6780960" cy="276120"/>
              <a:chOff x="0" y="3867120"/>
              <a:chExt cx="6780960" cy="276120"/>
            </a:xfrm>
          </p:grpSpPr>
          <p:sp>
            <p:nvSpPr>
              <p:cNvPr id="337" name=""/>
              <p:cNvSpPr/>
              <p:nvPr/>
            </p:nvSpPr>
            <p:spPr>
              <a:xfrm>
                <a:off x="0" y="3867120"/>
                <a:ext cx="6780960" cy="276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0" y="3867120"/>
                <a:ext cx="6780960" cy="276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* processing phase */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9" name=""/>
            <p:cNvGrpSpPr/>
            <p:nvPr/>
          </p:nvGrpSpPr>
          <p:grpSpPr>
            <a:xfrm>
              <a:off x="0" y="4143240"/>
              <a:ext cx="6780960" cy="276120"/>
              <a:chOff x="0" y="4143240"/>
              <a:chExt cx="6780960" cy="276120"/>
            </a:xfrm>
          </p:grpSpPr>
          <p:sp>
            <p:nvSpPr>
              <p:cNvPr id="340" name=""/>
              <p:cNvSpPr/>
              <p:nvPr/>
            </p:nvSpPr>
            <p:spPr>
              <a:xfrm>
                <a:off x="0" y="4143240"/>
                <a:ext cx="6780960" cy="276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0" y="4143240"/>
                <a:ext cx="6780960" cy="276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printf( "Enter grade, -1 to end: "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2" name=""/>
            <p:cNvGrpSpPr/>
            <p:nvPr/>
          </p:nvGrpSpPr>
          <p:grpSpPr>
            <a:xfrm>
              <a:off x="0" y="4419720"/>
              <a:ext cx="6780960" cy="276120"/>
              <a:chOff x="0" y="4419720"/>
              <a:chExt cx="6780960" cy="276120"/>
            </a:xfrm>
          </p:grpSpPr>
          <p:sp>
            <p:nvSpPr>
              <p:cNvPr id="343" name=""/>
              <p:cNvSpPr/>
              <p:nvPr/>
            </p:nvSpPr>
            <p:spPr>
              <a:xfrm>
                <a:off x="0" y="4419720"/>
                <a:ext cx="6780960" cy="276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0" y="4419720"/>
                <a:ext cx="6780960" cy="276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scanf( "%d", &amp;grade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5" name=""/>
            <p:cNvGrpSpPr/>
            <p:nvPr/>
          </p:nvGrpSpPr>
          <p:grpSpPr>
            <a:xfrm>
              <a:off x="0" y="4695840"/>
              <a:ext cx="6780960" cy="276120"/>
              <a:chOff x="0" y="4695840"/>
              <a:chExt cx="6780960" cy="276120"/>
            </a:xfrm>
          </p:grpSpPr>
          <p:sp>
            <p:nvSpPr>
              <p:cNvPr id="346" name=""/>
              <p:cNvSpPr/>
              <p:nvPr/>
            </p:nvSpPr>
            <p:spPr>
              <a:xfrm>
                <a:off x="0" y="4695840"/>
                <a:ext cx="6780960" cy="276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0" y="4695840"/>
                <a:ext cx="6780960" cy="276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8" name=""/>
            <p:cNvGrpSpPr/>
            <p:nvPr/>
          </p:nvGrpSpPr>
          <p:grpSpPr>
            <a:xfrm>
              <a:off x="0" y="4971960"/>
              <a:ext cx="6780960" cy="276120"/>
              <a:chOff x="0" y="4971960"/>
              <a:chExt cx="6780960" cy="276120"/>
            </a:xfrm>
          </p:grpSpPr>
          <p:sp>
            <p:nvSpPr>
              <p:cNvPr id="349" name=""/>
              <p:cNvSpPr/>
              <p:nvPr/>
            </p:nvSpPr>
            <p:spPr>
              <a:xfrm>
                <a:off x="0" y="4971960"/>
                <a:ext cx="6780960" cy="276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0" y="4971960"/>
                <a:ext cx="6780960" cy="276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whi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grade != -1 )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1" name=""/>
            <p:cNvGrpSpPr/>
            <p:nvPr/>
          </p:nvGrpSpPr>
          <p:grpSpPr>
            <a:xfrm>
              <a:off x="0" y="5248080"/>
              <a:ext cx="6780960" cy="276120"/>
              <a:chOff x="0" y="5248080"/>
              <a:chExt cx="6780960" cy="276120"/>
            </a:xfrm>
          </p:grpSpPr>
          <p:sp>
            <p:nvSpPr>
              <p:cNvPr id="352" name=""/>
              <p:cNvSpPr/>
              <p:nvPr/>
            </p:nvSpPr>
            <p:spPr>
              <a:xfrm>
                <a:off x="0" y="5248080"/>
                <a:ext cx="6780960" cy="276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0" y="5248080"/>
                <a:ext cx="6780960" cy="276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total = total + grade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4" name=""/>
            <p:cNvGrpSpPr/>
            <p:nvPr/>
          </p:nvGrpSpPr>
          <p:grpSpPr>
            <a:xfrm>
              <a:off x="0" y="5524560"/>
              <a:ext cx="6780960" cy="276120"/>
              <a:chOff x="0" y="5524560"/>
              <a:chExt cx="6780960" cy="276120"/>
            </a:xfrm>
          </p:grpSpPr>
          <p:sp>
            <p:nvSpPr>
              <p:cNvPr id="355" name=""/>
              <p:cNvSpPr/>
              <p:nvPr/>
            </p:nvSpPr>
            <p:spPr>
              <a:xfrm>
                <a:off x="0" y="5524560"/>
                <a:ext cx="6780960" cy="276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0" y="5524560"/>
                <a:ext cx="6780960" cy="276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counter = counter + 1;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7" name=""/>
            <p:cNvGrpSpPr/>
            <p:nvPr/>
          </p:nvGrpSpPr>
          <p:grpSpPr>
            <a:xfrm>
              <a:off x="0" y="5800680"/>
              <a:ext cx="6780960" cy="276120"/>
              <a:chOff x="0" y="5800680"/>
              <a:chExt cx="6780960" cy="276120"/>
            </a:xfrm>
          </p:grpSpPr>
          <p:sp>
            <p:nvSpPr>
              <p:cNvPr id="358" name=""/>
              <p:cNvSpPr/>
              <p:nvPr/>
            </p:nvSpPr>
            <p:spPr>
              <a:xfrm>
                <a:off x="0" y="5800680"/>
                <a:ext cx="6780960" cy="276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0" y="5800680"/>
                <a:ext cx="6780960" cy="276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printf( "Enter grade, -1 to end: "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0" name=""/>
            <p:cNvGrpSpPr/>
            <p:nvPr/>
          </p:nvGrpSpPr>
          <p:grpSpPr>
            <a:xfrm>
              <a:off x="0" y="6076800"/>
              <a:ext cx="6780960" cy="276120"/>
              <a:chOff x="0" y="6076800"/>
              <a:chExt cx="6780960" cy="276120"/>
            </a:xfrm>
          </p:grpSpPr>
          <p:sp>
            <p:nvSpPr>
              <p:cNvPr id="361" name=""/>
              <p:cNvSpPr/>
              <p:nvPr/>
            </p:nvSpPr>
            <p:spPr>
              <a:xfrm>
                <a:off x="0" y="6076800"/>
                <a:ext cx="6780960" cy="276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0" y="6076800"/>
                <a:ext cx="6780960" cy="276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scanf( "%d", &amp;grade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3" name=""/>
            <p:cNvGrpSpPr/>
            <p:nvPr/>
          </p:nvGrpSpPr>
          <p:grpSpPr>
            <a:xfrm>
              <a:off x="0" y="6352920"/>
              <a:ext cx="6780960" cy="276120"/>
              <a:chOff x="0" y="6352920"/>
              <a:chExt cx="6780960" cy="276120"/>
            </a:xfrm>
          </p:grpSpPr>
          <p:sp>
            <p:nvSpPr>
              <p:cNvPr id="364" name=""/>
              <p:cNvSpPr/>
              <p:nvPr/>
            </p:nvSpPr>
            <p:spPr>
              <a:xfrm>
                <a:off x="0" y="6352920"/>
                <a:ext cx="6780960" cy="276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0" y="6352920"/>
                <a:ext cx="6780960" cy="276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866C52-03CC-416B-9159-172932A1A5F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3.  Calculate Average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3.1  Print Result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367" name=""/>
          <p:cNvGrpSpPr/>
          <p:nvPr/>
        </p:nvGrpSpPr>
        <p:grpSpPr>
          <a:xfrm>
            <a:off x="0" y="0"/>
            <a:ext cx="6780960" cy="2590560"/>
            <a:chOff x="0" y="0"/>
            <a:chExt cx="6780960" cy="2590560"/>
          </a:xfrm>
        </p:grpSpPr>
        <p:grpSp>
          <p:nvGrpSpPr>
            <p:cNvPr id="368" name=""/>
            <p:cNvGrpSpPr/>
            <p:nvPr/>
          </p:nvGrpSpPr>
          <p:grpSpPr>
            <a:xfrm>
              <a:off x="0" y="0"/>
              <a:ext cx="6780960" cy="235440"/>
              <a:chOff x="0" y="0"/>
              <a:chExt cx="6780960" cy="235440"/>
            </a:xfrm>
          </p:grpSpPr>
          <p:sp>
            <p:nvSpPr>
              <p:cNvPr id="369" name=""/>
              <p:cNvSpPr/>
              <p:nvPr/>
            </p:nvSpPr>
            <p:spPr>
              <a:xfrm>
                <a:off x="0" y="0"/>
                <a:ext cx="6780960" cy="235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0" y="0"/>
                <a:ext cx="6780960" cy="235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1" name=""/>
            <p:cNvGrpSpPr/>
            <p:nvPr/>
          </p:nvGrpSpPr>
          <p:grpSpPr>
            <a:xfrm>
              <a:off x="0" y="235440"/>
              <a:ext cx="6780960" cy="235440"/>
              <a:chOff x="0" y="235440"/>
              <a:chExt cx="6780960" cy="235440"/>
            </a:xfrm>
          </p:grpSpPr>
          <p:sp>
            <p:nvSpPr>
              <p:cNvPr id="372" name=""/>
              <p:cNvSpPr/>
              <p:nvPr/>
            </p:nvSpPr>
            <p:spPr>
              <a:xfrm>
                <a:off x="0" y="235440"/>
                <a:ext cx="6780960" cy="235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0" y="235440"/>
                <a:ext cx="6780960" cy="235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* termination phase */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4" name=""/>
            <p:cNvGrpSpPr/>
            <p:nvPr/>
          </p:nvGrpSpPr>
          <p:grpSpPr>
            <a:xfrm>
              <a:off x="0" y="470880"/>
              <a:ext cx="6780960" cy="235440"/>
              <a:chOff x="0" y="470880"/>
              <a:chExt cx="6780960" cy="235440"/>
            </a:xfrm>
          </p:grpSpPr>
          <p:sp>
            <p:nvSpPr>
              <p:cNvPr id="375" name=""/>
              <p:cNvSpPr/>
              <p:nvPr/>
            </p:nvSpPr>
            <p:spPr>
              <a:xfrm>
                <a:off x="0" y="470880"/>
                <a:ext cx="6780960" cy="235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0" y="470880"/>
                <a:ext cx="6780960" cy="235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counter != 0 )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7" name=""/>
            <p:cNvGrpSpPr/>
            <p:nvPr/>
          </p:nvGrpSpPr>
          <p:grpSpPr>
            <a:xfrm>
              <a:off x="0" y="706680"/>
              <a:ext cx="6780960" cy="235440"/>
              <a:chOff x="0" y="706680"/>
              <a:chExt cx="6780960" cy="235440"/>
            </a:xfrm>
          </p:grpSpPr>
          <p:sp>
            <p:nvSpPr>
              <p:cNvPr id="378" name=""/>
              <p:cNvSpPr/>
              <p:nvPr/>
            </p:nvSpPr>
            <p:spPr>
              <a:xfrm>
                <a:off x="0" y="706680"/>
                <a:ext cx="6780960" cy="235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0" y="706680"/>
                <a:ext cx="6780960" cy="235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average = 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floa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) total / counter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0" name=""/>
            <p:cNvGrpSpPr/>
            <p:nvPr/>
          </p:nvGrpSpPr>
          <p:grpSpPr>
            <a:xfrm>
              <a:off x="0" y="942120"/>
              <a:ext cx="6780960" cy="235440"/>
              <a:chOff x="0" y="942120"/>
              <a:chExt cx="6780960" cy="235440"/>
            </a:xfrm>
          </p:grpSpPr>
          <p:sp>
            <p:nvSpPr>
              <p:cNvPr id="381" name=""/>
              <p:cNvSpPr/>
              <p:nvPr/>
            </p:nvSpPr>
            <p:spPr>
              <a:xfrm>
                <a:off x="0" y="942120"/>
                <a:ext cx="6780960" cy="235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0" y="942120"/>
                <a:ext cx="6780960" cy="235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printf( "Class average is %.2f", average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3" name=""/>
            <p:cNvGrpSpPr/>
            <p:nvPr/>
          </p:nvGrpSpPr>
          <p:grpSpPr>
            <a:xfrm>
              <a:off x="0" y="1177560"/>
              <a:ext cx="6780960" cy="235440"/>
              <a:chOff x="0" y="1177560"/>
              <a:chExt cx="6780960" cy="235440"/>
            </a:xfrm>
          </p:grpSpPr>
          <p:sp>
            <p:nvSpPr>
              <p:cNvPr id="384" name=""/>
              <p:cNvSpPr/>
              <p:nvPr/>
            </p:nvSpPr>
            <p:spPr>
              <a:xfrm>
                <a:off x="0" y="1177560"/>
                <a:ext cx="6780960" cy="235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0" y="1177560"/>
                <a:ext cx="6780960" cy="235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6" name=""/>
            <p:cNvGrpSpPr/>
            <p:nvPr/>
          </p:nvGrpSpPr>
          <p:grpSpPr>
            <a:xfrm>
              <a:off x="0" y="1413000"/>
              <a:ext cx="6780960" cy="235440"/>
              <a:chOff x="0" y="1413000"/>
              <a:chExt cx="6780960" cy="235440"/>
            </a:xfrm>
          </p:grpSpPr>
          <p:sp>
            <p:nvSpPr>
              <p:cNvPr id="387" name=""/>
              <p:cNvSpPr/>
              <p:nvPr/>
            </p:nvSpPr>
            <p:spPr>
              <a:xfrm>
                <a:off x="0" y="1413000"/>
                <a:ext cx="6780960" cy="235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0" y="1413000"/>
                <a:ext cx="6780960" cy="235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els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9" name=""/>
            <p:cNvGrpSpPr/>
            <p:nvPr/>
          </p:nvGrpSpPr>
          <p:grpSpPr>
            <a:xfrm>
              <a:off x="0" y="1648800"/>
              <a:ext cx="6780960" cy="235440"/>
              <a:chOff x="0" y="1648800"/>
              <a:chExt cx="6780960" cy="235440"/>
            </a:xfrm>
          </p:grpSpPr>
          <p:sp>
            <p:nvSpPr>
              <p:cNvPr id="390" name=""/>
              <p:cNvSpPr/>
              <p:nvPr/>
            </p:nvSpPr>
            <p:spPr>
              <a:xfrm>
                <a:off x="0" y="1648800"/>
                <a:ext cx="6780960" cy="235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0" y="1648800"/>
                <a:ext cx="6780960" cy="235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printf( "No grades were entered\n"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2" name=""/>
            <p:cNvGrpSpPr/>
            <p:nvPr/>
          </p:nvGrpSpPr>
          <p:grpSpPr>
            <a:xfrm>
              <a:off x="0" y="1884240"/>
              <a:ext cx="6780960" cy="235440"/>
              <a:chOff x="0" y="1884240"/>
              <a:chExt cx="6780960" cy="235440"/>
            </a:xfrm>
          </p:grpSpPr>
          <p:sp>
            <p:nvSpPr>
              <p:cNvPr id="393" name=""/>
              <p:cNvSpPr/>
              <p:nvPr/>
            </p:nvSpPr>
            <p:spPr>
              <a:xfrm>
                <a:off x="0" y="1884240"/>
                <a:ext cx="6780960" cy="235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0" y="1884240"/>
                <a:ext cx="6780960" cy="235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5" name=""/>
            <p:cNvGrpSpPr/>
            <p:nvPr/>
          </p:nvGrpSpPr>
          <p:grpSpPr>
            <a:xfrm>
              <a:off x="0" y="2119680"/>
              <a:ext cx="6780960" cy="235440"/>
              <a:chOff x="0" y="2119680"/>
              <a:chExt cx="6780960" cy="235440"/>
            </a:xfrm>
          </p:grpSpPr>
          <p:sp>
            <p:nvSpPr>
              <p:cNvPr id="396" name=""/>
              <p:cNvSpPr/>
              <p:nvPr/>
            </p:nvSpPr>
            <p:spPr>
              <a:xfrm>
                <a:off x="0" y="2119680"/>
                <a:ext cx="6780960" cy="235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0" y="2119680"/>
                <a:ext cx="6780960" cy="235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0;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* indicate program ended successfully */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8" name=""/>
            <p:cNvGrpSpPr/>
            <p:nvPr/>
          </p:nvGrpSpPr>
          <p:grpSpPr>
            <a:xfrm>
              <a:off x="0" y="2355120"/>
              <a:ext cx="6780960" cy="235440"/>
              <a:chOff x="0" y="2355120"/>
              <a:chExt cx="6780960" cy="235440"/>
            </a:xfrm>
          </p:grpSpPr>
          <p:sp>
            <p:nvSpPr>
              <p:cNvPr id="399" name=""/>
              <p:cNvSpPr/>
              <p:nvPr/>
            </p:nvSpPr>
            <p:spPr>
              <a:xfrm>
                <a:off x="0" y="2355120"/>
                <a:ext cx="6780960" cy="235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0" y="2355120"/>
                <a:ext cx="6780960" cy="235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01" name=""/>
          <p:cNvSpPr/>
          <p:nvPr/>
        </p:nvSpPr>
        <p:spPr>
          <a:xfrm>
            <a:off x="0" y="2962440"/>
            <a:ext cx="6781680" cy="19191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ter grade, -1 to end: 7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ter grade, -1 to end: 9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ter grade, -1 to end: 9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ter grade, -1 to end: 8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ter grade, -1 to end: 7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ter grade, -1 to end: 6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ter grade, -1 to end: 8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ter grade, -1 to end: 8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ter grade, -1 to end: 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lass average is 82.5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1E6036-8971-4CB2-8205-F1384ADCEB5C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3.10  Nested control structur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 college has a list of test results 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= pass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= fail) for 10 stude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Write a program that analyzes the results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more than 8 students pass, print "Raise Tuition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ice th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e program must process 10 test resul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unter-controlled loop will be us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wo counters can be us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for number of passes, one for number of fai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ach test result is a number—either a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or a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the number is not a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we assume that it is a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22FCB7-2679-425F-BA22-DFE922957C37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3.10  Nested control structur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p level out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Analyze exam results and decide if tuition should be rais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rst Refin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Initialize varia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Input the ten quiz grades and count passes and fail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Print a summary of the exam results and decide if tuition should be rais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fine </a:t>
            </a:r>
            <a:r>
              <a:rPr b="0" i="1" lang="en-US" sz="2800" spc="-1" strike="noStrike">
                <a:solidFill>
                  <a:srgbClr val="ff3300"/>
                </a:solidFill>
                <a:latin typeface="Times New Roman"/>
              </a:rPr>
              <a:t>Initialize variabl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Initialize passes to zero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Initialize failures to zero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Initialize student counter to on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52010C-734A-4D5E-9434-271AA2A50ACE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3.10  Nested control structur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fine </a:t>
            </a:r>
            <a:r>
              <a:rPr b="0" i="1" lang="en-US" sz="2800" spc="-1" strike="noStrike">
                <a:solidFill>
                  <a:srgbClr val="ff3300"/>
                </a:solidFill>
                <a:latin typeface="Times New Roman"/>
              </a:rPr>
              <a:t>Input the ten quiz grades and count passes and failur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While student counter is less than or equal to ten</a:t>
            </a:r>
            <a:br>
              <a:rPr sz="2000"/>
            </a:b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Input the next exam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If the student pass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Add one to passes</a:t>
            </a:r>
            <a:br>
              <a:rPr sz="2000"/>
            </a:b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else</a:t>
            </a:r>
            <a:br>
              <a:rPr sz="2000"/>
            </a:b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   Add one to fail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Add one to student count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fine </a:t>
            </a:r>
            <a:r>
              <a:rPr b="0" i="1" lang="en-US" sz="2800" spc="-1" strike="noStrike">
                <a:solidFill>
                  <a:srgbClr val="ff3300"/>
                </a:solidFill>
                <a:latin typeface="Times New Roman"/>
              </a:rPr>
              <a:t>Print a summary of the exam results and decide if tuition should be rais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Print the number of pa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Print the number of fail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If more than eight students passed </a:t>
            </a:r>
            <a:br>
              <a:rPr sz="2000"/>
            </a:b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Print “Raise tuition”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627724-4C56-4FAB-BFFA-56FCB7B7997D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3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.2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Algorithms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	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uting probl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ll can be solved by executing a series of actions in a specific ord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orithm: procedure in terms 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ctions to be executed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e order in which these actions are to be execut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gram contro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pecify order in which statements are to execut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A7AFDB-9B9D-462F-8B91-DEEDE66AC5F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1.  Initialize variable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2.  Input data and count passes/failure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3.  Print results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409" name=""/>
          <p:cNvGrpSpPr/>
          <p:nvPr/>
        </p:nvGrpSpPr>
        <p:grpSpPr>
          <a:xfrm>
            <a:off x="0" y="0"/>
            <a:ext cx="6780960" cy="6629040"/>
            <a:chOff x="0" y="0"/>
            <a:chExt cx="6780960" cy="6629040"/>
          </a:xfrm>
        </p:grpSpPr>
        <p:grpSp>
          <p:nvGrpSpPr>
            <p:cNvPr id="410" name=""/>
            <p:cNvGrpSpPr/>
            <p:nvPr/>
          </p:nvGrpSpPr>
          <p:grpSpPr>
            <a:xfrm>
              <a:off x="0" y="0"/>
              <a:ext cx="6780960" cy="220680"/>
              <a:chOff x="0" y="0"/>
              <a:chExt cx="6780960" cy="220680"/>
            </a:xfrm>
          </p:grpSpPr>
          <p:sp>
            <p:nvSpPr>
              <p:cNvPr id="411" name=""/>
              <p:cNvSpPr/>
              <p:nvPr/>
            </p:nvSpPr>
            <p:spPr>
              <a:xfrm>
                <a:off x="0" y="0"/>
                <a:ext cx="6780960" cy="220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0" y="0"/>
                <a:ext cx="6780960" cy="220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* Fig. 3.10: fig03_10.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3" name=""/>
            <p:cNvGrpSpPr/>
            <p:nvPr/>
          </p:nvGrpSpPr>
          <p:grpSpPr>
            <a:xfrm>
              <a:off x="0" y="220680"/>
              <a:ext cx="6780960" cy="220680"/>
              <a:chOff x="0" y="220680"/>
              <a:chExt cx="6780960" cy="220680"/>
            </a:xfrm>
          </p:grpSpPr>
          <p:sp>
            <p:nvSpPr>
              <p:cNvPr id="414" name=""/>
              <p:cNvSpPr/>
              <p:nvPr/>
            </p:nvSpPr>
            <p:spPr>
              <a:xfrm>
                <a:off x="0" y="220680"/>
                <a:ext cx="6780960" cy="220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0" y="220680"/>
                <a:ext cx="6780960" cy="220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Analysis of examination results */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6" name=""/>
            <p:cNvGrpSpPr/>
            <p:nvPr/>
          </p:nvGrpSpPr>
          <p:grpSpPr>
            <a:xfrm>
              <a:off x="0" y="441720"/>
              <a:ext cx="6780960" cy="221040"/>
              <a:chOff x="0" y="441720"/>
              <a:chExt cx="6780960" cy="221040"/>
            </a:xfrm>
          </p:grpSpPr>
          <p:sp>
            <p:nvSpPr>
              <p:cNvPr id="417" name=""/>
              <p:cNvSpPr/>
              <p:nvPr/>
            </p:nvSpPr>
            <p:spPr>
              <a:xfrm>
                <a:off x="0" y="4417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0" y="4417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stdio.h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9" name=""/>
            <p:cNvGrpSpPr/>
            <p:nvPr/>
          </p:nvGrpSpPr>
          <p:grpSpPr>
            <a:xfrm>
              <a:off x="0" y="662760"/>
              <a:ext cx="6780960" cy="220680"/>
              <a:chOff x="0" y="662760"/>
              <a:chExt cx="6780960" cy="220680"/>
            </a:xfrm>
          </p:grpSpPr>
          <p:sp>
            <p:nvSpPr>
              <p:cNvPr id="420" name=""/>
              <p:cNvSpPr/>
              <p:nvPr/>
            </p:nvSpPr>
            <p:spPr>
              <a:xfrm>
                <a:off x="0" y="662760"/>
                <a:ext cx="6780960" cy="220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0" y="662760"/>
                <a:ext cx="6780960" cy="220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2" name=""/>
            <p:cNvGrpSpPr/>
            <p:nvPr/>
          </p:nvGrpSpPr>
          <p:grpSpPr>
            <a:xfrm>
              <a:off x="0" y="883800"/>
              <a:ext cx="6780960" cy="220680"/>
              <a:chOff x="0" y="883800"/>
              <a:chExt cx="6780960" cy="220680"/>
            </a:xfrm>
          </p:grpSpPr>
          <p:sp>
            <p:nvSpPr>
              <p:cNvPr id="423" name=""/>
              <p:cNvSpPr/>
              <p:nvPr/>
            </p:nvSpPr>
            <p:spPr>
              <a:xfrm>
                <a:off x="0" y="883800"/>
                <a:ext cx="6780960" cy="220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0" y="883800"/>
                <a:ext cx="6780960" cy="220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5" name=""/>
            <p:cNvGrpSpPr/>
            <p:nvPr/>
          </p:nvGrpSpPr>
          <p:grpSpPr>
            <a:xfrm>
              <a:off x="0" y="1104840"/>
              <a:ext cx="6780960" cy="220680"/>
              <a:chOff x="0" y="1104840"/>
              <a:chExt cx="6780960" cy="220680"/>
            </a:xfrm>
          </p:grpSpPr>
          <p:sp>
            <p:nvSpPr>
              <p:cNvPr id="426" name=""/>
              <p:cNvSpPr/>
              <p:nvPr/>
            </p:nvSpPr>
            <p:spPr>
              <a:xfrm>
                <a:off x="0" y="1104840"/>
                <a:ext cx="6780960" cy="220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0" y="1104840"/>
                <a:ext cx="6780960" cy="220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8" name=""/>
            <p:cNvGrpSpPr/>
            <p:nvPr/>
          </p:nvGrpSpPr>
          <p:grpSpPr>
            <a:xfrm>
              <a:off x="0" y="1325520"/>
              <a:ext cx="6780960" cy="221040"/>
              <a:chOff x="0" y="1325520"/>
              <a:chExt cx="6780960" cy="221040"/>
            </a:xfrm>
          </p:grpSpPr>
          <p:sp>
            <p:nvSpPr>
              <p:cNvPr id="429" name=""/>
              <p:cNvSpPr/>
              <p:nvPr/>
            </p:nvSpPr>
            <p:spPr>
              <a:xfrm>
                <a:off x="0" y="13255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0" y="13255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* initializing variables in declarations */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1" name=""/>
            <p:cNvGrpSpPr/>
            <p:nvPr/>
          </p:nvGrpSpPr>
          <p:grpSpPr>
            <a:xfrm>
              <a:off x="0" y="1546920"/>
              <a:ext cx="6780960" cy="220680"/>
              <a:chOff x="0" y="1546920"/>
              <a:chExt cx="6780960" cy="220680"/>
            </a:xfrm>
          </p:grpSpPr>
          <p:sp>
            <p:nvSpPr>
              <p:cNvPr id="432" name=""/>
              <p:cNvSpPr/>
              <p:nvPr/>
            </p:nvSpPr>
            <p:spPr>
              <a:xfrm>
                <a:off x="0" y="1546920"/>
                <a:ext cx="6780960" cy="220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0" y="1546920"/>
                <a:ext cx="6780960" cy="220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passes = 0, failures = 0, student = 1, resul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4" name=""/>
            <p:cNvGrpSpPr/>
            <p:nvPr/>
          </p:nvGrpSpPr>
          <p:grpSpPr>
            <a:xfrm>
              <a:off x="0" y="1767600"/>
              <a:ext cx="6780960" cy="220680"/>
              <a:chOff x="0" y="1767600"/>
              <a:chExt cx="6780960" cy="220680"/>
            </a:xfrm>
          </p:grpSpPr>
          <p:sp>
            <p:nvSpPr>
              <p:cNvPr id="435" name=""/>
              <p:cNvSpPr/>
              <p:nvPr/>
            </p:nvSpPr>
            <p:spPr>
              <a:xfrm>
                <a:off x="0" y="1767600"/>
                <a:ext cx="6780960" cy="220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0" y="1767600"/>
                <a:ext cx="6780960" cy="220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7" name=""/>
            <p:cNvGrpSpPr/>
            <p:nvPr/>
          </p:nvGrpSpPr>
          <p:grpSpPr>
            <a:xfrm>
              <a:off x="0" y="1988640"/>
              <a:ext cx="6780960" cy="220680"/>
              <a:chOff x="0" y="1988640"/>
              <a:chExt cx="6780960" cy="220680"/>
            </a:xfrm>
          </p:grpSpPr>
          <p:sp>
            <p:nvSpPr>
              <p:cNvPr id="438" name=""/>
              <p:cNvSpPr/>
              <p:nvPr/>
            </p:nvSpPr>
            <p:spPr>
              <a:xfrm>
                <a:off x="0" y="1988640"/>
                <a:ext cx="6780960" cy="220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0" y="1988640"/>
                <a:ext cx="6780960" cy="220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* process 10 students; counter-controlled loop */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0" name=""/>
            <p:cNvGrpSpPr/>
            <p:nvPr/>
          </p:nvGrpSpPr>
          <p:grpSpPr>
            <a:xfrm>
              <a:off x="0" y="2209680"/>
              <a:ext cx="6780960" cy="221040"/>
              <a:chOff x="0" y="2209680"/>
              <a:chExt cx="6780960" cy="221040"/>
            </a:xfrm>
          </p:grpSpPr>
          <p:sp>
            <p:nvSpPr>
              <p:cNvPr id="441" name=""/>
              <p:cNvSpPr/>
              <p:nvPr/>
            </p:nvSpPr>
            <p:spPr>
              <a:xfrm>
                <a:off x="0" y="22096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0" y="22096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whi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student &lt;= 10 )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3" name=""/>
            <p:cNvGrpSpPr/>
            <p:nvPr/>
          </p:nvGrpSpPr>
          <p:grpSpPr>
            <a:xfrm>
              <a:off x="0" y="2430720"/>
              <a:ext cx="6780960" cy="220680"/>
              <a:chOff x="0" y="2430720"/>
              <a:chExt cx="6780960" cy="220680"/>
            </a:xfrm>
          </p:grpSpPr>
          <p:sp>
            <p:nvSpPr>
              <p:cNvPr id="444" name=""/>
              <p:cNvSpPr/>
              <p:nvPr/>
            </p:nvSpPr>
            <p:spPr>
              <a:xfrm>
                <a:off x="0" y="2430720"/>
                <a:ext cx="6780960" cy="220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0" y="2430720"/>
                <a:ext cx="6780960" cy="220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printf( "Enter result ( 1=pass,2=fail ): "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6" name=""/>
            <p:cNvGrpSpPr/>
            <p:nvPr/>
          </p:nvGrpSpPr>
          <p:grpSpPr>
            <a:xfrm>
              <a:off x="0" y="2651760"/>
              <a:ext cx="6780960" cy="220680"/>
              <a:chOff x="0" y="2651760"/>
              <a:chExt cx="6780960" cy="220680"/>
            </a:xfrm>
          </p:grpSpPr>
          <p:sp>
            <p:nvSpPr>
              <p:cNvPr id="447" name=""/>
              <p:cNvSpPr/>
              <p:nvPr/>
            </p:nvSpPr>
            <p:spPr>
              <a:xfrm>
                <a:off x="0" y="2651760"/>
                <a:ext cx="6780960" cy="220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0" y="2651760"/>
                <a:ext cx="6780960" cy="220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scanf( "%d", &amp;result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9" name=""/>
            <p:cNvGrpSpPr/>
            <p:nvPr/>
          </p:nvGrpSpPr>
          <p:grpSpPr>
            <a:xfrm>
              <a:off x="0" y="2872800"/>
              <a:ext cx="6780960" cy="220680"/>
              <a:chOff x="0" y="2872800"/>
              <a:chExt cx="6780960" cy="220680"/>
            </a:xfrm>
          </p:grpSpPr>
          <p:sp>
            <p:nvSpPr>
              <p:cNvPr id="450" name=""/>
              <p:cNvSpPr/>
              <p:nvPr/>
            </p:nvSpPr>
            <p:spPr>
              <a:xfrm>
                <a:off x="0" y="2872800"/>
                <a:ext cx="6780960" cy="220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0" y="2872800"/>
                <a:ext cx="6780960" cy="220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2" name=""/>
            <p:cNvGrpSpPr/>
            <p:nvPr/>
          </p:nvGrpSpPr>
          <p:grpSpPr>
            <a:xfrm>
              <a:off x="0" y="3093480"/>
              <a:ext cx="6780960" cy="221040"/>
              <a:chOff x="0" y="3093480"/>
              <a:chExt cx="6780960" cy="221040"/>
            </a:xfrm>
          </p:grpSpPr>
          <p:sp>
            <p:nvSpPr>
              <p:cNvPr id="453" name=""/>
              <p:cNvSpPr/>
              <p:nvPr/>
            </p:nvSpPr>
            <p:spPr>
              <a:xfrm>
                <a:off x="0" y="30934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0" y="30934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result == 1 )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* if/else nested in while */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5" name=""/>
            <p:cNvGrpSpPr/>
            <p:nvPr/>
          </p:nvGrpSpPr>
          <p:grpSpPr>
            <a:xfrm>
              <a:off x="0" y="3314880"/>
              <a:ext cx="6780960" cy="220680"/>
              <a:chOff x="0" y="3314880"/>
              <a:chExt cx="6780960" cy="220680"/>
            </a:xfrm>
          </p:grpSpPr>
          <p:sp>
            <p:nvSpPr>
              <p:cNvPr id="456" name=""/>
              <p:cNvSpPr/>
              <p:nvPr/>
            </p:nvSpPr>
            <p:spPr>
              <a:xfrm>
                <a:off x="0" y="3314880"/>
                <a:ext cx="6780960" cy="220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0" y="3314880"/>
                <a:ext cx="6780960" cy="220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passes = passes + 1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8" name=""/>
            <p:cNvGrpSpPr/>
            <p:nvPr/>
          </p:nvGrpSpPr>
          <p:grpSpPr>
            <a:xfrm>
              <a:off x="0" y="3535560"/>
              <a:ext cx="6780960" cy="220680"/>
              <a:chOff x="0" y="3535560"/>
              <a:chExt cx="6780960" cy="220680"/>
            </a:xfrm>
          </p:grpSpPr>
          <p:sp>
            <p:nvSpPr>
              <p:cNvPr id="459" name=""/>
              <p:cNvSpPr/>
              <p:nvPr/>
            </p:nvSpPr>
            <p:spPr>
              <a:xfrm>
                <a:off x="0" y="3535560"/>
                <a:ext cx="6780960" cy="220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0" y="3535560"/>
                <a:ext cx="6780960" cy="220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els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0" y="3756600"/>
              <a:ext cx="6780960" cy="220680"/>
              <a:chOff x="0" y="3756600"/>
              <a:chExt cx="6780960" cy="220680"/>
            </a:xfrm>
          </p:grpSpPr>
          <p:sp>
            <p:nvSpPr>
              <p:cNvPr id="462" name=""/>
              <p:cNvSpPr/>
              <p:nvPr/>
            </p:nvSpPr>
            <p:spPr>
              <a:xfrm>
                <a:off x="0" y="3756600"/>
                <a:ext cx="6780960" cy="220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0" y="3756600"/>
                <a:ext cx="6780960" cy="220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failures = failures + 1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4" name=""/>
            <p:cNvGrpSpPr/>
            <p:nvPr/>
          </p:nvGrpSpPr>
          <p:grpSpPr>
            <a:xfrm>
              <a:off x="0" y="3977640"/>
              <a:ext cx="6780960" cy="220680"/>
              <a:chOff x="0" y="3977640"/>
              <a:chExt cx="6780960" cy="220680"/>
            </a:xfrm>
          </p:grpSpPr>
          <p:sp>
            <p:nvSpPr>
              <p:cNvPr id="465" name=""/>
              <p:cNvSpPr/>
              <p:nvPr/>
            </p:nvSpPr>
            <p:spPr>
              <a:xfrm>
                <a:off x="0" y="3977640"/>
                <a:ext cx="6780960" cy="220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0" y="3977640"/>
                <a:ext cx="6780960" cy="220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7" name=""/>
            <p:cNvGrpSpPr/>
            <p:nvPr/>
          </p:nvGrpSpPr>
          <p:grpSpPr>
            <a:xfrm>
              <a:off x="0" y="4198680"/>
              <a:ext cx="6780960" cy="221040"/>
              <a:chOff x="0" y="4198680"/>
              <a:chExt cx="6780960" cy="221040"/>
            </a:xfrm>
          </p:grpSpPr>
          <p:sp>
            <p:nvSpPr>
              <p:cNvPr id="468" name=""/>
              <p:cNvSpPr/>
              <p:nvPr/>
            </p:nvSpPr>
            <p:spPr>
              <a:xfrm>
                <a:off x="0" y="41986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0" y="41986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student = student + 1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0" name=""/>
            <p:cNvGrpSpPr/>
            <p:nvPr/>
          </p:nvGrpSpPr>
          <p:grpSpPr>
            <a:xfrm>
              <a:off x="0" y="4419720"/>
              <a:ext cx="6780960" cy="220680"/>
              <a:chOff x="0" y="4419720"/>
              <a:chExt cx="6780960" cy="220680"/>
            </a:xfrm>
          </p:grpSpPr>
          <p:sp>
            <p:nvSpPr>
              <p:cNvPr id="471" name=""/>
              <p:cNvSpPr/>
              <p:nvPr/>
            </p:nvSpPr>
            <p:spPr>
              <a:xfrm>
                <a:off x="0" y="4419720"/>
                <a:ext cx="6780960" cy="220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0" y="4419720"/>
                <a:ext cx="6780960" cy="220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3" name=""/>
            <p:cNvGrpSpPr/>
            <p:nvPr/>
          </p:nvGrpSpPr>
          <p:grpSpPr>
            <a:xfrm>
              <a:off x="0" y="4640400"/>
              <a:ext cx="6780960" cy="220680"/>
              <a:chOff x="0" y="4640400"/>
              <a:chExt cx="6780960" cy="220680"/>
            </a:xfrm>
          </p:grpSpPr>
          <p:sp>
            <p:nvSpPr>
              <p:cNvPr id="474" name=""/>
              <p:cNvSpPr/>
              <p:nvPr/>
            </p:nvSpPr>
            <p:spPr>
              <a:xfrm>
                <a:off x="0" y="4640400"/>
                <a:ext cx="6780960" cy="220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0" y="4640400"/>
                <a:ext cx="6780960" cy="220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0" y="4861440"/>
              <a:ext cx="6780960" cy="220680"/>
              <a:chOff x="0" y="4861440"/>
              <a:chExt cx="6780960" cy="220680"/>
            </a:xfrm>
          </p:grpSpPr>
          <p:sp>
            <p:nvSpPr>
              <p:cNvPr id="477" name=""/>
              <p:cNvSpPr/>
              <p:nvPr/>
            </p:nvSpPr>
            <p:spPr>
              <a:xfrm>
                <a:off x="0" y="4861440"/>
                <a:ext cx="6780960" cy="220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0" y="4861440"/>
                <a:ext cx="6780960" cy="220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printf( "Passed %d\n", passes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9" name=""/>
            <p:cNvGrpSpPr/>
            <p:nvPr/>
          </p:nvGrpSpPr>
          <p:grpSpPr>
            <a:xfrm>
              <a:off x="0" y="5082480"/>
              <a:ext cx="6780960" cy="221040"/>
              <a:chOff x="0" y="5082480"/>
              <a:chExt cx="6780960" cy="221040"/>
            </a:xfrm>
          </p:grpSpPr>
          <p:sp>
            <p:nvSpPr>
              <p:cNvPr id="480" name=""/>
              <p:cNvSpPr/>
              <p:nvPr/>
            </p:nvSpPr>
            <p:spPr>
              <a:xfrm>
                <a:off x="0" y="50824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0" y="50824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printf( "Failed %d\n", failures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2" name=""/>
            <p:cNvGrpSpPr/>
            <p:nvPr/>
          </p:nvGrpSpPr>
          <p:grpSpPr>
            <a:xfrm>
              <a:off x="0" y="5303520"/>
              <a:ext cx="6780960" cy="220680"/>
              <a:chOff x="0" y="5303520"/>
              <a:chExt cx="6780960" cy="220680"/>
            </a:xfrm>
          </p:grpSpPr>
          <p:sp>
            <p:nvSpPr>
              <p:cNvPr id="483" name=""/>
              <p:cNvSpPr/>
              <p:nvPr/>
            </p:nvSpPr>
            <p:spPr>
              <a:xfrm>
                <a:off x="0" y="5303520"/>
                <a:ext cx="6780960" cy="220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0" y="5303520"/>
                <a:ext cx="6780960" cy="220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5" name=""/>
            <p:cNvGrpSpPr/>
            <p:nvPr/>
          </p:nvGrpSpPr>
          <p:grpSpPr>
            <a:xfrm>
              <a:off x="0" y="5524560"/>
              <a:ext cx="6780960" cy="220680"/>
              <a:chOff x="0" y="5524560"/>
              <a:chExt cx="6780960" cy="220680"/>
            </a:xfrm>
          </p:grpSpPr>
          <p:sp>
            <p:nvSpPr>
              <p:cNvPr id="486" name=""/>
              <p:cNvSpPr/>
              <p:nvPr/>
            </p:nvSpPr>
            <p:spPr>
              <a:xfrm>
                <a:off x="0" y="5524560"/>
                <a:ext cx="6780960" cy="220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0" y="5524560"/>
                <a:ext cx="6780960" cy="220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passes &gt; 8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8" name=""/>
            <p:cNvGrpSpPr/>
            <p:nvPr/>
          </p:nvGrpSpPr>
          <p:grpSpPr>
            <a:xfrm>
              <a:off x="0" y="5745600"/>
              <a:ext cx="6780960" cy="220680"/>
              <a:chOff x="0" y="5745600"/>
              <a:chExt cx="6780960" cy="220680"/>
            </a:xfrm>
          </p:grpSpPr>
          <p:sp>
            <p:nvSpPr>
              <p:cNvPr id="489" name=""/>
              <p:cNvSpPr/>
              <p:nvPr/>
            </p:nvSpPr>
            <p:spPr>
              <a:xfrm>
                <a:off x="0" y="5745600"/>
                <a:ext cx="6780960" cy="220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0" y="5745600"/>
                <a:ext cx="6780960" cy="220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printf( "Raise tuition\n"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1" name=""/>
            <p:cNvGrpSpPr/>
            <p:nvPr/>
          </p:nvGrpSpPr>
          <p:grpSpPr>
            <a:xfrm>
              <a:off x="0" y="5966280"/>
              <a:ext cx="6780960" cy="221040"/>
              <a:chOff x="0" y="5966280"/>
              <a:chExt cx="6780960" cy="221040"/>
            </a:xfrm>
          </p:grpSpPr>
          <p:sp>
            <p:nvSpPr>
              <p:cNvPr id="492" name=""/>
              <p:cNvSpPr/>
              <p:nvPr/>
            </p:nvSpPr>
            <p:spPr>
              <a:xfrm>
                <a:off x="0" y="59662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0" y="59662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4" name=""/>
            <p:cNvGrpSpPr/>
            <p:nvPr/>
          </p:nvGrpSpPr>
          <p:grpSpPr>
            <a:xfrm>
              <a:off x="0" y="6187680"/>
              <a:ext cx="6780960" cy="220680"/>
              <a:chOff x="0" y="6187680"/>
              <a:chExt cx="6780960" cy="220680"/>
            </a:xfrm>
          </p:grpSpPr>
          <p:sp>
            <p:nvSpPr>
              <p:cNvPr id="495" name=""/>
              <p:cNvSpPr/>
              <p:nvPr/>
            </p:nvSpPr>
            <p:spPr>
              <a:xfrm>
                <a:off x="0" y="6187680"/>
                <a:ext cx="6780960" cy="220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0" y="6187680"/>
                <a:ext cx="6780960" cy="220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0;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* successful termination */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7" name=""/>
            <p:cNvGrpSpPr/>
            <p:nvPr/>
          </p:nvGrpSpPr>
          <p:grpSpPr>
            <a:xfrm>
              <a:off x="0" y="6408360"/>
              <a:ext cx="6780960" cy="220680"/>
              <a:chOff x="0" y="6408360"/>
              <a:chExt cx="6780960" cy="220680"/>
            </a:xfrm>
          </p:grpSpPr>
          <p:sp>
            <p:nvSpPr>
              <p:cNvPr id="498" name=""/>
              <p:cNvSpPr/>
              <p:nvPr/>
            </p:nvSpPr>
            <p:spPr>
              <a:xfrm>
                <a:off x="0" y="6408360"/>
                <a:ext cx="6780960" cy="220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0" y="6408360"/>
                <a:ext cx="6780960" cy="220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E611B5-7747-4AB3-A5A5-E2B86943398D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501" name=""/>
          <p:cNvSpPr/>
          <p:nvPr/>
        </p:nvSpPr>
        <p:spPr>
          <a:xfrm>
            <a:off x="0" y="0"/>
            <a:ext cx="6781680" cy="26492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ter Result (1=pass,2=fail):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ter Result (1=pass,2=fail):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ter Result (1=pass,2=fail):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ter Result (1=pass,2=fail):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ter Result (1=pass,2=fail):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ter Result (1=pass,2=fail):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ter Result (1=pass,2=fail):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ter Result (1=pass,2=fail):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ter Result (1=pass,2=fail):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ter Result (1=pass,2=fail):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assed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ailed 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D5FA23-BAF0-4D86-B401-7880B9ACA259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3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.11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Assignment Operator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ignment operators abbreviate assignment express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 = c + 3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n be abbreviated a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 += 3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using the addition assignment opera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ements of the fo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ariab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ariab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operat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xpress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n be rewritten 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ariab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operator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xpress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s of other assignment operator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 -= 4     (d = d - 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 *= 5     (e = e * 5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 /= 3     (f = f / 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 %= 9     (g = g % 9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D702C4-820B-44A9-9031-F1D21CBA6EB9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3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.12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Increment and Decrement Operator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rement operator (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+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n be used instead of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+=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rement operator (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-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n be used instead of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-=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incr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perator is used before the variable 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++c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--c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Variable is changed before the expression it is in is evaluat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tincr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perator is used after the variable 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++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--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pression executes before the variable is chang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942ABD-B98D-4034-89EA-4829A58DBD87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3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.12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Increment and Decrement Operator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quals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ntf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"%d", ++c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i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6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ntf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"%d", c++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i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5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 either case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now has the value of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variable not in an expres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eincrementing and postincrementing have the same effec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++c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ntf( “%d”, c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Has the same effect 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++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ntf( “%d”, c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BECD4A-CF05-4BFD-A93A-B7D2F56A11F5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3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.3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Pseudocode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	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seudoco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rtificial, informal language that helps us develop algorithm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imilar to everyday English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ot actually executed on computer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Helps us “think out” a program before writing it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sy to convert into a corresponding C++ progr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ists only of executable stat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B2C4BE-E176-437B-8646-CE464119BCD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3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.4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Control Structur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quential execution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tatements executed one after the other in the order writt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fer of contr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When the next statement executed is not the next one in sequen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veruse of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goto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statements led to many problem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hm and Jacopin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ll programs written in terms of 3 control structu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quence structures: Built into C.  Programs executed sequentially by defa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lection structures: C has three types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t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etition structures: C has three types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5412AA-F50E-4603-952D-69AFF8EDEC3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3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.4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Control Structur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440" y="1066320"/>
            <a:ext cx="792468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lowchar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Graphical representation of an algorith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rawn using certain special-purpose symbols connected by arrows called flowlin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ctangle symbol (action symbol)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icates any type of 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val symbol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icates the beginning or end of a program or a section of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ngle-entry/single-exit control structur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nnect exit point of one control structure to entry point of the next (control-structure stacking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akes programs easy to buil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089DF1-C722-4AA3-BE73-092DF84F68E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3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.5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The </a:t>
            </a:r>
            <a:r>
              <a:rPr b="1" sz="2800" spc="-1" strike="noStrike">
                <a:solidFill>
                  <a:srgbClr val="ff3300"/>
                </a:solidFill>
                <a:latin typeface="Courier New"/>
              </a:rPr>
              <a:t>if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 Selection Structur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lection structure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d to choose among alternative courses of ac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seudocode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If student’s grade is greater than or equal to 60</a:t>
            </a:r>
            <a:br>
              <a:rPr sz="2000"/>
            </a:b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Print “Passed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condition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int statement executed and program goes on to next statem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fals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print statement is ignored and the program goes onto the next statem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denting makes programs easier to rea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 ignores whitespace charac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AEB483-6FAE-4E50-B346-9213B101F78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3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.5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The </a:t>
            </a:r>
            <a:r>
              <a:rPr b="1" sz="2800" spc="-1" strike="noStrike">
                <a:solidFill>
                  <a:srgbClr val="ff3300"/>
                </a:solidFill>
                <a:latin typeface="Courier New"/>
              </a:rPr>
              <a:t>if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 Selection Structur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seudocode statement in C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 ( grade &gt;= 60 )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printf( "Passed\n" )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 code corresponds closely to the pseudocod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amond symbol (decision symbo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dicates decision is to be mad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ntains an expression that can b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fal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est the condition, follow appropriate path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3F55B9-3359-441B-8E15-055489EC983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3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.5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The </a:t>
            </a:r>
            <a:r>
              <a:rPr b="1" sz="2800" spc="-1" strike="noStrike">
                <a:solidFill>
                  <a:srgbClr val="ff3300"/>
                </a:solidFill>
                <a:latin typeface="Courier New"/>
              </a:rPr>
              <a:t>if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 Selection Structur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tructure is a single-entry/single-exit 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1066680" y="2209680"/>
            <a:ext cx="4380840" cy="2798280"/>
            <a:chOff x="1066680" y="2209680"/>
            <a:chExt cx="4380840" cy="2798280"/>
          </a:xfrm>
        </p:grpSpPr>
        <p:sp>
          <p:nvSpPr>
            <p:cNvPr id="113" name=""/>
            <p:cNvSpPr/>
            <p:nvPr/>
          </p:nvSpPr>
          <p:spPr>
            <a:xfrm>
              <a:off x="2197440" y="2372040"/>
              <a:ext cx="360" cy="65232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19958"/>
                  </a:move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  <a:head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197440" y="4192920"/>
              <a:ext cx="360" cy="65232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19958"/>
                  </a:move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  <a:head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126880" y="2209680"/>
              <a:ext cx="140760" cy="162360"/>
            </a:xfrm>
            <a:prstGeom prst="ellipse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126880" y="4845600"/>
              <a:ext cx="140760" cy="162360"/>
            </a:xfrm>
            <a:prstGeom prst="ellipse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327840" y="3609360"/>
              <a:ext cx="565200" cy="3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58" y="0"/>
                  </a:move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  <a:head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214720" y="4345560"/>
              <a:ext cx="2543760" cy="3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91" y="0"/>
                  </a:move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741200" y="3775680"/>
              <a:ext cx="360" cy="5698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0" y="19952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357360" y="3333240"/>
              <a:ext cx="500400" cy="32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vantGarde"/>
                  <a:ea typeface="Times New Roman"/>
                </a:rPr>
                <a:t>tr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755360" y="4407120"/>
              <a:ext cx="612000" cy="3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vantGarde"/>
                  <a:ea typeface="Times New Roman"/>
                </a:rPr>
                <a:t>fal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2" name=""/>
            <p:cNvGrpSpPr/>
            <p:nvPr/>
          </p:nvGrpSpPr>
          <p:grpSpPr>
            <a:xfrm>
              <a:off x="1066680" y="3024360"/>
              <a:ext cx="2261160" cy="1168560"/>
              <a:chOff x="1066680" y="3024360"/>
              <a:chExt cx="2261160" cy="1168560"/>
            </a:xfrm>
          </p:grpSpPr>
          <p:sp>
            <p:nvSpPr>
              <p:cNvPr id="123" name=""/>
              <p:cNvSpPr/>
              <p:nvPr/>
            </p:nvSpPr>
            <p:spPr>
              <a:xfrm>
                <a:off x="1066680" y="3024360"/>
                <a:ext cx="2261160" cy="11685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90" y="10000"/>
                    </a:moveTo>
                    <a:lnTo>
                      <a:pt x="9990" y="19977"/>
                    </a:lnTo>
                    <a:lnTo>
                      <a:pt x="0" y="10000"/>
                    </a:lnTo>
                    <a:lnTo>
                      <a:pt x="9990" y="0"/>
                    </a:lnTo>
                    <a:lnTo>
                      <a:pt x="19990" y="10000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1560240" y="3513600"/>
                <a:ext cx="1272960" cy="24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vantGarde"/>
                    <a:ea typeface="Times New Roman"/>
                  </a:rPr>
                  <a:t>grade &gt;= 6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5" name=""/>
            <p:cNvGrpSpPr/>
            <p:nvPr/>
          </p:nvGrpSpPr>
          <p:grpSpPr>
            <a:xfrm>
              <a:off x="3893400" y="3445920"/>
              <a:ext cx="1554120" cy="325800"/>
              <a:chOff x="3893400" y="3445920"/>
              <a:chExt cx="1554120" cy="325800"/>
            </a:xfrm>
          </p:grpSpPr>
          <p:sp>
            <p:nvSpPr>
              <p:cNvPr id="126" name=""/>
              <p:cNvSpPr/>
              <p:nvPr/>
            </p:nvSpPr>
            <p:spPr>
              <a:xfrm>
                <a:off x="3893400" y="3445920"/>
                <a:ext cx="1554120" cy="3258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85" y="0"/>
                    </a:moveTo>
                    <a:lnTo>
                      <a:pt x="19985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85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90960" y="3520440"/>
                <a:ext cx="1357560" cy="232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vantGarde"/>
                    <a:ea typeface="Times New Roman"/>
                  </a:rPr>
                  <a:t>print “Passed”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0" y="1546200"/>
            <a:ext cx="5486400" cy="15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3724200"/>
            <a:ext cx="5486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867280" y="2498760"/>
            <a:ext cx="2667240" cy="23115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decision can be made on any expressio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ero -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als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nzero -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r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3 - 4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r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BC627A-73CC-4372-8E28-F11FF3FFAE0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12T17:02:08Z</dcterms:created>
  <dc:creator>kalid</dc:creator>
  <dc:description/>
  <dc:language>en-US</dc:language>
  <cp:lastModifiedBy>jason</cp:lastModifiedBy>
  <dcterms:modified xsi:type="dcterms:W3CDTF">2000-12-11T16:34:11Z</dcterms:modified>
  <cp:revision>601</cp:revision>
  <dc:subject/>
  <dc:title>Chapter 2 - Control Structures</dc:title>
</cp:coreProperties>
</file>