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F1BB-9836-495D-BB91-41A03CCAE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243C-50B9-4571-B134-6EAD6E5FA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3A9B-5618-4D79-89B0-DE8383F0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4DCF-468C-4DD4-8B91-B27020201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AE0C-7BF7-4D12-8067-36246338C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B42C-7894-4997-B08B-E4A09B6887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91F0-DEC9-4D55-952E-A974D35A49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177D-E485-4F76-B5A2-BD2BD7C3C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29A7-8C41-40CD-BA8B-873DB16713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5414-6FDA-43D6-8F6C-566FEFA045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01B-C3D4-437D-9A6D-82664990F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3602-5206-4821-AB0B-222FF1522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8D6B-19F8-4705-A2AE-941E563F20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DD02-D13F-4ADF-8BA8-C13B060E41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7CD0-900F-4ABF-9E24-1592EE76DA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1C08-7DF7-4DD6-A5A8-8331DA3BBA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5C6F-E33B-487B-B574-A14569812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5B75-74B0-4347-83B9-5FAAC7AAD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0C0B-2550-47E4-83D2-293F0442F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FF79-3014-47E8-B402-C5EAF6AE8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3D24-674E-4CE2-9667-0E8328815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1FF0-D54F-4A5E-AD76-2A272EECC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B034-3E79-4351-95E9-8FE1E9F43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BF50-1F27-4123-962B-E5DA82A4B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181-87F8-4E50-BE43-0D86E458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640080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F47F-709B-40B7-8857-B4AC2ED0A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Program Control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696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Essentials of 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unter-Controlled Re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For Repeti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For Structure: Notes and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the Fo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Switch Multiple-Selec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Do/While Repeti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break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inu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ogical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fusing Equality 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==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 and Assignment 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d Programming Summ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41F2-1336-4255-959F-6152B89745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when a variable or expression is tested for all the values it can assume and different actions are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and an optiona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 value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1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2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its from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7360"/>
            <a:ext cx="54864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32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308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7BE9-96BB-47C7-A355-69FB41BC2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1600200"/>
            <a:ext cx="7390800" cy="4876200"/>
            <a:chOff x="914400" y="1600200"/>
            <a:chExt cx="7390800" cy="4876200"/>
          </a:xfrm>
        </p:grpSpPr>
        <p:sp>
          <p:nvSpPr>
            <p:cNvPr id="172" name=""/>
            <p:cNvSpPr/>
            <p:nvPr/>
          </p:nvSpPr>
          <p:spPr>
            <a:xfrm>
              <a:off x="1936800" y="1721520"/>
              <a:ext cx="360" cy="34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55800" y="1600200"/>
              <a:ext cx="160560" cy="113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5200" y="2303640"/>
              <a:ext cx="644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4000" y="2106360"/>
              <a:ext cx="571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79480" y="2303640"/>
              <a:ext cx="645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5800" y="6362280"/>
              <a:ext cx="160560" cy="1141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6800" y="3466440"/>
              <a:ext cx="360" cy="45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7720" y="3468960"/>
              <a:ext cx="6991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55800" y="3951720"/>
              <a:ext cx="160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00480" y="2303640"/>
              <a:ext cx="484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01600" y="2303640"/>
              <a:ext cx="360" cy="38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56600" y="6172560"/>
              <a:ext cx="634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968400" y="2068200"/>
              <a:ext cx="1936800" cy="468360"/>
              <a:chOff x="968400" y="2068200"/>
              <a:chExt cx="1936800" cy="468360"/>
            </a:xfrm>
          </p:grpSpPr>
          <p:sp>
            <p:nvSpPr>
              <p:cNvPr id="185" name=""/>
              <p:cNvSpPr/>
              <p:nvPr/>
            </p:nvSpPr>
            <p:spPr>
              <a:xfrm>
                <a:off x="968400" y="2068200"/>
                <a:ext cx="1936800" cy="468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89520" y="2248560"/>
                <a:ext cx="12927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550320" y="2201400"/>
              <a:ext cx="1829160" cy="201960"/>
              <a:chOff x="3550320" y="2201400"/>
              <a:chExt cx="1829160" cy="201960"/>
            </a:xfrm>
          </p:grpSpPr>
          <p:sp>
            <p:nvSpPr>
              <p:cNvPr id="188" name=""/>
              <p:cNvSpPr/>
              <p:nvPr/>
            </p:nvSpPr>
            <p:spPr>
              <a:xfrm>
                <a:off x="3603960" y="2248560"/>
                <a:ext cx="172044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 action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50320" y="2201400"/>
                <a:ext cx="182916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025320" y="2201400"/>
              <a:ext cx="1774800" cy="201960"/>
              <a:chOff x="6025320" y="2201400"/>
              <a:chExt cx="1774800" cy="201960"/>
            </a:xfrm>
          </p:grpSpPr>
          <p:sp>
            <p:nvSpPr>
              <p:cNvPr id="191" name=""/>
              <p:cNvSpPr/>
              <p:nvPr/>
            </p:nvSpPr>
            <p:spPr>
              <a:xfrm>
                <a:off x="6077520" y="2248560"/>
                <a:ext cx="166860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25320" y="2201400"/>
                <a:ext cx="177480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936800" y="2531880"/>
              <a:ext cx="360" cy="45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05200" y="3224160"/>
              <a:ext cx="644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79480" y="3224160"/>
              <a:ext cx="645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0480" y="3224160"/>
              <a:ext cx="484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68400" y="2988360"/>
              <a:ext cx="1936800" cy="468360"/>
              <a:chOff x="968400" y="2988360"/>
              <a:chExt cx="1936800" cy="468360"/>
            </a:xfrm>
          </p:grpSpPr>
          <p:sp>
            <p:nvSpPr>
              <p:cNvPr id="198" name=""/>
              <p:cNvSpPr/>
              <p:nvPr/>
            </p:nvSpPr>
            <p:spPr>
              <a:xfrm>
                <a:off x="968400" y="2988360"/>
                <a:ext cx="1936800" cy="468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89520" y="3168720"/>
                <a:ext cx="12927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550320" y="3121560"/>
              <a:ext cx="1829160" cy="201960"/>
              <a:chOff x="3550320" y="3121560"/>
              <a:chExt cx="1829160" cy="201960"/>
            </a:xfrm>
          </p:grpSpPr>
          <p:sp>
            <p:nvSpPr>
              <p:cNvPr id="201" name=""/>
              <p:cNvSpPr/>
              <p:nvPr/>
            </p:nvSpPr>
            <p:spPr>
              <a:xfrm>
                <a:off x="3603960" y="3168720"/>
                <a:ext cx="172044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 action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50320" y="3121560"/>
                <a:ext cx="182916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025320" y="3121560"/>
              <a:ext cx="1774800" cy="201960"/>
              <a:chOff x="6025320" y="3121560"/>
              <a:chExt cx="1774800" cy="201960"/>
            </a:xfrm>
          </p:grpSpPr>
          <p:sp>
            <p:nvSpPr>
              <p:cNvPr id="204" name=""/>
              <p:cNvSpPr/>
              <p:nvPr/>
            </p:nvSpPr>
            <p:spPr>
              <a:xfrm>
                <a:off x="6077520" y="3168720"/>
                <a:ext cx="166860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25320" y="3121560"/>
                <a:ext cx="177480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097720" y="2577240"/>
              <a:ext cx="6991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36800" y="6019920"/>
              <a:ext cx="360" cy="340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97720" y="5371200"/>
              <a:ext cx="6991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6800" y="4434120"/>
              <a:ext cx="360" cy="45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05200" y="5126040"/>
              <a:ext cx="644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79480" y="5126040"/>
              <a:ext cx="645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00480" y="5126040"/>
              <a:ext cx="484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968400" y="4890960"/>
              <a:ext cx="1936800" cy="468000"/>
              <a:chOff x="968400" y="4890960"/>
              <a:chExt cx="1936800" cy="468000"/>
            </a:xfrm>
          </p:grpSpPr>
          <p:sp>
            <p:nvSpPr>
              <p:cNvPr id="214" name=""/>
              <p:cNvSpPr/>
              <p:nvPr/>
            </p:nvSpPr>
            <p:spPr>
              <a:xfrm>
                <a:off x="968400" y="4890960"/>
                <a:ext cx="1936800" cy="468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89520" y="5071320"/>
                <a:ext cx="12927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550320" y="5024160"/>
              <a:ext cx="1829160" cy="201960"/>
              <a:chOff x="3550320" y="5024160"/>
              <a:chExt cx="1829160" cy="201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603960" y="5071320"/>
                <a:ext cx="172044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 action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50320" y="5024160"/>
                <a:ext cx="182916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025320" y="5024160"/>
              <a:ext cx="1774800" cy="201960"/>
              <a:chOff x="6025320" y="5024160"/>
              <a:chExt cx="1774800" cy="201960"/>
            </a:xfrm>
          </p:grpSpPr>
          <p:sp>
            <p:nvSpPr>
              <p:cNvPr id="220" name=""/>
              <p:cNvSpPr/>
              <p:nvPr/>
            </p:nvSpPr>
            <p:spPr>
              <a:xfrm>
                <a:off x="6077520" y="5071320"/>
                <a:ext cx="166860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25320" y="5024160"/>
                <a:ext cx="177480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844000" y="3033720"/>
              <a:ext cx="571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44000" y="4933440"/>
              <a:ext cx="57168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36800" y="5358960"/>
              <a:ext cx="360" cy="45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914400" y="5815800"/>
              <a:ext cx="2044080" cy="201960"/>
              <a:chOff x="914400" y="5815800"/>
              <a:chExt cx="2044080" cy="201960"/>
            </a:xfrm>
          </p:grpSpPr>
          <p:sp>
            <p:nvSpPr>
              <p:cNvPr id="226" name=""/>
              <p:cNvSpPr/>
              <p:nvPr/>
            </p:nvSpPr>
            <p:spPr>
              <a:xfrm>
                <a:off x="974880" y="5862960"/>
                <a:ext cx="192204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fault action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14400" y="5815800"/>
                <a:ext cx="2044080" cy="201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1FD3-BD9A-4378-9D49-5985D4662D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4.7: fig04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ounting letter grade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ount = 0, bCount = 0, cCount = 0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dCount = 0, f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 "Enter the letter grades.\n"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 "Enter the EOF character to end input.\n" 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grade = getchar() ) != EOF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)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itch nested in wh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rade was uppercase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aCoun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or lowercase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rade was uppercase B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bCoun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or lowercase b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rade was uppercase C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cCoun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or lowercase c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rade was uppercase 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dCoun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or lowercase d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A958-DAA2-4C29-AA6E-204AB2A87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328" name=""/>
            <p:cNvGrpSpPr/>
            <p:nvPr/>
          </p:nvGrpSpPr>
          <p:grpSpPr>
            <a:xfrm>
              <a:off x="0" y="0"/>
              <a:ext cx="6780960" cy="272880"/>
              <a:chOff x="0" y="0"/>
              <a:chExt cx="6780960" cy="27288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272880"/>
              <a:ext cx="6780960" cy="272880"/>
              <a:chOff x="0" y="272880"/>
              <a:chExt cx="6780960" cy="27288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2728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2728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grade was uppercase F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545760"/>
              <a:ext cx="6780960" cy="272880"/>
              <a:chOff x="0" y="545760"/>
              <a:chExt cx="6780960" cy="27288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545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545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fCoun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or lowercase f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819000"/>
              <a:ext cx="6780960" cy="272880"/>
              <a:chOff x="0" y="819000"/>
              <a:chExt cx="6780960" cy="27288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8190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8190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1091880"/>
              <a:ext cx="6780960" cy="272880"/>
              <a:chOff x="0" y="1091880"/>
              <a:chExt cx="6780960" cy="27288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10918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10918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1365120"/>
              <a:ext cx="6780960" cy="272880"/>
              <a:chOff x="0" y="1365120"/>
              <a:chExt cx="6780960" cy="27288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13651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13651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n'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' 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gnore these in inpu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1638000"/>
              <a:ext cx="6780960" cy="272880"/>
              <a:chOff x="0" y="1638000"/>
              <a:chExt cx="6780960" cy="27288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16380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380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1911240"/>
              <a:ext cx="6780960" cy="272880"/>
              <a:chOff x="0" y="1911240"/>
              <a:chExt cx="6780960" cy="27288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19112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19112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2184120"/>
              <a:ext cx="6780960" cy="272880"/>
              <a:chOff x="0" y="2184120"/>
              <a:chExt cx="6780960" cy="27288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21841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1841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atch all other charact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2457360"/>
              <a:ext cx="6780960" cy="272880"/>
              <a:chOff x="0" y="2457360"/>
              <a:chExt cx="6780960" cy="27288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24573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24573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Incorrect letter grade entered."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2730240"/>
              <a:ext cx="6780960" cy="272880"/>
              <a:chOff x="0" y="2730240"/>
              <a:chExt cx="6780960" cy="27288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27302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27302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 Enter a new grade.\n"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3003480"/>
              <a:ext cx="6780960" cy="272880"/>
              <a:chOff x="0" y="3003480"/>
              <a:chExt cx="6780960" cy="27288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30034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0034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0" y="3276360"/>
              <a:ext cx="6780960" cy="272880"/>
              <a:chOff x="0" y="3276360"/>
              <a:chExt cx="6780960" cy="27288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2763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2763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0" y="3549600"/>
              <a:ext cx="6780960" cy="272880"/>
              <a:chOff x="0" y="3549600"/>
              <a:chExt cx="6780960" cy="272880"/>
            </a:xfrm>
          </p:grpSpPr>
          <p:sp>
            <p:nvSpPr>
              <p:cNvPr id="368" name=""/>
              <p:cNvSpPr/>
              <p:nvPr/>
            </p:nvSpPr>
            <p:spPr>
              <a:xfrm>
                <a:off x="0" y="3549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3549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0" y="3822480"/>
              <a:ext cx="6780960" cy="272880"/>
              <a:chOff x="0" y="3822480"/>
              <a:chExt cx="6780960" cy="27288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38224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38224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0" y="4095720"/>
              <a:ext cx="6780960" cy="272880"/>
              <a:chOff x="0" y="4095720"/>
              <a:chExt cx="6780960" cy="27288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4095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095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otals for each letter grade are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0" y="4368600"/>
              <a:ext cx="6780960" cy="272880"/>
              <a:chOff x="0" y="4368600"/>
              <a:chExt cx="6780960" cy="27288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4368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4368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A: %d\n", a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0" y="4641840"/>
              <a:ext cx="6780960" cy="272880"/>
              <a:chOff x="0" y="4641840"/>
              <a:chExt cx="6780960" cy="27288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4641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4641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B: %d\n", b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0" y="4914720"/>
              <a:ext cx="6780960" cy="272880"/>
              <a:chOff x="0" y="4914720"/>
              <a:chExt cx="6780960" cy="27288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4914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4914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C: %d\n", c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5187600"/>
              <a:ext cx="6780960" cy="272880"/>
              <a:chOff x="0" y="5187600"/>
              <a:chExt cx="6780960" cy="27288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5187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187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D: %d\n", d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5460840"/>
              <a:ext cx="6780960" cy="272880"/>
              <a:chOff x="0" y="5460840"/>
              <a:chExt cx="6780960" cy="27288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5460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5460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F: %d\n", f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733720"/>
              <a:ext cx="6780960" cy="272880"/>
              <a:chOff x="0" y="5733720"/>
              <a:chExt cx="6780960" cy="27288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733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7337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6006960"/>
              <a:ext cx="6780960" cy="272880"/>
              <a:chOff x="0" y="6006960"/>
              <a:chExt cx="6780960" cy="27288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60069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60069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6279840"/>
              <a:ext cx="6780960" cy="272880"/>
              <a:chOff x="0" y="6279840"/>
              <a:chExt cx="6780960" cy="27288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6279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6279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64B4-4F73-4F50-AD7F-9FB0466E3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letter gr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EOF character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orrect letter grade entered. Enter a new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s for each letter grade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B601-E3FE-49BB-8969-753CB042D6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do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whil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 for repetition tested after the body of the loop is perfo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ctions are performed at leas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E479-B9B7-4618-8FFA-80F99C70F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do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whil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letting counter = 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  ", count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++counter &lt;=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4CBE-AA1E-4995-A9A3-FB03103D5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do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whil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62320" y="1828800"/>
            <a:ext cx="4418640" cy="4266000"/>
            <a:chOff x="2362320" y="1828800"/>
            <a:chExt cx="4418640" cy="4266000"/>
          </a:xfrm>
        </p:grpSpPr>
        <p:sp>
          <p:nvSpPr>
            <p:cNvPr id="415" name=""/>
            <p:cNvSpPr/>
            <p:nvPr/>
          </p:nvSpPr>
          <p:spPr>
            <a:xfrm>
              <a:off x="4010760" y="2043360"/>
              <a:ext cx="360" cy="862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72880" y="1828800"/>
              <a:ext cx="275040" cy="2145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81160" y="4164120"/>
              <a:ext cx="9734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10760" y="5017320"/>
              <a:ext cx="360" cy="861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10760" y="3265560"/>
              <a:ext cx="360" cy="861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72880" y="5879160"/>
              <a:ext cx="275040" cy="21564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24880" y="5025600"/>
              <a:ext cx="1190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81160" y="4572360"/>
              <a:ext cx="1099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80600" y="2507040"/>
              <a:ext cx="360" cy="20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2720" y="2507040"/>
              <a:ext cx="27478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499840" y="2906280"/>
              <a:ext cx="3021480" cy="368640"/>
              <a:chOff x="2499840" y="2906280"/>
              <a:chExt cx="3021480" cy="36864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9840" y="2906280"/>
                <a:ext cx="3021480" cy="358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0"/>
                    </a:lnTo>
                    <a:lnTo>
                      <a:pt x="0" y="19900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09520" y="2967120"/>
                <a:ext cx="21999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(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362320" y="4127400"/>
              <a:ext cx="3296880" cy="889920"/>
              <a:chOff x="2362320" y="4127400"/>
              <a:chExt cx="3296880" cy="889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362320" y="4127400"/>
                <a:ext cx="3296880" cy="889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60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09160" y="4451040"/>
                <a:ext cx="220032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d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FBF7-A5B7-41D3-A660-8D315AD1C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80960" cy="4800600"/>
            <a:chOff x="0" y="0"/>
            <a:chExt cx="6780960" cy="480060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4.9: fig04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the do/while repetition structur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2057400"/>
              <a:ext cx="6780960" cy="342720"/>
              <a:chOff x="0" y="2057400"/>
              <a:chExt cx="6780960" cy="3427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2057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2057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er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2400480"/>
              <a:ext cx="6780960" cy="342720"/>
              <a:chOff x="0" y="2400480"/>
              <a:chExt cx="6780960" cy="3427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24004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24004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 ", count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3429000"/>
              <a:ext cx="6780960" cy="342720"/>
              <a:chOff x="0" y="3429000"/>
              <a:chExt cx="6780960" cy="3427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34290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34290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++counter &lt;=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3772080"/>
              <a:ext cx="6780960" cy="342720"/>
              <a:chOff x="0" y="3772080"/>
              <a:chExt cx="6780960" cy="3427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37720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37720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4457880"/>
              <a:ext cx="6780960" cy="342720"/>
              <a:chOff x="0" y="4457880"/>
              <a:chExt cx="6780960" cy="3427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44578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445788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0" y="5181480"/>
            <a:ext cx="67816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2  3  4  5  6  7  8  9 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A5BE-6015-4725-B91F-A18C13A79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break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continu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immediate exit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execution continues with the first statement after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early from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remainder o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DAD7-4E36-44E0-981E-1C213B7D1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ntrodu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al repetition control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ltiple selection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exiting immediately and rapidly from certain contro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skipping the remainder of the body of a repetition structure and proceeding with the next iteration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95C1-9C5C-4895-974E-392D37C6ED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break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continu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s the remaining statements in the body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s with the next iteration of the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-continuation test is evaluated immediately afte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is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 expression is executed, then the loop-continuation test is evalu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FAD1-E51D-470C-BF73-B004098BC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6780960" cy="5181480"/>
            <a:chOff x="0" y="0"/>
            <a:chExt cx="6780960" cy="5181480"/>
          </a:xfrm>
        </p:grpSpPr>
        <p:grpSp>
          <p:nvGrpSpPr>
            <p:cNvPr id="482" name=""/>
            <p:cNvGrpSpPr/>
            <p:nvPr/>
          </p:nvGrpSpPr>
          <p:grpSpPr>
            <a:xfrm>
              <a:off x="0" y="0"/>
              <a:ext cx="6780960" cy="258840"/>
              <a:chOff x="0" y="0"/>
              <a:chExt cx="6780960" cy="25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4.12: fig04_1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58840"/>
              <a:ext cx="6780960" cy="258840"/>
              <a:chOff x="0" y="258840"/>
              <a:chExt cx="6780960" cy="2588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the continue statement in a for structur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18040"/>
              <a:ext cx="6780960" cy="259200"/>
              <a:chOff x="0" y="518040"/>
              <a:chExt cx="6780960" cy="2592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777240"/>
              <a:ext cx="6780960" cy="258840"/>
              <a:chOff x="0" y="777240"/>
              <a:chExt cx="6780960" cy="2588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036080"/>
              <a:ext cx="6780960" cy="258840"/>
              <a:chOff x="0" y="1036080"/>
              <a:chExt cx="6780960" cy="2588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0360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0360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295280"/>
              <a:ext cx="6780960" cy="258840"/>
              <a:chOff x="0" y="1295280"/>
              <a:chExt cx="6780960" cy="25884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554120"/>
              <a:ext cx="6780960" cy="259200"/>
              <a:chOff x="0" y="1554120"/>
              <a:chExt cx="6780960" cy="2592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55412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55412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813320"/>
              <a:ext cx="6780960" cy="258840"/>
              <a:chOff x="0" y="1813320"/>
              <a:chExt cx="6780960" cy="2588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8133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133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72520"/>
              <a:ext cx="6780960" cy="258840"/>
              <a:chOff x="0" y="2072520"/>
              <a:chExt cx="6780960" cy="2588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725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725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= 1; x &lt;= 10; x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331360"/>
              <a:ext cx="6780960" cy="258840"/>
              <a:chOff x="0" y="2331360"/>
              <a:chExt cx="6780960" cy="2588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3313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3313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590560"/>
              <a:ext cx="6780960" cy="259200"/>
              <a:chOff x="0" y="2590560"/>
              <a:chExt cx="6780960" cy="2592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9056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59056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== 5 )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849760"/>
              <a:ext cx="6780960" cy="258840"/>
              <a:chOff x="0" y="2849760"/>
              <a:chExt cx="6780960" cy="2588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8497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8497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tin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kip remaining code in loop on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108960"/>
              <a:ext cx="6780960" cy="258840"/>
              <a:chOff x="0" y="3108960"/>
              <a:chExt cx="6780960" cy="2588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1089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10896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f x == 5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367800"/>
              <a:ext cx="6780960" cy="258840"/>
              <a:chOff x="0" y="3367800"/>
              <a:chExt cx="6780960" cy="25884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36780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36780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627000"/>
              <a:ext cx="6780960" cy="259200"/>
              <a:chOff x="0" y="3627000"/>
              <a:chExt cx="6780960" cy="2592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62700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62700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", x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886200"/>
              <a:ext cx="6780960" cy="258840"/>
              <a:chOff x="0" y="3886200"/>
              <a:chExt cx="6780960" cy="2588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88620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88620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145040"/>
              <a:ext cx="6780960" cy="258840"/>
              <a:chOff x="0" y="4145040"/>
              <a:chExt cx="6780960" cy="2588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1450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1450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404240"/>
              <a:ext cx="6780960" cy="258840"/>
              <a:chOff x="0" y="4404240"/>
              <a:chExt cx="6780960" cy="2588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404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404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Used continue to skip printing the value 5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4663080"/>
              <a:ext cx="6780960" cy="258840"/>
              <a:chOff x="0" y="4663080"/>
              <a:chExt cx="6780960" cy="25884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46630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6630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4922280"/>
              <a:ext cx="6780960" cy="259200"/>
              <a:chOff x="0" y="4922280"/>
              <a:chExt cx="6780960" cy="25920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49222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9222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0" y="54100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d continue to skip printing the value 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7DC4-CF28-4D78-A9D8-D43132E1BB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0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Logic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logical AND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both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logical OR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either of its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logical NOT, logical negatio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es the truth/falsity of its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ary operator, has one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s conditions in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&amp;&amp;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||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7078-19D2-41DF-9F80-0216A6F5DD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and Assignment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ous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es not ordinarily cause syntax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expression that produces a value can be used in control structur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You get a bonus!\n"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 i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a bonus is aw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158D-B528-4F69-B60A-B6F596D513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and Assignment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, re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You get a bonus!\n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nzero, so express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bonus awarded no matter what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 error, not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2225-FC14-4129-9AED-9EE8D4FA03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and Assignment (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=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appear on the left side of an equ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values can be changed, such as variable nam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only appear on the righ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, such as number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values can be used as rvalues, but not vice 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957A-E4BF-4E46-9F69-1B421CEC22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han unstructured programs to understand, test, debug and, modify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 developed by programming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single-entry/single-exit control structures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the “simplest flowcha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ctangle (action) can be replaced by two rectangles (actions) in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ctangle (action) can be replaced by any control structure (sequenc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2 and 3 can be applied in any order and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771560"/>
            <a:ext cx="5486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971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517680"/>
            <a:ext cx="5486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717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5672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7CBC-834F-4535-9C3C-A7B495FF85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09480" y="3429000"/>
            <a:ext cx="7467840" cy="3048120"/>
            <a:chOff x="609480" y="3429000"/>
            <a:chExt cx="7467840" cy="3048120"/>
          </a:xfrm>
        </p:grpSpPr>
        <p:sp>
          <p:nvSpPr>
            <p:cNvPr id="561" name=""/>
            <p:cNvSpPr/>
            <p:nvPr/>
          </p:nvSpPr>
          <p:spPr>
            <a:xfrm>
              <a:off x="609480" y="342900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42640" y="368280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0920" y="4063680"/>
              <a:ext cx="106632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2640" y="431748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9480" y="469872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42480" y="342900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76000" y="368280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4280" y="4063680"/>
              <a:ext cx="106632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000" y="495252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2480" y="533340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76000" y="431748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44280" y="4698720"/>
              <a:ext cx="106632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75840" y="342900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09360" y="368280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77280" y="4063680"/>
              <a:ext cx="106668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09360" y="558720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75840" y="596844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09360" y="431748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7280" y="4698720"/>
              <a:ext cx="106668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09360" y="495252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77280" y="5333400"/>
              <a:ext cx="106668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9200" y="342900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2720" y="368280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10640" y="4063680"/>
              <a:ext cx="106668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2720" y="584136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9200" y="6222240"/>
              <a:ext cx="1068120" cy="2548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2720" y="431748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42720" y="5206320"/>
              <a:ext cx="108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10640" y="5587200"/>
              <a:ext cx="1066680" cy="25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76120" y="4714560"/>
              <a:ext cx="178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88440" y="4190760"/>
              <a:ext cx="71100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21800" y="4190760"/>
              <a:ext cx="71100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09360" y="3973680"/>
              <a:ext cx="8902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55080" y="4190760"/>
              <a:ext cx="711000" cy="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57480" y="3973680"/>
              <a:ext cx="8902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60960" y="3973680"/>
              <a:ext cx="8902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914400" y="1371600"/>
            <a:ext cx="3429000" cy="1752480"/>
            <a:chOff x="914400" y="1371600"/>
            <a:chExt cx="3429000" cy="1752480"/>
          </a:xfrm>
        </p:grpSpPr>
        <p:sp>
          <p:nvSpPr>
            <p:cNvPr id="598" name=""/>
            <p:cNvSpPr/>
            <p:nvPr/>
          </p:nvSpPr>
          <p:spPr>
            <a:xfrm>
              <a:off x="914400" y="1371600"/>
              <a:ext cx="34290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 1 - Begin with the simplest flowch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294920" y="2057400"/>
              <a:ext cx="8384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48320" y="1219320"/>
            <a:ext cx="4114800" cy="2666880"/>
            <a:chOff x="4648320" y="1219320"/>
            <a:chExt cx="4114800" cy="2666880"/>
          </a:xfrm>
        </p:grpSpPr>
        <p:sp>
          <p:nvSpPr>
            <p:cNvPr id="601" name=""/>
            <p:cNvSpPr/>
            <p:nvPr/>
          </p:nvSpPr>
          <p:spPr>
            <a:xfrm>
              <a:off x="4648320" y="1219320"/>
              <a:ext cx="411480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 2 - Any rectangle can be replaced by two rectangles in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77120" y="22096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FBC2-0774-481F-B09C-B7B478E836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4" name=""/>
          <p:cNvSpPr/>
          <p:nvPr/>
        </p:nvSpPr>
        <p:spPr>
          <a:xfrm>
            <a:off x="1936800" y="1905120"/>
            <a:ext cx="798480" cy="1569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35320" y="2062080"/>
            <a:ext cx="360" cy="238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36800" y="2300400"/>
            <a:ext cx="798480" cy="156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35320" y="245736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36800" y="2693880"/>
            <a:ext cx="798480" cy="1587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88160" y="2484360"/>
            <a:ext cx="799920" cy="157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88120" y="264168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88120" y="358920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88160" y="3825720"/>
            <a:ext cx="799920" cy="157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54600" y="2878200"/>
            <a:ext cx="106704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10000"/>
                </a:moveTo>
                <a:lnTo>
                  <a:pt x="9979" y="19917"/>
                </a:lnTo>
                <a:lnTo>
                  <a:pt x="0" y="10000"/>
                </a:lnTo>
                <a:lnTo>
                  <a:pt x="9979" y="0"/>
                </a:lnTo>
                <a:lnTo>
                  <a:pt x="19979" y="100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21640" y="2957400"/>
            <a:ext cx="79848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6120" y="2957400"/>
            <a:ext cx="79848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6120" y="295740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0120" y="295740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56160" y="3114720"/>
            <a:ext cx="79992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21600" y="3114720"/>
            <a:ext cx="79848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6120" y="327348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956120" y="3510000"/>
            <a:ext cx="119844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20120" y="327348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21320" y="3510000"/>
            <a:ext cx="119880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54560" y="3430440"/>
            <a:ext cx="266760" cy="1587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1560" y="4114800"/>
            <a:ext cx="800280" cy="157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11520" y="4272120"/>
            <a:ext cx="360" cy="237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11520" y="5929200"/>
            <a:ext cx="360" cy="238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1560" y="6167520"/>
            <a:ext cx="800280" cy="1569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78360" y="4510080"/>
            <a:ext cx="106668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10000"/>
                </a:moveTo>
                <a:lnTo>
                  <a:pt x="9979" y="19917"/>
                </a:lnTo>
                <a:lnTo>
                  <a:pt x="0" y="10000"/>
                </a:lnTo>
                <a:lnTo>
                  <a:pt x="9979" y="0"/>
                </a:lnTo>
                <a:lnTo>
                  <a:pt x="19979" y="100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45040" y="4587840"/>
            <a:ext cx="106524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13120" y="4587840"/>
            <a:ext cx="106524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13120" y="4587840"/>
            <a:ext cx="360" cy="316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58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10280" y="4587840"/>
            <a:ext cx="360" cy="316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58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3120" y="561492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13120" y="5851440"/>
            <a:ext cx="146520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10280" y="561492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45080" y="5851440"/>
            <a:ext cx="146520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78320" y="5772240"/>
            <a:ext cx="266760" cy="156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9600" y="4903920"/>
            <a:ext cx="106704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10000"/>
                </a:moveTo>
                <a:lnTo>
                  <a:pt x="9979" y="19917"/>
                </a:lnTo>
                <a:lnTo>
                  <a:pt x="0" y="10000"/>
                </a:lnTo>
                <a:lnTo>
                  <a:pt x="9979" y="0"/>
                </a:lnTo>
                <a:lnTo>
                  <a:pt x="19979" y="100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46640" y="4983120"/>
            <a:ext cx="26640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17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14640" y="4983120"/>
            <a:ext cx="2649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17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14640" y="498312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13040" y="498312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14680" y="5140440"/>
            <a:ext cx="79848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13080" y="5140440"/>
            <a:ext cx="79848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14640" y="529920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14640" y="5535720"/>
            <a:ext cx="6649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67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13040" y="529920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6320" y="5535720"/>
            <a:ext cx="666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67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79560" y="5456160"/>
            <a:ext cx="266760" cy="1587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78560" y="4903920"/>
            <a:ext cx="106524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9" y="10000"/>
                </a:moveTo>
                <a:lnTo>
                  <a:pt x="9979" y="19917"/>
                </a:lnTo>
                <a:lnTo>
                  <a:pt x="0" y="10000"/>
                </a:lnTo>
                <a:lnTo>
                  <a:pt x="9979" y="0"/>
                </a:lnTo>
                <a:lnTo>
                  <a:pt x="19979" y="100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43800" y="4983120"/>
            <a:ext cx="2667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17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11800" y="4983120"/>
            <a:ext cx="26676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17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11800" y="498312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10560" y="4983120"/>
            <a:ext cx="360" cy="1573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17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11840" y="5140440"/>
            <a:ext cx="79848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10240" y="5140440"/>
            <a:ext cx="800280" cy="158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19972" y="19917"/>
                </a:lnTo>
                <a:lnTo>
                  <a:pt x="0" y="19917"/>
                </a:lnTo>
                <a:lnTo>
                  <a:pt x="0" y="0"/>
                </a:lnTo>
                <a:lnTo>
                  <a:pt x="1997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1800" y="529920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11800" y="5535720"/>
            <a:ext cx="66528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67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10560" y="5299200"/>
            <a:ext cx="360" cy="236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44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43480" y="5535720"/>
            <a:ext cx="66708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67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77080" y="5456160"/>
            <a:ext cx="266400" cy="1587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68480" y="2378160"/>
            <a:ext cx="1954440" cy="290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9" y="19955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22600" y="2720880"/>
            <a:ext cx="3730680" cy="946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4" y="0"/>
                </a:moveTo>
                <a:lnTo>
                  <a:pt x="19994" y="19986"/>
                </a:lnTo>
                <a:lnTo>
                  <a:pt x="0" y="19986"/>
                </a:lnTo>
                <a:lnTo>
                  <a:pt x="0" y="0"/>
                </a:lnTo>
                <a:lnTo>
                  <a:pt x="19994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78280" y="4746600"/>
            <a:ext cx="2664000" cy="946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19992" y="19986"/>
                </a:lnTo>
                <a:lnTo>
                  <a:pt x="0" y="19986"/>
                </a:lnTo>
                <a:lnTo>
                  <a:pt x="0" y="0"/>
                </a:lnTo>
                <a:lnTo>
                  <a:pt x="1999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81120" y="4746600"/>
            <a:ext cx="2664000" cy="9460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19992" y="19986"/>
                </a:lnTo>
                <a:lnTo>
                  <a:pt x="0" y="19986"/>
                </a:lnTo>
                <a:lnTo>
                  <a:pt x="0" y="0"/>
                </a:lnTo>
                <a:lnTo>
                  <a:pt x="19992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447920" y="4351320"/>
            <a:ext cx="6127560" cy="1657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6" y="0"/>
                </a:moveTo>
                <a:lnTo>
                  <a:pt x="19996" y="19992"/>
                </a:lnTo>
                <a:lnTo>
                  <a:pt x="0" y="19992"/>
                </a:lnTo>
                <a:lnTo>
                  <a:pt x="0" y="0"/>
                </a:lnTo>
                <a:lnTo>
                  <a:pt x="19996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79600" y="3351240"/>
            <a:ext cx="2443320" cy="1343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90"/>
                </a:moveTo>
                <a:lnTo>
                  <a:pt x="19991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32720" y="3351240"/>
            <a:ext cx="1020600" cy="1343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90"/>
                </a:moveTo>
                <a:lnTo>
                  <a:pt x="19978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32120" y="2209680"/>
            <a:ext cx="6858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R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4032360"/>
            <a:ext cx="68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R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19520" y="3809880"/>
            <a:ext cx="68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Ru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90720" y="1219320"/>
            <a:ext cx="5562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 3 - Replace any rectangle with a contro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7A31-0F38-42F6-880C-AA9C0466F9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can be broken down into 3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– handled automatically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combined in two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ing (rule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cking (rul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selection can be rewritten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, and any repetition can be rewritten a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9CFC-8620-41A6-B0ED-38654BD0A2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Essentials of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 of instructions computer executes repeatedly while some condition remai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e repetition: know how many times loop will exec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variable used to count repet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finite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number of repetitions not kn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indicates "end of dat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6C0C-C83C-44D0-B5DF-CCB40212D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ame of a control variable (or loop coun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itial value of the control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that tests for the final value of the control variable (i.e., whether looping should contin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ncrement (or decrement) by which the control variable is modified each time through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BF3D-D25B-44EE-AA33-054B05295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          //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counter &lt;= 10 ) { // repeti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\n", count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ounter;             // 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it to be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s space for it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it to an initial valu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EA3A-A50E-4ADD-8C86-5CAD7C4F5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for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when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opContinuation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int counter = 1; counter &lt;= 10; counter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\n", count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one to 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2330280"/>
            <a:ext cx="5486400" cy="1374840"/>
            <a:chOff x="0" y="2330280"/>
            <a:chExt cx="5486400" cy="1374840"/>
          </a:xfrm>
        </p:grpSpPr>
        <p:sp>
          <p:nvSpPr>
            <p:cNvPr id="107" name=""/>
            <p:cNvSpPr/>
            <p:nvPr/>
          </p:nvSpPr>
          <p:spPr>
            <a:xfrm>
              <a:off x="0" y="2516040"/>
              <a:ext cx="5486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3302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37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3416400"/>
            <a:ext cx="1218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micolon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fter last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46748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04BF-DBD1-4E06-A76A-5F7BE8F27B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for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loops can usually be rewritten as while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itializatio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opContinuation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statement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incremen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incr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mma-separated l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, j = 0;  j + i &lt;= 10; j++,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\n", j + i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9942-DF8F-44BF-A560-28DC09EF22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ructure: Notes and Observ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, loop-continuation, and increment can contain arithmetic expressions. 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j = x; j &lt;= 4 * x * y; j += y / x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j = 2; j &lt;= 80; j += 5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about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Increment" may be negative (decr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loop continuation condition is initial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dy o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 is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proceeds with the next statement after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printed or used inside for body, but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F0F5-E875-4CC7-BE9F-8B3EA26A1A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petition structur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14800"/>
            <a:ext cx="67816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2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6780960" cy="4038120"/>
            <a:chOff x="0" y="0"/>
            <a:chExt cx="6780960" cy="4038120"/>
          </a:xfrm>
        </p:grpSpPr>
        <p:grpSp>
          <p:nvGrpSpPr>
            <p:cNvPr id="119" name=""/>
            <p:cNvGrpSpPr/>
            <p:nvPr/>
          </p:nvGrpSpPr>
          <p:grpSpPr>
            <a:xfrm>
              <a:off x="0" y="0"/>
              <a:ext cx="6780960" cy="267480"/>
              <a:chOff x="0" y="0"/>
              <a:chExt cx="6780960" cy="267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4.5: fig04_05.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267480"/>
              <a:ext cx="6780960" cy="288360"/>
              <a:chOff x="0" y="267480"/>
              <a:chExt cx="6780960" cy="28836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67480"/>
                <a:ext cx="6780960" cy="28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67480"/>
                <a:ext cx="6780960" cy="28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Summation with fo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556200"/>
              <a:ext cx="6780960" cy="267840"/>
              <a:chOff x="0" y="556200"/>
              <a:chExt cx="6780960" cy="2678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55620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5620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824400"/>
              <a:ext cx="6780960" cy="267480"/>
              <a:chOff x="0" y="824400"/>
              <a:chExt cx="6780960" cy="26748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8244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8244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092240"/>
              <a:ext cx="6780960" cy="267480"/>
              <a:chOff x="0" y="1092240"/>
              <a:chExt cx="6780960" cy="26748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0922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0922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360080"/>
              <a:ext cx="6780960" cy="267480"/>
              <a:chOff x="0" y="1360080"/>
              <a:chExt cx="6780960" cy="26748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36008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36008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627560"/>
              <a:ext cx="6780960" cy="267840"/>
              <a:chOff x="0" y="1627560"/>
              <a:chExt cx="6780960" cy="2678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62756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2756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 = 0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895760"/>
              <a:ext cx="6780960" cy="267480"/>
              <a:chOff x="0" y="1895760"/>
              <a:chExt cx="6780960" cy="2674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89576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89576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163600"/>
              <a:ext cx="6780960" cy="267480"/>
              <a:chOff x="0" y="2163600"/>
              <a:chExt cx="6780960" cy="26748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1636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1636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ber = 2; number &lt;= 100; number +=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1440"/>
              <a:ext cx="6780960" cy="267480"/>
              <a:chOff x="0" y="2431440"/>
              <a:chExt cx="6780960" cy="2674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14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14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+=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99280"/>
              <a:ext cx="6780960" cy="267480"/>
              <a:chOff x="0" y="2699280"/>
              <a:chExt cx="6780960" cy="26748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9928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9928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967120"/>
              <a:ext cx="6780960" cy="267840"/>
              <a:chOff x="0" y="2967120"/>
              <a:chExt cx="6780960" cy="2678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96712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967120"/>
                <a:ext cx="6780960" cy="267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um is %d\n", s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234960"/>
              <a:ext cx="6780960" cy="267480"/>
              <a:chOff x="0" y="3234960"/>
              <a:chExt cx="6780960" cy="26748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23496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23496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502800"/>
              <a:ext cx="6780960" cy="267480"/>
              <a:chOff x="0" y="3502800"/>
              <a:chExt cx="6780960" cy="26748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5028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50280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770640"/>
              <a:ext cx="6780960" cy="267480"/>
              <a:chOff x="0" y="3770640"/>
              <a:chExt cx="6780960" cy="267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7706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770640"/>
                <a:ext cx="6780960" cy="267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5058-D910-402B-9CE3-932034B39C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Matty</cp:lastModifiedBy>
  <dcterms:modified xsi:type="dcterms:W3CDTF">2000-12-22T19:05:53Z</dcterms:modified>
  <cp:revision>621</cp:revision>
  <dc:subject/>
  <dc:title>Chapter 2 - Control Structures</dc:title>
</cp:coreProperties>
</file>