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6F50D-973B-4C9F-BD18-50CFA9E0E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E8DA3-7F1A-4ADF-B11C-2C2CB600F3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C42A2-14C3-4933-A3E0-6FCB47B29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01734-C482-4027-8EE5-B5E401E6A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323F7-00DE-4FF6-BE19-FF2EEB6FE1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A2D33-560B-4896-A1B5-CC1E442BAB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58B73-839C-4358-8621-36FF855514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473ED-9936-4238-B2D5-1A882E2173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99C93-A16C-44E8-BFEA-F5C434D48A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B409B-0B78-45C4-A7BB-32DC3FBBBF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E3F25-940E-4BFF-8240-0E258EFB24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0195F-9D28-44DD-84CD-DFCD517CCB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0704D-DE89-4274-8150-665C2CADF4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AE122-0561-4F5D-81CD-24C5969835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A592F-448A-4785-A7A5-22C7A9A191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6B7BF-CAFB-4DAA-9EB8-B704FE9C88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C267D-C6DE-431B-854B-F85A765A86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B127E-6556-47FA-B343-6A62962A4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C106B-5C5E-4505-9BF1-0B24BBF144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1F83D-FC9D-4084-986D-68EA56A432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1DFE9-644F-445C-8976-3BA077305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3E15-C4D6-4E17-A8AC-86A598590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2EE2C-507F-4F86-A01A-191507FDC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6127-72D5-46BF-8653-554A05703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6F8E-C1F8-4751-8E8E-1A0520C93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391520" y="6370560"/>
            <a:ext cx="3581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6370560"/>
            <a:ext cx="3581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41E1-0964-4236-84FE-F108C890F2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5 - Function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19320"/>
            <a:ext cx="800100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ogram Modules in C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ath Library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Defini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Prototyp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eader Fil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lling Functions: Call by Value and Call by Referenc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andom Number Gener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: A Game of Chanc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orage Class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cope Rul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curs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 Using Recursion: The Fibonacci Seri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cursion vs. It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Header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function prototypes for library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dlib.h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math.h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, et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a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include &lt;filena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math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header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file with func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ve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ename.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ad in other file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include "filename.h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use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lling Functions: Call by Value and Call by Refere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 invoking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b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y of argument passed to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s in function do not effect origi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when function does not need to modify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s accidental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by refer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es original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s in function effect origi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used with trusted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now, we focus on call b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andom Number Gen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a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dlib.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"random" number betwe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_MA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at leas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276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= rand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seudorand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t sequence of "random"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sequence for every function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get a random number betwe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+ ( rand() % 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() % 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turns a number betwe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random number betwe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+ ( rand() % 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betwe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andom Number Gen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r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dlib.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an integer seed and jumps to that location in its "random" sequ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ran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se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rand( time( NULL ) );  //load &lt;time.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( NULL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the time at which the program was compiled in secon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izes" the s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seed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Input value for seed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Us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rand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to change random sequenc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Define Loop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Generate and output random number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0"/>
            <a:ext cx="6780960" cy="6553080"/>
            <a:chOff x="0" y="0"/>
            <a:chExt cx="6780960" cy="6553080"/>
          </a:xfrm>
        </p:grpSpPr>
        <p:grpSp>
          <p:nvGrpSpPr>
            <p:cNvPr id="213" name=""/>
            <p:cNvGrpSpPr/>
            <p:nvPr/>
          </p:nvGrpSpPr>
          <p:grpSpPr>
            <a:xfrm>
              <a:off x="0" y="0"/>
              <a:ext cx="6780960" cy="284760"/>
              <a:chOff x="0" y="0"/>
              <a:chExt cx="6780960" cy="284760"/>
            </a:xfrm>
          </p:grpSpPr>
          <p:sp>
            <p:nvSpPr>
              <p:cNvPr id="214" name=""/>
              <p:cNvSpPr/>
              <p:nvPr/>
            </p:nvSpPr>
            <p:spPr>
              <a:xfrm>
                <a:off x="0" y="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5.9: fig05_09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0" y="284760"/>
              <a:ext cx="6780960" cy="284760"/>
              <a:chOff x="0" y="284760"/>
              <a:chExt cx="6780960" cy="284760"/>
            </a:xfrm>
          </p:grpSpPr>
          <p:sp>
            <p:nvSpPr>
              <p:cNvPr id="217" name=""/>
              <p:cNvSpPr/>
              <p:nvPr/>
            </p:nvSpPr>
            <p:spPr>
              <a:xfrm>
                <a:off x="0" y="2847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2847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Randomizing die-rolling program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0" y="569520"/>
              <a:ext cx="6780960" cy="284760"/>
              <a:chOff x="0" y="569520"/>
              <a:chExt cx="6780960" cy="284760"/>
            </a:xfrm>
          </p:grpSpPr>
          <p:sp>
            <p:nvSpPr>
              <p:cNvPr id="220" name=""/>
              <p:cNvSpPr/>
              <p:nvPr/>
            </p:nvSpPr>
            <p:spPr>
              <a:xfrm>
                <a:off x="0" y="5695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5695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lib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0" y="854640"/>
              <a:ext cx="6780960" cy="284760"/>
              <a:chOff x="0" y="854640"/>
              <a:chExt cx="6780960" cy="28476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8546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8546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0" y="1139400"/>
              <a:ext cx="6780960" cy="284760"/>
              <a:chOff x="0" y="1139400"/>
              <a:chExt cx="6780960" cy="284760"/>
            </a:xfrm>
          </p:grpSpPr>
          <p:sp>
            <p:nvSpPr>
              <p:cNvPr id="226" name=""/>
              <p:cNvSpPr/>
              <p:nvPr/>
            </p:nvSpPr>
            <p:spPr>
              <a:xfrm>
                <a:off x="0" y="11394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1394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0" y="1424520"/>
              <a:ext cx="6780960" cy="284760"/>
              <a:chOff x="0" y="1424520"/>
              <a:chExt cx="6780960" cy="284760"/>
            </a:xfrm>
          </p:grpSpPr>
          <p:sp>
            <p:nvSpPr>
              <p:cNvPr id="229" name=""/>
              <p:cNvSpPr/>
              <p:nvPr/>
            </p:nvSpPr>
            <p:spPr>
              <a:xfrm>
                <a:off x="0" y="14245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4245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0" y="1709280"/>
              <a:ext cx="6780960" cy="284760"/>
              <a:chOff x="0" y="1709280"/>
              <a:chExt cx="6780960" cy="284760"/>
            </a:xfrm>
          </p:grpSpPr>
          <p:sp>
            <p:nvSpPr>
              <p:cNvPr id="232" name=""/>
              <p:cNvSpPr/>
              <p:nvPr/>
            </p:nvSpPr>
            <p:spPr>
              <a:xfrm>
                <a:off x="0" y="17092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17092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0" y="1994400"/>
              <a:ext cx="6780960" cy="284760"/>
              <a:chOff x="0" y="1994400"/>
              <a:chExt cx="6780960" cy="284760"/>
            </a:xfrm>
          </p:grpSpPr>
          <p:sp>
            <p:nvSpPr>
              <p:cNvPr id="235" name=""/>
              <p:cNvSpPr/>
              <p:nvPr/>
            </p:nvSpPr>
            <p:spPr>
              <a:xfrm>
                <a:off x="0" y="19944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19944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0" y="2279160"/>
              <a:ext cx="6780960" cy="284760"/>
              <a:chOff x="0" y="2279160"/>
              <a:chExt cx="6780960" cy="284760"/>
            </a:xfrm>
          </p:grpSpPr>
          <p:sp>
            <p:nvSpPr>
              <p:cNvPr id="238" name=""/>
              <p:cNvSpPr/>
              <p:nvPr/>
            </p:nvSpPr>
            <p:spPr>
              <a:xfrm>
                <a:off x="0" y="22791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791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e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0" y="2564280"/>
              <a:ext cx="6780960" cy="284760"/>
              <a:chOff x="0" y="2564280"/>
              <a:chExt cx="6780960" cy="284760"/>
            </a:xfrm>
          </p:grpSpPr>
          <p:sp>
            <p:nvSpPr>
              <p:cNvPr id="241" name=""/>
              <p:cNvSpPr/>
              <p:nvPr/>
            </p:nvSpPr>
            <p:spPr>
              <a:xfrm>
                <a:off x="0" y="25642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5642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0" y="2849040"/>
              <a:ext cx="6780960" cy="284760"/>
              <a:chOff x="0" y="2849040"/>
              <a:chExt cx="6780960" cy="28476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28490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8490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Enter seed: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0" y="3134160"/>
              <a:ext cx="6780960" cy="284760"/>
              <a:chOff x="0" y="3134160"/>
              <a:chExt cx="6780960" cy="284760"/>
            </a:xfrm>
          </p:grpSpPr>
          <p:sp>
            <p:nvSpPr>
              <p:cNvPr id="247" name=""/>
              <p:cNvSpPr/>
              <p:nvPr/>
            </p:nvSpPr>
            <p:spPr>
              <a:xfrm>
                <a:off x="0" y="31341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31341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canf( "%u", &amp;see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0" y="3418920"/>
              <a:ext cx="6780960" cy="284760"/>
              <a:chOff x="0" y="3418920"/>
              <a:chExt cx="6780960" cy="284760"/>
            </a:xfrm>
          </p:grpSpPr>
          <p:sp>
            <p:nvSpPr>
              <p:cNvPr id="250" name=""/>
              <p:cNvSpPr/>
              <p:nvPr/>
            </p:nvSpPr>
            <p:spPr>
              <a:xfrm>
                <a:off x="0" y="34189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34189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rand( see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0" y="3704040"/>
              <a:ext cx="6780960" cy="284760"/>
              <a:chOff x="0" y="3704040"/>
              <a:chExt cx="6780960" cy="284760"/>
            </a:xfrm>
          </p:grpSpPr>
          <p:sp>
            <p:nvSpPr>
              <p:cNvPr id="253" name=""/>
              <p:cNvSpPr/>
              <p:nvPr/>
            </p:nvSpPr>
            <p:spPr>
              <a:xfrm>
                <a:off x="0" y="37040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37040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0" y="3988800"/>
              <a:ext cx="6780960" cy="284760"/>
              <a:chOff x="0" y="3988800"/>
              <a:chExt cx="6780960" cy="284760"/>
            </a:xfrm>
          </p:grpSpPr>
          <p:sp>
            <p:nvSpPr>
              <p:cNvPr id="256" name=""/>
              <p:cNvSpPr/>
              <p:nvPr/>
            </p:nvSpPr>
            <p:spPr>
              <a:xfrm>
                <a:off x="0" y="39888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39888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1; i &lt;= 10; i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0" y="4273920"/>
              <a:ext cx="6780960" cy="284760"/>
              <a:chOff x="0" y="4273920"/>
              <a:chExt cx="6780960" cy="284760"/>
            </a:xfrm>
          </p:grpSpPr>
          <p:sp>
            <p:nvSpPr>
              <p:cNvPr id="259" name=""/>
              <p:cNvSpPr/>
              <p:nvPr/>
            </p:nvSpPr>
            <p:spPr>
              <a:xfrm>
                <a:off x="0" y="42739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42739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10d", 1 + ( rand() % 6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0" y="4558680"/>
              <a:ext cx="6780960" cy="284760"/>
              <a:chOff x="0" y="4558680"/>
              <a:chExt cx="6780960" cy="284760"/>
            </a:xfrm>
          </p:grpSpPr>
          <p:sp>
            <p:nvSpPr>
              <p:cNvPr id="262" name=""/>
              <p:cNvSpPr/>
              <p:nvPr/>
            </p:nvSpPr>
            <p:spPr>
              <a:xfrm>
                <a:off x="0" y="45586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45586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0" y="4843440"/>
              <a:ext cx="6780960" cy="284760"/>
              <a:chOff x="0" y="4843440"/>
              <a:chExt cx="6780960" cy="284760"/>
            </a:xfrm>
          </p:grpSpPr>
          <p:sp>
            <p:nvSpPr>
              <p:cNvPr id="265" name=""/>
              <p:cNvSpPr/>
              <p:nvPr/>
            </p:nvSpPr>
            <p:spPr>
              <a:xfrm>
                <a:off x="0" y="48434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48434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% 5 =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0" y="5128560"/>
              <a:ext cx="6780960" cy="284760"/>
              <a:chOff x="0" y="5128560"/>
              <a:chExt cx="6780960" cy="284760"/>
            </a:xfrm>
          </p:grpSpPr>
          <p:sp>
            <p:nvSpPr>
              <p:cNvPr id="268" name=""/>
              <p:cNvSpPr/>
              <p:nvPr/>
            </p:nvSpPr>
            <p:spPr>
              <a:xfrm>
                <a:off x="0" y="51285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51285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rintf( "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0" y="5413320"/>
              <a:ext cx="6780960" cy="284760"/>
              <a:chOff x="0" y="5413320"/>
              <a:chExt cx="6780960" cy="284760"/>
            </a:xfrm>
          </p:grpSpPr>
          <p:sp>
            <p:nvSpPr>
              <p:cNvPr id="271" name=""/>
              <p:cNvSpPr/>
              <p:nvPr/>
            </p:nvSpPr>
            <p:spPr>
              <a:xfrm>
                <a:off x="0" y="54133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54133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0" y="5698440"/>
              <a:ext cx="6780960" cy="284760"/>
              <a:chOff x="0" y="5698440"/>
              <a:chExt cx="6780960" cy="284760"/>
            </a:xfrm>
          </p:grpSpPr>
          <p:sp>
            <p:nvSpPr>
              <p:cNvPr id="274" name=""/>
              <p:cNvSpPr/>
              <p:nvPr/>
            </p:nvSpPr>
            <p:spPr>
              <a:xfrm>
                <a:off x="0" y="56984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0" y="56984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0" y="5983200"/>
              <a:ext cx="6780960" cy="284760"/>
              <a:chOff x="0" y="5983200"/>
              <a:chExt cx="6780960" cy="284760"/>
            </a:xfrm>
          </p:grpSpPr>
          <p:sp>
            <p:nvSpPr>
              <p:cNvPr id="277" name=""/>
              <p:cNvSpPr/>
              <p:nvPr/>
            </p:nvSpPr>
            <p:spPr>
              <a:xfrm>
                <a:off x="0" y="59832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0" y="59832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0" y="6268320"/>
              <a:ext cx="6780960" cy="284760"/>
              <a:chOff x="0" y="6268320"/>
              <a:chExt cx="6780960" cy="284760"/>
            </a:xfrm>
          </p:grpSpPr>
          <p:sp>
            <p:nvSpPr>
              <p:cNvPr id="280" name=""/>
              <p:cNvSpPr/>
              <p:nvPr/>
            </p:nvSpPr>
            <p:spPr>
              <a:xfrm>
                <a:off x="0" y="62683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0" y="62683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99072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eed: 8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     4         6         1      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1         3         6        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828800"/>
            <a:ext cx="678168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eed: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        1         4         6     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6         1         6         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678168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eed: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        1         4         6     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6         1         6        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: A Game of Ch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aps sim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ll two d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 or 11 on first throw, player w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, 3, or 12 on first throw, player l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, 5, 6, 8, 9, 10 - value becomes player's "poin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yer must roll his point before rolling 7 to w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ollDic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prototy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2  Se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ra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witch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statement for win/loss/continu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90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291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5.10: fig05_10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294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Craps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297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300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lib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303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time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306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309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ollDi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312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315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318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321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ameStatus, sum, myPoi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324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327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rand( time( NULL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330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um = rollDice()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rst roll of the dic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333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336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witch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sum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339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7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11: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win on first roll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342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gameStatus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345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348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2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3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12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lose on first roll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351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gameStatus = 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354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faul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: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remember point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360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gameStatus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363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myPoint = su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366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rintf( "Point is %d\n", myPoin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369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372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375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378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ameStatus == 0 ) {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keep rolling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381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um = rollDice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384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Print win/los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0" y="0"/>
            <a:ext cx="6780960" cy="5943600"/>
            <a:chOff x="0" y="0"/>
            <a:chExt cx="6780960" cy="5943600"/>
          </a:xfrm>
        </p:grpSpPr>
        <p:grpSp>
          <p:nvGrpSpPr>
            <p:cNvPr id="388" name=""/>
            <p:cNvGrpSpPr/>
            <p:nvPr/>
          </p:nvGrpSpPr>
          <p:grpSpPr>
            <a:xfrm>
              <a:off x="0" y="0"/>
              <a:ext cx="6780960" cy="235440"/>
              <a:chOff x="0" y="0"/>
              <a:chExt cx="6780960" cy="235440"/>
            </a:xfrm>
          </p:grpSpPr>
          <p:sp>
            <p:nvSpPr>
              <p:cNvPr id="389" name=""/>
              <p:cNvSpPr/>
              <p:nvPr/>
            </p:nvSpPr>
            <p:spPr>
              <a:xfrm>
                <a:off x="0" y="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0" y="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sum == myPoint )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win by making point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0" y="235440"/>
              <a:ext cx="6780960" cy="235440"/>
              <a:chOff x="0" y="235440"/>
              <a:chExt cx="6780960" cy="235440"/>
            </a:xfrm>
          </p:grpSpPr>
          <p:sp>
            <p:nvSpPr>
              <p:cNvPr id="392" name=""/>
              <p:cNvSpPr/>
              <p:nvPr/>
            </p:nvSpPr>
            <p:spPr>
              <a:xfrm>
                <a:off x="0" y="23544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0" y="23544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gameStatus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0" y="470880"/>
              <a:ext cx="6780960" cy="235440"/>
              <a:chOff x="0" y="470880"/>
              <a:chExt cx="6780960" cy="235440"/>
            </a:xfrm>
          </p:grpSpPr>
          <p:sp>
            <p:nvSpPr>
              <p:cNvPr id="395" name=""/>
              <p:cNvSpPr/>
              <p:nvPr/>
            </p:nvSpPr>
            <p:spPr>
              <a:xfrm>
                <a:off x="0" y="4708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0" y="4708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706680"/>
              <a:ext cx="6780960" cy="235440"/>
              <a:chOff x="0" y="706680"/>
              <a:chExt cx="6780960" cy="23544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7066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0" y="7066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sum == 7 )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lose by rolling 7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0" y="942120"/>
              <a:ext cx="6780960" cy="235440"/>
              <a:chOff x="0" y="942120"/>
              <a:chExt cx="6780960" cy="235440"/>
            </a:xfrm>
          </p:grpSpPr>
          <p:sp>
            <p:nvSpPr>
              <p:cNvPr id="401" name=""/>
              <p:cNvSpPr/>
              <p:nvPr/>
            </p:nvSpPr>
            <p:spPr>
              <a:xfrm>
                <a:off x="0" y="94212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0" y="94212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gameStatus = 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0" y="1177560"/>
              <a:ext cx="6780960" cy="235440"/>
              <a:chOff x="0" y="1177560"/>
              <a:chExt cx="6780960" cy="235440"/>
            </a:xfrm>
          </p:grpSpPr>
          <p:sp>
            <p:nvSpPr>
              <p:cNvPr id="404" name=""/>
              <p:cNvSpPr/>
              <p:nvPr/>
            </p:nvSpPr>
            <p:spPr>
              <a:xfrm>
                <a:off x="0" y="117756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0" y="117756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0" y="1413360"/>
              <a:ext cx="6780960" cy="235440"/>
              <a:chOff x="0" y="1413360"/>
              <a:chExt cx="6780960" cy="235440"/>
            </a:xfrm>
          </p:grpSpPr>
          <p:sp>
            <p:nvSpPr>
              <p:cNvPr id="407" name=""/>
              <p:cNvSpPr/>
              <p:nvPr/>
            </p:nvSpPr>
            <p:spPr>
              <a:xfrm>
                <a:off x="0" y="141336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141336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0" y="1648800"/>
              <a:ext cx="6780960" cy="235440"/>
              <a:chOff x="0" y="1648800"/>
              <a:chExt cx="6780960" cy="235440"/>
            </a:xfrm>
          </p:grpSpPr>
          <p:sp>
            <p:nvSpPr>
              <p:cNvPr id="410" name=""/>
              <p:cNvSpPr/>
              <p:nvPr/>
            </p:nvSpPr>
            <p:spPr>
              <a:xfrm>
                <a:off x="0" y="164880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164880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ameStatus == 1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0" y="1884600"/>
              <a:ext cx="6780960" cy="235440"/>
              <a:chOff x="0" y="1884600"/>
              <a:chExt cx="6780960" cy="235440"/>
            </a:xfrm>
          </p:grpSpPr>
          <p:sp>
            <p:nvSpPr>
              <p:cNvPr id="413" name=""/>
              <p:cNvSpPr/>
              <p:nvPr/>
            </p:nvSpPr>
            <p:spPr>
              <a:xfrm>
                <a:off x="0" y="188460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0" y="188460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Player wins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0" y="2120040"/>
              <a:ext cx="6780960" cy="235440"/>
              <a:chOff x="0" y="2120040"/>
              <a:chExt cx="6780960" cy="235440"/>
            </a:xfrm>
          </p:grpSpPr>
          <p:sp>
            <p:nvSpPr>
              <p:cNvPr id="416" name=""/>
              <p:cNvSpPr/>
              <p:nvPr/>
            </p:nvSpPr>
            <p:spPr>
              <a:xfrm>
                <a:off x="0" y="212004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0" y="212004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0" y="2355480"/>
              <a:ext cx="6780960" cy="235440"/>
              <a:chOff x="0" y="2355480"/>
              <a:chExt cx="6780960" cy="235440"/>
            </a:xfrm>
          </p:grpSpPr>
          <p:sp>
            <p:nvSpPr>
              <p:cNvPr id="419" name=""/>
              <p:cNvSpPr/>
              <p:nvPr/>
            </p:nvSpPr>
            <p:spPr>
              <a:xfrm>
                <a:off x="0" y="23554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0" y="23554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Player loses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0" y="2591280"/>
              <a:ext cx="6780960" cy="235440"/>
              <a:chOff x="0" y="2591280"/>
              <a:chExt cx="6780960" cy="235440"/>
            </a:xfrm>
          </p:grpSpPr>
          <p:sp>
            <p:nvSpPr>
              <p:cNvPr id="422" name=""/>
              <p:cNvSpPr/>
              <p:nvPr/>
            </p:nvSpPr>
            <p:spPr>
              <a:xfrm>
                <a:off x="0" y="25912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25912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0" y="2826720"/>
              <a:ext cx="6780960" cy="235440"/>
              <a:chOff x="0" y="2826720"/>
              <a:chExt cx="6780960" cy="235440"/>
            </a:xfrm>
          </p:grpSpPr>
          <p:sp>
            <p:nvSpPr>
              <p:cNvPr id="425" name=""/>
              <p:cNvSpPr/>
              <p:nvPr/>
            </p:nvSpPr>
            <p:spPr>
              <a:xfrm>
                <a:off x="0" y="282672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0" y="282672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0" y="3062520"/>
              <a:ext cx="6780960" cy="235440"/>
              <a:chOff x="0" y="3062520"/>
              <a:chExt cx="6780960" cy="235440"/>
            </a:xfrm>
          </p:grpSpPr>
          <p:sp>
            <p:nvSpPr>
              <p:cNvPr id="428" name=""/>
              <p:cNvSpPr/>
              <p:nvPr/>
            </p:nvSpPr>
            <p:spPr>
              <a:xfrm>
                <a:off x="0" y="306252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0" y="306252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0" y="3297960"/>
              <a:ext cx="6780960" cy="235440"/>
              <a:chOff x="0" y="3297960"/>
              <a:chExt cx="6780960" cy="235440"/>
            </a:xfrm>
          </p:grpSpPr>
          <p:sp>
            <p:nvSpPr>
              <p:cNvPr id="431" name=""/>
              <p:cNvSpPr/>
              <p:nvPr/>
            </p:nvSpPr>
            <p:spPr>
              <a:xfrm>
                <a:off x="0" y="329796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0" y="329796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0" y="3533760"/>
              <a:ext cx="6780960" cy="235440"/>
              <a:chOff x="0" y="3533760"/>
              <a:chExt cx="6780960" cy="235440"/>
            </a:xfrm>
          </p:grpSpPr>
          <p:sp>
            <p:nvSpPr>
              <p:cNvPr id="434" name=""/>
              <p:cNvSpPr/>
              <p:nvPr/>
            </p:nvSpPr>
            <p:spPr>
              <a:xfrm>
                <a:off x="0" y="353376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353376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ollDi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0" y="3769200"/>
              <a:ext cx="6780960" cy="235440"/>
              <a:chOff x="0" y="3769200"/>
              <a:chExt cx="6780960" cy="235440"/>
            </a:xfrm>
          </p:grpSpPr>
          <p:sp>
            <p:nvSpPr>
              <p:cNvPr id="437" name=""/>
              <p:cNvSpPr/>
              <p:nvPr/>
            </p:nvSpPr>
            <p:spPr>
              <a:xfrm>
                <a:off x="0" y="376920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0" y="376920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0" y="4004640"/>
              <a:ext cx="6780960" cy="235440"/>
              <a:chOff x="0" y="4004640"/>
              <a:chExt cx="6780960" cy="235440"/>
            </a:xfrm>
          </p:grpSpPr>
          <p:sp>
            <p:nvSpPr>
              <p:cNvPr id="440" name=""/>
              <p:cNvSpPr/>
              <p:nvPr/>
            </p:nvSpPr>
            <p:spPr>
              <a:xfrm>
                <a:off x="0" y="400464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0" y="400464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ie1, die2, workSu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0" y="4240440"/>
              <a:ext cx="6780960" cy="235440"/>
              <a:chOff x="0" y="4240440"/>
              <a:chExt cx="6780960" cy="235440"/>
            </a:xfrm>
          </p:grpSpPr>
          <p:sp>
            <p:nvSpPr>
              <p:cNvPr id="443" name=""/>
              <p:cNvSpPr/>
              <p:nvPr/>
            </p:nvSpPr>
            <p:spPr>
              <a:xfrm>
                <a:off x="0" y="424044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424044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0" y="4475880"/>
              <a:ext cx="6780960" cy="235440"/>
              <a:chOff x="0" y="4475880"/>
              <a:chExt cx="6780960" cy="235440"/>
            </a:xfrm>
          </p:grpSpPr>
          <p:sp>
            <p:nvSpPr>
              <p:cNvPr id="446" name=""/>
              <p:cNvSpPr/>
              <p:nvPr/>
            </p:nvSpPr>
            <p:spPr>
              <a:xfrm>
                <a:off x="0" y="44758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0" y="44758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e1 = 1 + ( rand() % 6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0" y="4711680"/>
              <a:ext cx="6780960" cy="235440"/>
              <a:chOff x="0" y="4711680"/>
              <a:chExt cx="6780960" cy="235440"/>
            </a:xfrm>
          </p:grpSpPr>
          <p:sp>
            <p:nvSpPr>
              <p:cNvPr id="449" name=""/>
              <p:cNvSpPr/>
              <p:nvPr/>
            </p:nvSpPr>
            <p:spPr>
              <a:xfrm>
                <a:off x="0" y="47116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47116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e2 = 1 + ( rand() % 6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0" y="4947120"/>
              <a:ext cx="6780960" cy="235440"/>
              <a:chOff x="0" y="4947120"/>
              <a:chExt cx="6780960" cy="235440"/>
            </a:xfrm>
          </p:grpSpPr>
          <p:sp>
            <p:nvSpPr>
              <p:cNvPr id="452" name=""/>
              <p:cNvSpPr/>
              <p:nvPr/>
            </p:nvSpPr>
            <p:spPr>
              <a:xfrm>
                <a:off x="0" y="494712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0" y="494712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workSum = die1 + die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0" y="5182560"/>
              <a:ext cx="6780960" cy="289800"/>
              <a:chOff x="0" y="5182560"/>
              <a:chExt cx="6780960" cy="289800"/>
            </a:xfrm>
          </p:grpSpPr>
          <p:sp>
            <p:nvSpPr>
              <p:cNvPr id="455" name=""/>
              <p:cNvSpPr/>
              <p:nvPr/>
            </p:nvSpPr>
            <p:spPr>
              <a:xfrm>
                <a:off x="0" y="5182560"/>
                <a:ext cx="6780960" cy="28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0" y="5182560"/>
                <a:ext cx="6780960" cy="28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Player rolled %d + %d = %d\n", die1, die2, workSum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0" y="5472360"/>
              <a:ext cx="6780960" cy="235440"/>
              <a:chOff x="0" y="5472360"/>
              <a:chExt cx="6780960" cy="235440"/>
            </a:xfrm>
          </p:grpSpPr>
          <p:sp>
            <p:nvSpPr>
              <p:cNvPr id="458" name=""/>
              <p:cNvSpPr/>
              <p:nvPr/>
            </p:nvSpPr>
            <p:spPr>
              <a:xfrm>
                <a:off x="0" y="547236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547236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orkSu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0" y="5708160"/>
              <a:ext cx="6780960" cy="235440"/>
              <a:chOff x="0" y="5708160"/>
              <a:chExt cx="6780960" cy="235440"/>
            </a:xfrm>
          </p:grpSpPr>
          <p:sp>
            <p:nvSpPr>
              <p:cNvPr id="461" name=""/>
              <p:cNvSpPr/>
              <p:nvPr/>
            </p:nvSpPr>
            <p:spPr>
              <a:xfrm>
                <a:off x="0" y="570816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0" y="5708160"/>
                <a:ext cx="6780600" cy="235440"/>
                <a:chOff x="0" y="5708160"/>
                <a:chExt cx="6780600" cy="2354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0" y="5708160"/>
                  <a:ext cx="6780600" cy="2354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0" y="5708160"/>
                  <a:ext cx="678060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65" name=""/>
          <p:cNvSpPr/>
          <p:nvPr/>
        </p:nvSpPr>
        <p:spPr>
          <a:xfrm>
            <a:off x="0" y="594360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rolled 6 + 5 =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w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rolled 6 + 6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los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609480"/>
            <a:ext cx="67816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rolled 4 + 6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is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rolled 2 + 4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rolled 6 + 5 =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rolled 3 + 3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rolled 6 + 4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wi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2133720"/>
            <a:ext cx="6781680" cy="173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rolled 1 + 3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is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rolled 1 + 4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rolled 5 + 4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rolled 4 + 6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rolled 6 +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rolled 1 + 2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rolled 5 + 2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ayer los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and conqu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 a program from smaller pieces or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smaller pieces are called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piece more manageable than the original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orag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age class spec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age duratio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ow long an object exists in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op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here object can be referenced in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nkag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pecifies the files in which an identifier is known (more in Chapter 1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created and destroyed within its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ut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default for local variab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uto double x,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gis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tries to put variable into high-speed regis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be used for automatic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ster int counter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orag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storag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exist for entire program exec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value of z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local variables defined in functions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ep value after function 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known in their own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ter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default for global variables and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n in any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cope Ru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dentifier defined outside function, known in all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for global variables, function definitions, function proto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scop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be referenced inside a function bod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only for label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rt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s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cope Ru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scop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dentifier declared inside a block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scope begins at declaration, ends at right br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for variables, function parameters (local variables of func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er blocks "hidden" from inner blocks if there is a variable with the same name in the inner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for identifiers in parameter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global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2  Initialize local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3  Initialize local variable in block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Outpu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0" y="0"/>
            <a:ext cx="6780960" cy="6629040"/>
            <a:chOff x="0" y="0"/>
            <a:chExt cx="6780960" cy="6629040"/>
          </a:xfrm>
        </p:grpSpPr>
        <p:grpSp>
          <p:nvGrpSpPr>
            <p:cNvPr id="480" name=""/>
            <p:cNvGrpSpPr/>
            <p:nvPr/>
          </p:nvGrpSpPr>
          <p:grpSpPr>
            <a:xfrm>
              <a:off x="0" y="0"/>
              <a:ext cx="6780960" cy="220680"/>
              <a:chOff x="0" y="0"/>
              <a:chExt cx="6780960" cy="220680"/>
            </a:xfrm>
          </p:grpSpPr>
          <p:sp>
            <p:nvSpPr>
              <p:cNvPr id="481" name=""/>
              <p:cNvSpPr/>
              <p:nvPr/>
            </p:nvSpPr>
            <p:spPr>
              <a:xfrm>
                <a:off x="0" y="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5.12: fig05_12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0" y="220680"/>
              <a:ext cx="6780960" cy="220680"/>
              <a:chOff x="0" y="220680"/>
              <a:chExt cx="6780960" cy="220680"/>
            </a:xfrm>
          </p:grpSpPr>
          <p:sp>
            <p:nvSpPr>
              <p:cNvPr id="484" name=""/>
              <p:cNvSpPr/>
              <p:nvPr/>
            </p:nvSpPr>
            <p:spPr>
              <a:xfrm>
                <a:off x="0" y="2206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2206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A scoping exampl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0" y="441720"/>
              <a:ext cx="6780960" cy="221040"/>
              <a:chOff x="0" y="441720"/>
              <a:chExt cx="6780960" cy="221040"/>
            </a:xfrm>
          </p:grpSpPr>
          <p:sp>
            <p:nvSpPr>
              <p:cNvPr id="487" name=""/>
              <p:cNvSpPr/>
              <p:nvPr/>
            </p:nvSpPr>
            <p:spPr>
              <a:xfrm>
                <a:off x="0" y="44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0" y="44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0" y="662760"/>
              <a:ext cx="6780960" cy="220680"/>
              <a:chOff x="0" y="662760"/>
              <a:chExt cx="6780960" cy="220680"/>
            </a:xfrm>
          </p:grpSpPr>
          <p:sp>
            <p:nvSpPr>
              <p:cNvPr id="490" name=""/>
              <p:cNvSpPr/>
              <p:nvPr/>
            </p:nvSpPr>
            <p:spPr>
              <a:xfrm>
                <a:off x="0" y="6627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0" y="6627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0" y="883800"/>
              <a:ext cx="6780960" cy="220680"/>
              <a:chOff x="0" y="883800"/>
              <a:chExt cx="6780960" cy="220680"/>
            </a:xfrm>
          </p:grpSpPr>
          <p:sp>
            <p:nvSpPr>
              <p:cNvPr id="493" name=""/>
              <p:cNvSpPr/>
              <p:nvPr/>
            </p:nvSpPr>
            <p:spPr>
              <a:xfrm>
                <a:off x="0" y="8838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0" y="8838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unction prototyp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0" y="1104840"/>
              <a:ext cx="6780960" cy="220680"/>
              <a:chOff x="0" y="1104840"/>
              <a:chExt cx="6780960" cy="220680"/>
            </a:xfrm>
          </p:grpSpPr>
          <p:sp>
            <p:nvSpPr>
              <p:cNvPr id="496" name=""/>
              <p:cNvSpPr/>
              <p:nvPr/>
            </p:nvSpPr>
            <p:spPr>
              <a:xfrm>
                <a:off x="0" y="11048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0" y="11048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unction prototyp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0" y="1325520"/>
              <a:ext cx="6780960" cy="221040"/>
              <a:chOff x="0" y="1325520"/>
              <a:chExt cx="6780960" cy="221040"/>
            </a:xfrm>
          </p:grpSpPr>
          <p:sp>
            <p:nvSpPr>
              <p:cNvPr id="499" name=""/>
              <p:cNvSpPr/>
              <p:nvPr/>
            </p:nvSpPr>
            <p:spPr>
              <a:xfrm>
                <a:off x="0" y="1325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0" y="1325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unction prototyp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0" y="1546920"/>
              <a:ext cx="6780960" cy="220680"/>
              <a:chOff x="0" y="1546920"/>
              <a:chExt cx="6780960" cy="220680"/>
            </a:xfrm>
          </p:grpSpPr>
          <p:sp>
            <p:nvSpPr>
              <p:cNvPr id="502" name=""/>
              <p:cNvSpPr/>
              <p:nvPr/>
            </p:nvSpPr>
            <p:spPr>
              <a:xfrm>
                <a:off x="0" y="15469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0" y="15469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0" y="1767600"/>
              <a:ext cx="6780960" cy="220680"/>
              <a:chOff x="0" y="1767600"/>
              <a:chExt cx="6780960" cy="220680"/>
            </a:xfrm>
          </p:grpSpPr>
          <p:sp>
            <p:nvSpPr>
              <p:cNvPr id="505" name=""/>
              <p:cNvSpPr/>
              <p:nvPr/>
            </p:nvSpPr>
            <p:spPr>
              <a:xfrm>
                <a:off x="0" y="1767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0" y="1767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1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global variabl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0" y="1988640"/>
              <a:ext cx="6780960" cy="220680"/>
              <a:chOff x="0" y="1988640"/>
              <a:chExt cx="6780960" cy="220680"/>
            </a:xfrm>
          </p:grpSpPr>
          <p:sp>
            <p:nvSpPr>
              <p:cNvPr id="508" name=""/>
              <p:cNvSpPr/>
              <p:nvPr/>
            </p:nvSpPr>
            <p:spPr>
              <a:xfrm>
                <a:off x="0" y="19886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0" y="19886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0" y="2209680"/>
              <a:ext cx="6780960" cy="221040"/>
              <a:chOff x="0" y="2209680"/>
              <a:chExt cx="6780960" cy="221040"/>
            </a:xfrm>
          </p:grpSpPr>
          <p:sp>
            <p:nvSpPr>
              <p:cNvPr id="511" name=""/>
              <p:cNvSpPr/>
              <p:nvPr/>
            </p:nvSpPr>
            <p:spPr>
              <a:xfrm>
                <a:off x="0" y="2209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0" y="2209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0" y="2430720"/>
              <a:ext cx="6780960" cy="220680"/>
              <a:chOff x="0" y="2430720"/>
              <a:chExt cx="6780960" cy="220680"/>
            </a:xfrm>
          </p:grpSpPr>
          <p:sp>
            <p:nvSpPr>
              <p:cNvPr id="514" name=""/>
              <p:cNvSpPr/>
              <p:nvPr/>
            </p:nvSpPr>
            <p:spPr>
              <a:xfrm>
                <a:off x="0" y="24307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0" y="24307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0" y="2651760"/>
              <a:ext cx="6780960" cy="220680"/>
              <a:chOff x="0" y="2651760"/>
              <a:chExt cx="6780960" cy="220680"/>
            </a:xfrm>
          </p:grpSpPr>
          <p:sp>
            <p:nvSpPr>
              <p:cNvPr id="517" name=""/>
              <p:cNvSpPr/>
              <p:nvPr/>
            </p:nvSpPr>
            <p:spPr>
              <a:xfrm>
                <a:off x="0" y="26517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26517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5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local variable to main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0" y="2872800"/>
              <a:ext cx="6780960" cy="220680"/>
              <a:chOff x="0" y="2872800"/>
              <a:chExt cx="6780960" cy="220680"/>
            </a:xfrm>
          </p:grpSpPr>
          <p:sp>
            <p:nvSpPr>
              <p:cNvPr id="520" name=""/>
              <p:cNvSpPr/>
              <p:nvPr/>
            </p:nvSpPr>
            <p:spPr>
              <a:xfrm>
                <a:off x="0" y="28728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0" y="28728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0" y="3093480"/>
              <a:ext cx="6780960" cy="221040"/>
              <a:chOff x="0" y="3093480"/>
              <a:chExt cx="6780960" cy="221040"/>
            </a:xfrm>
          </p:grpSpPr>
          <p:sp>
            <p:nvSpPr>
              <p:cNvPr id="523" name=""/>
              <p:cNvSpPr/>
              <p:nvPr/>
            </p:nvSpPr>
            <p:spPr>
              <a:xfrm>
                <a:off x="0" y="309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0" y="309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"local x in outer scope of main is %d\n", x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0" y="3314880"/>
              <a:ext cx="6780960" cy="220680"/>
              <a:chOff x="0" y="3314880"/>
              <a:chExt cx="6780960" cy="220680"/>
            </a:xfrm>
          </p:grpSpPr>
          <p:sp>
            <p:nvSpPr>
              <p:cNvPr id="526" name=""/>
              <p:cNvSpPr/>
              <p:nvPr/>
            </p:nvSpPr>
            <p:spPr>
              <a:xfrm>
                <a:off x="0" y="33148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0" y="33148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0" y="3535560"/>
              <a:ext cx="6780960" cy="220680"/>
              <a:chOff x="0" y="3535560"/>
              <a:chExt cx="6780960" cy="220680"/>
            </a:xfrm>
          </p:grpSpPr>
          <p:sp>
            <p:nvSpPr>
              <p:cNvPr id="529" name=""/>
              <p:cNvSpPr/>
              <p:nvPr/>
            </p:nvSpPr>
            <p:spPr>
              <a:xfrm>
                <a:off x="0" y="35355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35355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start new scop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0" y="3756600"/>
              <a:ext cx="6780960" cy="220680"/>
              <a:chOff x="0" y="3756600"/>
              <a:chExt cx="6780960" cy="220680"/>
            </a:xfrm>
          </p:grpSpPr>
          <p:sp>
            <p:nvSpPr>
              <p:cNvPr id="532" name=""/>
              <p:cNvSpPr/>
              <p:nvPr/>
            </p:nvSpPr>
            <p:spPr>
              <a:xfrm>
                <a:off x="0" y="3756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0" y="3756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7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0" y="3977640"/>
              <a:ext cx="6780960" cy="220680"/>
              <a:chOff x="0" y="3977640"/>
              <a:chExt cx="6780960" cy="220680"/>
            </a:xfrm>
          </p:grpSpPr>
          <p:sp>
            <p:nvSpPr>
              <p:cNvPr id="535" name=""/>
              <p:cNvSpPr/>
              <p:nvPr/>
            </p:nvSpPr>
            <p:spPr>
              <a:xfrm>
                <a:off x="0" y="39776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0" y="39776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0" y="4198680"/>
              <a:ext cx="6780960" cy="221040"/>
              <a:chOff x="0" y="4198680"/>
              <a:chExt cx="6780960" cy="221040"/>
            </a:xfrm>
          </p:grpSpPr>
          <p:sp>
            <p:nvSpPr>
              <p:cNvPr id="538" name=""/>
              <p:cNvSpPr/>
              <p:nvPr/>
            </p:nvSpPr>
            <p:spPr>
              <a:xfrm>
                <a:off x="0" y="4198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0" y="4198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local x in inner scope of main is %d\n", x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0" y="4419720"/>
              <a:ext cx="6780960" cy="220680"/>
              <a:chOff x="0" y="4419720"/>
              <a:chExt cx="6780960" cy="220680"/>
            </a:xfrm>
          </p:grpSpPr>
          <p:sp>
            <p:nvSpPr>
              <p:cNvPr id="541" name=""/>
              <p:cNvSpPr/>
              <p:nvPr/>
            </p:nvSpPr>
            <p:spPr>
              <a:xfrm>
                <a:off x="0" y="44197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0" y="44197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end new scop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0" y="4640400"/>
              <a:ext cx="6780960" cy="220680"/>
              <a:chOff x="0" y="4640400"/>
              <a:chExt cx="6780960" cy="220680"/>
            </a:xfrm>
          </p:grpSpPr>
          <p:sp>
            <p:nvSpPr>
              <p:cNvPr id="544" name=""/>
              <p:cNvSpPr/>
              <p:nvPr/>
            </p:nvSpPr>
            <p:spPr>
              <a:xfrm>
                <a:off x="0" y="46404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0" y="46404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0" y="4861440"/>
              <a:ext cx="6780960" cy="220680"/>
              <a:chOff x="0" y="4861440"/>
              <a:chExt cx="6780960" cy="220680"/>
            </a:xfrm>
          </p:grpSpPr>
          <p:sp>
            <p:nvSpPr>
              <p:cNvPr id="547" name=""/>
              <p:cNvSpPr/>
              <p:nvPr/>
            </p:nvSpPr>
            <p:spPr>
              <a:xfrm>
                <a:off x="0" y="48614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0" y="48614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local x in outer scope of main is %d\n", x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0" y="5082480"/>
              <a:ext cx="6780960" cy="221040"/>
              <a:chOff x="0" y="5082480"/>
              <a:chExt cx="6780960" cy="221040"/>
            </a:xfrm>
          </p:grpSpPr>
          <p:sp>
            <p:nvSpPr>
              <p:cNvPr id="550" name=""/>
              <p:cNvSpPr/>
              <p:nvPr/>
            </p:nvSpPr>
            <p:spPr>
              <a:xfrm>
                <a:off x="0" y="5082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0" y="5082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0" y="5303520"/>
              <a:ext cx="6780960" cy="220680"/>
              <a:chOff x="0" y="5303520"/>
              <a:chExt cx="6780960" cy="220680"/>
            </a:xfrm>
          </p:grpSpPr>
          <p:sp>
            <p:nvSpPr>
              <p:cNvPr id="553" name=""/>
              <p:cNvSpPr/>
              <p:nvPr/>
            </p:nvSpPr>
            <p:spPr>
              <a:xfrm>
                <a:off x="0" y="53035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53035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a has automatic local x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0" y="5524560"/>
              <a:ext cx="6780960" cy="220680"/>
              <a:chOff x="0" y="5524560"/>
              <a:chExt cx="6780960" cy="220680"/>
            </a:xfrm>
          </p:grpSpPr>
          <p:sp>
            <p:nvSpPr>
              <p:cNvPr id="556" name=""/>
              <p:cNvSpPr/>
              <p:nvPr/>
            </p:nvSpPr>
            <p:spPr>
              <a:xfrm>
                <a:off x="0" y="55245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0" y="55245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b has static local x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0" y="5745600"/>
              <a:ext cx="6780960" cy="220680"/>
              <a:chOff x="0" y="5745600"/>
              <a:chExt cx="6780960" cy="220680"/>
            </a:xfrm>
          </p:grpSpPr>
          <p:sp>
            <p:nvSpPr>
              <p:cNvPr id="559" name=""/>
              <p:cNvSpPr/>
              <p:nvPr/>
            </p:nvSpPr>
            <p:spPr>
              <a:xfrm>
                <a:off x="0" y="5745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0" y="5745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c uses global x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0" y="5966280"/>
              <a:ext cx="6780960" cy="221040"/>
              <a:chOff x="0" y="5966280"/>
              <a:chExt cx="6780960" cy="221040"/>
            </a:xfrm>
          </p:grpSpPr>
          <p:sp>
            <p:nvSpPr>
              <p:cNvPr id="562" name=""/>
              <p:cNvSpPr/>
              <p:nvPr/>
            </p:nvSpPr>
            <p:spPr>
              <a:xfrm>
                <a:off x="0" y="5966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5966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a reinitializes automatic local x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0" y="6187680"/>
              <a:ext cx="6780960" cy="220680"/>
              <a:chOff x="0" y="6187680"/>
              <a:chExt cx="6780960" cy="220680"/>
            </a:xfrm>
          </p:grpSpPr>
          <p:sp>
            <p:nvSpPr>
              <p:cNvPr id="565" name=""/>
              <p:cNvSpPr/>
              <p:nvPr/>
            </p:nvSpPr>
            <p:spPr>
              <a:xfrm>
                <a:off x="0" y="61876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0" y="61876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static local x retains its previous valu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0" y="6408360"/>
              <a:ext cx="6780960" cy="220680"/>
              <a:chOff x="0" y="6408360"/>
              <a:chExt cx="6780960" cy="220680"/>
            </a:xfrm>
          </p:grpSpPr>
          <p:sp>
            <p:nvSpPr>
              <p:cNvPr id="568" name=""/>
              <p:cNvSpPr/>
              <p:nvPr/>
            </p:nvSpPr>
            <p:spPr>
              <a:xfrm>
                <a:off x="0" y="64083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0" y="64083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global x also retains its valu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0" y="0"/>
            <a:ext cx="6780960" cy="6629040"/>
            <a:chOff x="0" y="0"/>
            <a:chExt cx="6780960" cy="6629040"/>
          </a:xfrm>
        </p:grpSpPr>
        <p:grpSp>
          <p:nvGrpSpPr>
            <p:cNvPr id="572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573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576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local x in main is %d\n", x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579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582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585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588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591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594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25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initialized each time a is called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597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600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local x in a is %d after entering a\n", x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603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++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606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local x in a is %d before exiting a\n", x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609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612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615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618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621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5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static initialization only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624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rst time b is called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627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printf( "\nlocal static x is %d on entering b\n", x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630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++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633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printf( "local static x is %d on exiting b\n", x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636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639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642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645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648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global x is %d on entering c\n", x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651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x *= 1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654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global x is %d on exiting c\n", x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657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60" name=""/>
          <p:cNvSpPr/>
          <p:nvPr/>
        </p:nvSpPr>
        <p:spPr>
          <a:xfrm>
            <a:off x="0" y="0"/>
            <a:ext cx="6781680" cy="4656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outer scope of main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inner scope of main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outer scope of main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a is 25 after entering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a is 26 before exiting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static x is 50 on entering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static x is 51 on exiting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lobal x is 1 on entering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lobal x is 10 on exiting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a is 25 after entering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a is 26 before exiting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static x is 51 on entering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static x is 52 on exiting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lobal x is 10 on entering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lobal x is 100 on exiting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main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cursion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 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that call themsel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solve a base c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vide a problem up i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t can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t cannot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t cannot do resembles original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unction launches a new copy of itself (recursion step) to solve what it cannot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ntually base case gets solv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s plugged in, works its way up and solves whol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cursion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facto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! = 5 * 4 * 3 * 2 *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ice th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! = 5 * 4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! = 4 * 3!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compute factorials recursivel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lve base cas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! = 0! = 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then plug 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! = 2 * 1! = 2 * 1 =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! = 3 * 2! = 3 * 2 = 6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 Using Recursion: The Fibonacci Ser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bonacci series: 0, 1, 1, 2, 3, 5, 8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number is the sum of the previous tw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solved recursivel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b( n ) = fib( n - 1 ) + fib( n – 2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de for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baonacc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 fibonacci( long 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n == 0 || n == 1)  // bas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fibonacci( n - 1) 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fibonacci( n – 2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0" y="1619280"/>
            <a:ext cx="548640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0" y="300024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39625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ogram Modules in 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ules in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combine user-defined functions with library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standard library has a wide variety of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ing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function name and arguments (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performs operations or manip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returns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call ana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ss asks worker to complete tas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er gets information, does task, returns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hiding: boss does not know 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 Using Recursion: The Fibonacci Ser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of recursive calls to 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ibona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838080" y="1855800"/>
            <a:ext cx="6933240" cy="3553560"/>
            <a:chOff x="838080" y="1855800"/>
            <a:chExt cx="6933240" cy="3553560"/>
          </a:xfrm>
        </p:grpSpPr>
        <p:sp>
          <p:nvSpPr>
            <p:cNvPr id="673" name=""/>
            <p:cNvSpPr/>
            <p:nvPr/>
          </p:nvSpPr>
          <p:spPr>
            <a:xfrm>
              <a:off x="1558080" y="4878720"/>
              <a:ext cx="1888920" cy="137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833"/>
                  </a:moveTo>
                  <a:lnTo>
                    <a:pt x="1998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695400" y="4878720"/>
              <a:ext cx="1888200" cy="137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833"/>
                  </a:moveTo>
                  <a:lnTo>
                    <a:pt x="1998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882400" y="3861720"/>
              <a:ext cx="1888920" cy="13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833"/>
                  </a:moveTo>
                  <a:lnTo>
                    <a:pt x="1998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38080" y="3861720"/>
              <a:ext cx="4343760" cy="13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19833"/>
                  </a:moveTo>
                  <a:lnTo>
                    <a:pt x="1999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88960" y="2859840"/>
              <a:ext cx="4533120" cy="13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19833"/>
                  </a:moveTo>
                  <a:lnTo>
                    <a:pt x="1999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25520" y="1855800"/>
              <a:ext cx="1133280" cy="415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741840" y="2964240"/>
              <a:ext cx="1133280" cy="415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520960" y="2964240"/>
              <a:ext cx="1133280" cy="415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071760" y="3977640"/>
              <a:ext cx="1510560" cy="415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03120" y="3977640"/>
              <a:ext cx="1133280" cy="415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04920" y="3977640"/>
              <a:ext cx="1133280" cy="415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50680" y="4993920"/>
              <a:ext cx="1510560" cy="415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880080" y="4993920"/>
              <a:ext cx="1510560" cy="415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23480" y="2282400"/>
              <a:ext cx="360" cy="577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6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659760" y="3391560"/>
              <a:ext cx="641520" cy="469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1"/>
                  </a:moveTo>
                  <a:lnTo>
                    <a:pt x="1995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118920" y="3385800"/>
              <a:ext cx="409320" cy="475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23" y="199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83440" y="4395960"/>
              <a:ext cx="360" cy="4824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489560" y="4395960"/>
              <a:ext cx="360" cy="4824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092480" y="1907280"/>
              <a:ext cx="119556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( 3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591520" y="3021840"/>
              <a:ext cx="119664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( 1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821040" y="3018960"/>
              <a:ext cx="119556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( 2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160360" y="4037760"/>
              <a:ext cx="119556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( 1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962160" y="4037760"/>
              <a:ext cx="119664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( 0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142320" y="4037760"/>
              <a:ext cx="157392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833840" y="5065920"/>
              <a:ext cx="157392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942360" y="5065920"/>
              <a:ext cx="157392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943920" y="4037760"/>
              <a:ext cx="119664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481920" y="4047120"/>
              <a:ext cx="25236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119560" y="3021840"/>
              <a:ext cx="25164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604960" y="3015720"/>
              <a:ext cx="119664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0" y="1619280"/>
            <a:ext cx="548640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300024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0" y="39625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Input an integ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Call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Output results.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recursivel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0" y="0"/>
            <a:ext cx="6780960" cy="5562720"/>
            <a:chOff x="0" y="0"/>
            <a:chExt cx="6780960" cy="5562720"/>
          </a:xfrm>
        </p:grpSpPr>
        <p:grpSp>
          <p:nvGrpSpPr>
            <p:cNvPr id="708" name=""/>
            <p:cNvGrpSpPr/>
            <p:nvPr/>
          </p:nvGrpSpPr>
          <p:grpSpPr>
            <a:xfrm>
              <a:off x="0" y="0"/>
              <a:ext cx="6780960" cy="222480"/>
              <a:chOff x="0" y="0"/>
              <a:chExt cx="6780960" cy="222480"/>
            </a:xfrm>
          </p:grpSpPr>
          <p:sp>
            <p:nvSpPr>
              <p:cNvPr id="709" name=""/>
              <p:cNvSpPr/>
              <p:nvPr/>
            </p:nvSpPr>
            <p:spPr>
              <a:xfrm>
                <a:off x="0" y="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0" y="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5.15: fig05_15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0" y="222480"/>
              <a:ext cx="6780960" cy="222480"/>
              <a:chOff x="0" y="222480"/>
              <a:chExt cx="6780960" cy="222480"/>
            </a:xfrm>
          </p:grpSpPr>
          <p:sp>
            <p:nvSpPr>
              <p:cNvPr id="712" name=""/>
              <p:cNvSpPr/>
              <p:nvPr/>
            </p:nvSpPr>
            <p:spPr>
              <a:xfrm>
                <a:off x="0" y="22248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0" y="22248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Recursive fibonacci function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0" y="444960"/>
              <a:ext cx="6780960" cy="222480"/>
              <a:chOff x="0" y="444960"/>
              <a:chExt cx="6780960" cy="222480"/>
            </a:xfrm>
          </p:grpSpPr>
          <p:sp>
            <p:nvSpPr>
              <p:cNvPr id="715" name=""/>
              <p:cNvSpPr/>
              <p:nvPr/>
            </p:nvSpPr>
            <p:spPr>
              <a:xfrm>
                <a:off x="0" y="44496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0" y="44496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0" y="667440"/>
              <a:ext cx="6780960" cy="222480"/>
              <a:chOff x="0" y="667440"/>
              <a:chExt cx="6780960" cy="222480"/>
            </a:xfrm>
          </p:grpSpPr>
          <p:sp>
            <p:nvSpPr>
              <p:cNvPr id="718" name=""/>
              <p:cNvSpPr/>
              <p:nvPr/>
            </p:nvSpPr>
            <p:spPr>
              <a:xfrm>
                <a:off x="0" y="66744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0" y="66744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0" y="889920"/>
              <a:ext cx="6780960" cy="222480"/>
              <a:chOff x="0" y="889920"/>
              <a:chExt cx="6780960" cy="222480"/>
            </a:xfrm>
          </p:grpSpPr>
          <p:sp>
            <p:nvSpPr>
              <p:cNvPr id="721" name=""/>
              <p:cNvSpPr/>
              <p:nvPr/>
            </p:nvSpPr>
            <p:spPr>
              <a:xfrm>
                <a:off x="0" y="88992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0" y="88992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lo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bonacci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lo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0" y="1112400"/>
              <a:ext cx="6780960" cy="222480"/>
              <a:chOff x="0" y="1112400"/>
              <a:chExt cx="6780960" cy="222480"/>
            </a:xfrm>
          </p:grpSpPr>
          <p:sp>
            <p:nvSpPr>
              <p:cNvPr id="724" name=""/>
              <p:cNvSpPr/>
              <p:nvPr/>
            </p:nvSpPr>
            <p:spPr>
              <a:xfrm>
                <a:off x="0" y="111240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111240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0" y="1334880"/>
              <a:ext cx="6780960" cy="222480"/>
              <a:chOff x="0" y="1334880"/>
              <a:chExt cx="6780960" cy="222480"/>
            </a:xfrm>
          </p:grpSpPr>
          <p:sp>
            <p:nvSpPr>
              <p:cNvPr id="727" name=""/>
              <p:cNvSpPr/>
              <p:nvPr/>
            </p:nvSpPr>
            <p:spPr>
              <a:xfrm>
                <a:off x="0" y="133488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0" y="133488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0" y="1557360"/>
              <a:ext cx="6780960" cy="222480"/>
              <a:chOff x="0" y="1557360"/>
              <a:chExt cx="6780960" cy="222480"/>
            </a:xfrm>
          </p:grpSpPr>
          <p:sp>
            <p:nvSpPr>
              <p:cNvPr id="730" name=""/>
              <p:cNvSpPr/>
              <p:nvPr/>
            </p:nvSpPr>
            <p:spPr>
              <a:xfrm>
                <a:off x="0" y="155736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0" y="155736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0" y="1779840"/>
              <a:ext cx="6780960" cy="222480"/>
              <a:chOff x="0" y="1779840"/>
              <a:chExt cx="6780960" cy="222480"/>
            </a:xfrm>
          </p:grpSpPr>
          <p:sp>
            <p:nvSpPr>
              <p:cNvPr id="733" name=""/>
              <p:cNvSpPr/>
              <p:nvPr/>
            </p:nvSpPr>
            <p:spPr>
              <a:xfrm>
                <a:off x="0" y="177984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0" y="177984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lo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esult, numb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0" y="2002320"/>
              <a:ext cx="6780960" cy="222480"/>
              <a:chOff x="0" y="2002320"/>
              <a:chExt cx="6780960" cy="222480"/>
            </a:xfrm>
          </p:grpSpPr>
          <p:sp>
            <p:nvSpPr>
              <p:cNvPr id="736" name=""/>
              <p:cNvSpPr/>
              <p:nvPr/>
            </p:nvSpPr>
            <p:spPr>
              <a:xfrm>
                <a:off x="0" y="200232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0" y="200232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"/>
            <p:cNvGrpSpPr/>
            <p:nvPr/>
          </p:nvGrpSpPr>
          <p:grpSpPr>
            <a:xfrm>
              <a:off x="0" y="2224800"/>
              <a:ext cx="6780960" cy="222480"/>
              <a:chOff x="0" y="2224800"/>
              <a:chExt cx="6780960" cy="222480"/>
            </a:xfrm>
          </p:grpSpPr>
          <p:sp>
            <p:nvSpPr>
              <p:cNvPr id="739" name=""/>
              <p:cNvSpPr/>
              <p:nvPr/>
            </p:nvSpPr>
            <p:spPr>
              <a:xfrm>
                <a:off x="0" y="222480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0" y="222480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Enter an integer: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"/>
            <p:cNvGrpSpPr/>
            <p:nvPr/>
          </p:nvGrpSpPr>
          <p:grpSpPr>
            <a:xfrm>
              <a:off x="0" y="2447640"/>
              <a:ext cx="6780960" cy="222480"/>
              <a:chOff x="0" y="2447640"/>
              <a:chExt cx="6780960" cy="222480"/>
            </a:xfrm>
          </p:grpSpPr>
          <p:sp>
            <p:nvSpPr>
              <p:cNvPr id="742" name=""/>
              <p:cNvSpPr/>
              <p:nvPr/>
            </p:nvSpPr>
            <p:spPr>
              <a:xfrm>
                <a:off x="0" y="244764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0" y="244764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canf( "%ld", &amp;numb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0" y="2670120"/>
              <a:ext cx="6780960" cy="222480"/>
              <a:chOff x="0" y="2670120"/>
              <a:chExt cx="6780960" cy="222480"/>
            </a:xfrm>
          </p:grpSpPr>
          <p:sp>
            <p:nvSpPr>
              <p:cNvPr id="745" name=""/>
              <p:cNvSpPr/>
              <p:nvPr/>
            </p:nvSpPr>
            <p:spPr>
              <a:xfrm>
                <a:off x="0" y="267012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0" y="267012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result = fibonacci( numb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0" y="2892600"/>
              <a:ext cx="6780960" cy="222480"/>
              <a:chOff x="0" y="2892600"/>
              <a:chExt cx="6780960" cy="222480"/>
            </a:xfrm>
          </p:grpSpPr>
          <p:sp>
            <p:nvSpPr>
              <p:cNvPr id="748" name=""/>
              <p:cNvSpPr/>
              <p:nvPr/>
            </p:nvSpPr>
            <p:spPr>
              <a:xfrm>
                <a:off x="0" y="289260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0" y="289260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Fibonacci( %ld ) = %ld\n", number, resul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0" y="3115080"/>
              <a:ext cx="6780960" cy="222480"/>
              <a:chOff x="0" y="3115080"/>
              <a:chExt cx="6780960" cy="222480"/>
            </a:xfrm>
          </p:grpSpPr>
          <p:sp>
            <p:nvSpPr>
              <p:cNvPr id="751" name=""/>
              <p:cNvSpPr/>
              <p:nvPr/>
            </p:nvSpPr>
            <p:spPr>
              <a:xfrm>
                <a:off x="0" y="311508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0" y="311508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0" y="3337560"/>
              <a:ext cx="6780960" cy="222480"/>
              <a:chOff x="0" y="3337560"/>
              <a:chExt cx="6780960" cy="222480"/>
            </a:xfrm>
          </p:grpSpPr>
          <p:sp>
            <p:nvSpPr>
              <p:cNvPr id="754" name=""/>
              <p:cNvSpPr/>
              <p:nvPr/>
            </p:nvSpPr>
            <p:spPr>
              <a:xfrm>
                <a:off x="0" y="333756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333756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0" y="3560040"/>
              <a:ext cx="6780960" cy="222480"/>
              <a:chOff x="0" y="3560040"/>
              <a:chExt cx="6780960" cy="222480"/>
            </a:xfrm>
          </p:grpSpPr>
          <p:sp>
            <p:nvSpPr>
              <p:cNvPr id="757" name=""/>
              <p:cNvSpPr/>
              <p:nvPr/>
            </p:nvSpPr>
            <p:spPr>
              <a:xfrm>
                <a:off x="0" y="356004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0" y="356004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0" y="3782520"/>
              <a:ext cx="6780960" cy="222480"/>
              <a:chOff x="0" y="3782520"/>
              <a:chExt cx="6780960" cy="222480"/>
            </a:xfrm>
          </p:grpSpPr>
          <p:sp>
            <p:nvSpPr>
              <p:cNvPr id="760" name=""/>
              <p:cNvSpPr/>
              <p:nvPr/>
            </p:nvSpPr>
            <p:spPr>
              <a:xfrm>
                <a:off x="0" y="378252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0" y="378252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Recursive definition of function fibonacci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0" y="4005000"/>
              <a:ext cx="6780960" cy="222480"/>
              <a:chOff x="0" y="4005000"/>
              <a:chExt cx="6780960" cy="222480"/>
            </a:xfrm>
          </p:grpSpPr>
          <p:sp>
            <p:nvSpPr>
              <p:cNvPr id="763" name=""/>
              <p:cNvSpPr/>
              <p:nvPr/>
            </p:nvSpPr>
            <p:spPr>
              <a:xfrm>
                <a:off x="0" y="400500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0" y="400500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lo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bonacci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lo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0" y="4227480"/>
              <a:ext cx="6780960" cy="222480"/>
              <a:chOff x="0" y="4227480"/>
              <a:chExt cx="6780960" cy="222480"/>
            </a:xfrm>
          </p:grpSpPr>
          <p:sp>
            <p:nvSpPr>
              <p:cNvPr id="766" name=""/>
              <p:cNvSpPr/>
              <p:nvPr/>
            </p:nvSpPr>
            <p:spPr>
              <a:xfrm>
                <a:off x="0" y="422748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0" y="422748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0" y="4450320"/>
              <a:ext cx="6780960" cy="222480"/>
              <a:chOff x="0" y="4450320"/>
              <a:chExt cx="6780960" cy="222480"/>
            </a:xfrm>
          </p:grpSpPr>
          <p:sp>
            <p:nvSpPr>
              <p:cNvPr id="769" name=""/>
              <p:cNvSpPr/>
              <p:nvPr/>
            </p:nvSpPr>
            <p:spPr>
              <a:xfrm>
                <a:off x="0" y="445032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445032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 == 0 || n == 1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0" y="4672800"/>
              <a:ext cx="6780960" cy="222480"/>
              <a:chOff x="0" y="4672800"/>
              <a:chExt cx="6780960" cy="222480"/>
            </a:xfrm>
          </p:grpSpPr>
          <p:sp>
            <p:nvSpPr>
              <p:cNvPr id="772" name=""/>
              <p:cNvSpPr/>
              <p:nvPr/>
            </p:nvSpPr>
            <p:spPr>
              <a:xfrm>
                <a:off x="0" y="467280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0" y="467280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0" y="4895280"/>
              <a:ext cx="6780960" cy="222480"/>
              <a:chOff x="0" y="4895280"/>
              <a:chExt cx="6780960" cy="222480"/>
            </a:xfrm>
          </p:grpSpPr>
          <p:sp>
            <p:nvSpPr>
              <p:cNvPr id="775" name=""/>
              <p:cNvSpPr/>
              <p:nvPr/>
            </p:nvSpPr>
            <p:spPr>
              <a:xfrm>
                <a:off x="0" y="489528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0" y="489528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0" y="5117760"/>
              <a:ext cx="6780960" cy="222480"/>
              <a:chOff x="0" y="5117760"/>
              <a:chExt cx="6780960" cy="222480"/>
            </a:xfrm>
          </p:grpSpPr>
          <p:sp>
            <p:nvSpPr>
              <p:cNvPr id="778" name=""/>
              <p:cNvSpPr/>
              <p:nvPr/>
            </p:nvSpPr>
            <p:spPr>
              <a:xfrm>
                <a:off x="0" y="511776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0" y="511776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bonacci( n - 1 ) + fibonacci( n - 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5340240"/>
              <a:ext cx="6780960" cy="222480"/>
              <a:chOff x="0" y="5340240"/>
              <a:chExt cx="6780960" cy="22248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534024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0" y="5340240"/>
                <a:ext cx="6780960" cy="222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3" name=""/>
          <p:cNvSpPr/>
          <p:nvPr/>
        </p:nvSpPr>
        <p:spPr>
          <a:xfrm>
            <a:off x="0" y="5562720"/>
            <a:ext cx="678168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0)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1)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0"/>
            <a:ext cx="6781680" cy="502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2)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3)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4)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5)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6)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10) =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20) = 67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30) = 8320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35) = 92274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cursion vs. It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eration:  explicit lo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ursion:  repeated function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eration: loop condition fai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ursion: base case recogn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can have infinite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oice between performance (iteration) and good software engineering (recurs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ath Library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 library 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 common mathematical calcul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include &lt;math.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 for calling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unctionName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rgum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multiple arguments, use comma-separated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f( "%.2f", sqrt( 900.0 ) 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ich returns the square root of its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math functions return data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guments may be constants, variables, or expres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ularize a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variables declared inside functions are local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n only in function 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e information between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nefits of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vide and conqu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able program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ftware reus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existing functions as building blocks for new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straction - hide internal details (library func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void code repet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definition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turn-value-type  function-name( parameter-list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declarations and statemen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-name: any valid identif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-value-type: data type of the result (defaul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dicates that the function returns 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-list: comma separated list, declares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ype must be listed explicitly for each parameter unless, the parameter is of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definition format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turn-value-type  function-name( parameter-list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declarations and statemen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ations and statements: function body (bloc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can be declared inside blocks (can be nes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can not be defined inside othe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ing contr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thing return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, until reaches right br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omething return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 (3 parameter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Input valu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Call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0"/>
            <a:ext cx="6780960" cy="6095880"/>
            <a:chOff x="0" y="0"/>
            <a:chExt cx="6780960" cy="6095880"/>
          </a:xfrm>
        </p:grpSpPr>
        <p:grpSp>
          <p:nvGrpSpPr>
            <p:cNvPr id="110" name=""/>
            <p:cNvGrpSpPr/>
            <p:nvPr/>
          </p:nvGrpSpPr>
          <p:grpSpPr>
            <a:xfrm>
              <a:off x="0" y="0"/>
              <a:ext cx="6780960" cy="203040"/>
              <a:chOff x="0" y="0"/>
              <a:chExt cx="6780960" cy="203040"/>
            </a:xfrm>
          </p:grpSpPr>
          <p:sp>
            <p:nvSpPr>
              <p:cNvPr id="111" name=""/>
              <p:cNvSpPr/>
              <p:nvPr/>
            </p:nvSpPr>
            <p:spPr>
              <a:xfrm>
                <a:off x="0" y="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5.4: fig05_04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0" y="203040"/>
              <a:ext cx="6780960" cy="203040"/>
              <a:chOff x="0" y="203040"/>
              <a:chExt cx="6780960" cy="203040"/>
            </a:xfrm>
          </p:grpSpPr>
          <p:sp>
            <p:nvSpPr>
              <p:cNvPr id="114" name=""/>
              <p:cNvSpPr/>
              <p:nvPr/>
            </p:nvSpPr>
            <p:spPr>
              <a:xfrm>
                <a:off x="0" y="2030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2030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Finding the maximum of three integers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0" y="406080"/>
              <a:ext cx="6780960" cy="203040"/>
              <a:chOff x="0" y="406080"/>
              <a:chExt cx="6780960" cy="203040"/>
            </a:xfrm>
          </p:grpSpPr>
          <p:sp>
            <p:nvSpPr>
              <p:cNvPr id="117" name=""/>
              <p:cNvSpPr/>
              <p:nvPr/>
            </p:nvSpPr>
            <p:spPr>
              <a:xfrm>
                <a:off x="0" y="40608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40608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0" y="609480"/>
              <a:ext cx="6780960" cy="203040"/>
              <a:chOff x="0" y="609480"/>
              <a:chExt cx="6780960" cy="20304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60948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60948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0" y="812520"/>
              <a:ext cx="6780960" cy="203040"/>
              <a:chOff x="0" y="812520"/>
              <a:chExt cx="6780960" cy="203040"/>
            </a:xfrm>
          </p:grpSpPr>
          <p:sp>
            <p:nvSpPr>
              <p:cNvPr id="123" name=""/>
              <p:cNvSpPr/>
              <p:nvPr/>
            </p:nvSpPr>
            <p:spPr>
              <a:xfrm>
                <a:off x="0" y="8125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8125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unction prototyp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0" y="1015920"/>
              <a:ext cx="6780960" cy="203040"/>
              <a:chOff x="0" y="1015920"/>
              <a:chExt cx="6780960" cy="203040"/>
            </a:xfrm>
          </p:grpSpPr>
          <p:sp>
            <p:nvSpPr>
              <p:cNvPr id="126" name=""/>
              <p:cNvSpPr/>
              <p:nvPr/>
            </p:nvSpPr>
            <p:spPr>
              <a:xfrm>
                <a:off x="0" y="10159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10159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0" y="1218960"/>
              <a:ext cx="6780960" cy="203040"/>
              <a:chOff x="0" y="1218960"/>
              <a:chExt cx="6780960" cy="203040"/>
            </a:xfrm>
          </p:grpSpPr>
          <p:sp>
            <p:nvSpPr>
              <p:cNvPr id="129" name=""/>
              <p:cNvSpPr/>
              <p:nvPr/>
            </p:nvSpPr>
            <p:spPr>
              <a:xfrm>
                <a:off x="0" y="121896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121896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0" y="1422360"/>
              <a:ext cx="6780960" cy="203040"/>
              <a:chOff x="0" y="1422360"/>
              <a:chExt cx="6780960" cy="203040"/>
            </a:xfrm>
          </p:grpSpPr>
          <p:sp>
            <p:nvSpPr>
              <p:cNvPr id="132" name=""/>
              <p:cNvSpPr/>
              <p:nvPr/>
            </p:nvSpPr>
            <p:spPr>
              <a:xfrm>
                <a:off x="0" y="142236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2236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0" y="1625400"/>
              <a:ext cx="6780960" cy="203040"/>
              <a:chOff x="0" y="1625400"/>
              <a:chExt cx="6780960" cy="203040"/>
            </a:xfrm>
          </p:grpSpPr>
          <p:sp>
            <p:nvSpPr>
              <p:cNvPr id="135" name=""/>
              <p:cNvSpPr/>
              <p:nvPr/>
            </p:nvSpPr>
            <p:spPr>
              <a:xfrm>
                <a:off x="0" y="162540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162540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b,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0" y="1828800"/>
              <a:ext cx="6780960" cy="203040"/>
              <a:chOff x="0" y="1828800"/>
              <a:chExt cx="6780960" cy="203040"/>
            </a:xfrm>
          </p:grpSpPr>
          <p:sp>
            <p:nvSpPr>
              <p:cNvPr id="138" name=""/>
              <p:cNvSpPr/>
              <p:nvPr/>
            </p:nvSpPr>
            <p:spPr>
              <a:xfrm>
                <a:off x="0" y="182880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182880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0" y="2031840"/>
              <a:ext cx="6780960" cy="203040"/>
              <a:chOff x="0" y="2031840"/>
              <a:chExt cx="6780960" cy="203040"/>
            </a:xfrm>
          </p:grpSpPr>
          <p:sp>
            <p:nvSpPr>
              <p:cNvPr id="141" name=""/>
              <p:cNvSpPr/>
              <p:nvPr/>
            </p:nvSpPr>
            <p:spPr>
              <a:xfrm>
                <a:off x="0" y="20318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20318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Enter three integers: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0" y="2235240"/>
              <a:ext cx="6780960" cy="203040"/>
              <a:chOff x="0" y="2235240"/>
              <a:chExt cx="6780960" cy="203040"/>
            </a:xfrm>
          </p:grpSpPr>
          <p:sp>
            <p:nvSpPr>
              <p:cNvPr id="144" name=""/>
              <p:cNvSpPr/>
              <p:nvPr/>
            </p:nvSpPr>
            <p:spPr>
              <a:xfrm>
                <a:off x="0" y="22352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22352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canf( "%d%d%d", &amp;a, &amp;b, &amp;c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0" y="2438280"/>
              <a:ext cx="6780960" cy="203040"/>
              <a:chOff x="0" y="2438280"/>
              <a:chExt cx="6780960" cy="203040"/>
            </a:xfrm>
          </p:grpSpPr>
          <p:sp>
            <p:nvSpPr>
              <p:cNvPr id="147" name=""/>
              <p:cNvSpPr/>
              <p:nvPr/>
            </p:nvSpPr>
            <p:spPr>
              <a:xfrm>
                <a:off x="0" y="243828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243828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Maximum is: %d\n", maximum( a, b, c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0" y="2641320"/>
              <a:ext cx="6780960" cy="203040"/>
              <a:chOff x="0" y="2641320"/>
              <a:chExt cx="6780960" cy="203040"/>
            </a:xfrm>
          </p:grpSpPr>
          <p:sp>
            <p:nvSpPr>
              <p:cNvPr id="150" name=""/>
              <p:cNvSpPr/>
              <p:nvPr/>
            </p:nvSpPr>
            <p:spPr>
              <a:xfrm>
                <a:off x="0" y="26413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6413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0" y="2844720"/>
              <a:ext cx="6780960" cy="203040"/>
              <a:chOff x="0" y="2844720"/>
              <a:chExt cx="6780960" cy="203040"/>
            </a:xfrm>
          </p:grpSpPr>
          <p:sp>
            <p:nvSpPr>
              <p:cNvPr id="153" name=""/>
              <p:cNvSpPr/>
              <p:nvPr/>
            </p:nvSpPr>
            <p:spPr>
              <a:xfrm>
                <a:off x="0" y="28447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28447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0" y="3048120"/>
              <a:ext cx="6780960" cy="203040"/>
              <a:chOff x="0" y="3048120"/>
              <a:chExt cx="6780960" cy="203040"/>
            </a:xfrm>
          </p:grpSpPr>
          <p:sp>
            <p:nvSpPr>
              <p:cNvPr id="156" name=""/>
              <p:cNvSpPr/>
              <p:nvPr/>
            </p:nvSpPr>
            <p:spPr>
              <a:xfrm>
                <a:off x="0" y="30481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30481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0" y="3251160"/>
              <a:ext cx="6780960" cy="203040"/>
              <a:chOff x="0" y="3251160"/>
              <a:chExt cx="6780960" cy="203040"/>
            </a:xfrm>
          </p:grpSpPr>
          <p:sp>
            <p:nvSpPr>
              <p:cNvPr id="159" name=""/>
              <p:cNvSpPr/>
              <p:nvPr/>
            </p:nvSpPr>
            <p:spPr>
              <a:xfrm>
                <a:off x="0" y="325116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325116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0" y="3454200"/>
              <a:ext cx="6780960" cy="203040"/>
              <a:chOff x="0" y="3454200"/>
              <a:chExt cx="6780960" cy="20304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345420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345420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unction maximum definition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0" y="3657600"/>
              <a:ext cx="6780960" cy="203040"/>
              <a:chOff x="0" y="3657600"/>
              <a:chExt cx="6780960" cy="20304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365760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365760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z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0" y="3860640"/>
              <a:ext cx="6780960" cy="203040"/>
              <a:chOff x="0" y="3860640"/>
              <a:chExt cx="6780960" cy="203040"/>
            </a:xfrm>
          </p:grpSpPr>
          <p:sp>
            <p:nvSpPr>
              <p:cNvPr id="168" name=""/>
              <p:cNvSpPr/>
              <p:nvPr/>
            </p:nvSpPr>
            <p:spPr>
              <a:xfrm>
                <a:off x="0" y="38606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38606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0" y="4064040"/>
              <a:ext cx="6780960" cy="203040"/>
              <a:chOff x="0" y="4064040"/>
              <a:chExt cx="6780960" cy="203040"/>
            </a:xfrm>
          </p:grpSpPr>
          <p:sp>
            <p:nvSpPr>
              <p:cNvPr id="171" name=""/>
              <p:cNvSpPr/>
              <p:nvPr/>
            </p:nvSpPr>
            <p:spPr>
              <a:xfrm>
                <a:off x="0" y="40640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0640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 =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0" y="4267080"/>
              <a:ext cx="6780960" cy="203040"/>
              <a:chOff x="0" y="4267080"/>
              <a:chExt cx="6780960" cy="203040"/>
            </a:xfrm>
          </p:grpSpPr>
          <p:sp>
            <p:nvSpPr>
              <p:cNvPr id="174" name=""/>
              <p:cNvSpPr/>
              <p:nvPr/>
            </p:nvSpPr>
            <p:spPr>
              <a:xfrm>
                <a:off x="0" y="426708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26708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0" y="4470120"/>
              <a:ext cx="6780960" cy="203040"/>
              <a:chOff x="0" y="4470120"/>
              <a:chExt cx="6780960" cy="203040"/>
            </a:xfrm>
          </p:grpSpPr>
          <p:sp>
            <p:nvSpPr>
              <p:cNvPr id="177" name=""/>
              <p:cNvSpPr/>
              <p:nvPr/>
            </p:nvSpPr>
            <p:spPr>
              <a:xfrm>
                <a:off x="0" y="44701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4701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y &gt; max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0" y="4673520"/>
              <a:ext cx="6780960" cy="203040"/>
              <a:chOff x="0" y="4673520"/>
              <a:chExt cx="6780960" cy="203040"/>
            </a:xfrm>
          </p:grpSpPr>
          <p:sp>
            <p:nvSpPr>
              <p:cNvPr id="180" name=""/>
              <p:cNvSpPr/>
              <p:nvPr/>
            </p:nvSpPr>
            <p:spPr>
              <a:xfrm>
                <a:off x="0" y="46735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6735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max =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0" y="4876920"/>
              <a:ext cx="6780960" cy="203040"/>
              <a:chOff x="0" y="4876920"/>
              <a:chExt cx="6780960" cy="203040"/>
            </a:xfrm>
          </p:grpSpPr>
          <p:sp>
            <p:nvSpPr>
              <p:cNvPr id="183" name=""/>
              <p:cNvSpPr/>
              <p:nvPr/>
            </p:nvSpPr>
            <p:spPr>
              <a:xfrm>
                <a:off x="0" y="48769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87692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0" y="5079960"/>
              <a:ext cx="6780960" cy="203040"/>
              <a:chOff x="0" y="5079960"/>
              <a:chExt cx="6780960" cy="203040"/>
            </a:xfrm>
          </p:grpSpPr>
          <p:sp>
            <p:nvSpPr>
              <p:cNvPr id="186" name=""/>
              <p:cNvSpPr/>
              <p:nvPr/>
            </p:nvSpPr>
            <p:spPr>
              <a:xfrm>
                <a:off x="0" y="507996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507996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z &gt; max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0" y="5283000"/>
              <a:ext cx="6780960" cy="203040"/>
              <a:chOff x="0" y="5283000"/>
              <a:chExt cx="6780960" cy="203040"/>
            </a:xfrm>
          </p:grpSpPr>
          <p:sp>
            <p:nvSpPr>
              <p:cNvPr id="189" name=""/>
              <p:cNvSpPr/>
              <p:nvPr/>
            </p:nvSpPr>
            <p:spPr>
              <a:xfrm>
                <a:off x="0" y="528300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528300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max = z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0" y="5486400"/>
              <a:ext cx="6780960" cy="203040"/>
              <a:chOff x="0" y="5486400"/>
              <a:chExt cx="6780960" cy="203040"/>
            </a:xfrm>
          </p:grpSpPr>
          <p:sp>
            <p:nvSpPr>
              <p:cNvPr id="192" name=""/>
              <p:cNvSpPr/>
              <p:nvPr/>
            </p:nvSpPr>
            <p:spPr>
              <a:xfrm>
                <a:off x="0" y="548640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548640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0" y="5689440"/>
              <a:ext cx="6780960" cy="203040"/>
              <a:chOff x="0" y="5689440"/>
              <a:chExt cx="6780960" cy="203040"/>
            </a:xfrm>
          </p:grpSpPr>
          <p:sp>
            <p:nvSpPr>
              <p:cNvPr id="195" name=""/>
              <p:cNvSpPr/>
              <p:nvPr/>
            </p:nvSpPr>
            <p:spPr>
              <a:xfrm>
                <a:off x="0" y="56894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56894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0" y="5892840"/>
              <a:ext cx="6780960" cy="203040"/>
              <a:chOff x="0" y="5892840"/>
              <a:chExt cx="6780960" cy="203040"/>
            </a:xfrm>
          </p:grpSpPr>
          <p:sp>
            <p:nvSpPr>
              <p:cNvPr id="198" name=""/>
              <p:cNvSpPr/>
              <p:nvPr/>
            </p:nvSpPr>
            <p:spPr>
              <a:xfrm>
                <a:off x="0" y="58928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58928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0" name=""/>
          <p:cNvSpPr/>
          <p:nvPr/>
        </p:nvSpPr>
        <p:spPr>
          <a:xfrm>
            <a:off x="0" y="617220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hree integers: 22 85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ximum is: 8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roto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hat the function takes 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 typ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type function returns (defaul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validate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type only needed if function definition comes after use in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unction with the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ximum( int, int, in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in 3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otion rules and conver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verting to lower types can lead to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3T16:16:43Z</dcterms:created>
  <dc:creator>kalid</dc:creator>
  <dc:description/>
  <dc:language>en-US</dc:language>
  <cp:lastModifiedBy>Matty</cp:lastModifiedBy>
  <dcterms:modified xsi:type="dcterms:W3CDTF">2000-12-22T19:09:22Z</dcterms:modified>
  <cp:revision>249</cp:revision>
  <dc:subject/>
  <dc:title>PowerPoint Presentation</dc:title>
</cp:coreProperties>
</file>