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F77D-2D1F-418E-BC90-00825FCD9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5DA3-3C6C-4244-9CD8-A31BC1422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A510-0C3A-4D5C-9AC1-9462C799D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B823-7DE2-4AE6-94B3-E0257A0B4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2C7B-3EF2-4CA9-9B3A-7B3B2FD8B3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0C58-E148-4D47-A921-F250C446E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FF73-C048-4A7C-83D6-62E969786E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50DE-E1C8-4190-A89F-2B766ED205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9E73-634E-42D7-8276-92C171D20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96E7-F737-41A6-ADDA-279CBD8783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5085-7791-4CE3-87BC-0FAC74D94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B194-F957-4C52-8499-EC0D9D48B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D95B-322E-4E1E-A8DF-FA2F5C955D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2266-0ABF-45BB-87D4-BA0AD8A1BF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3A1C-BAE3-4E65-8996-B0CE8182B2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6E58-2743-4AA7-8247-7F3766BC8F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4F24-9A63-4BB3-8237-DA232AECE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F511-25F9-48EB-A2BE-63E892F47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C641-1F31-4448-B079-264CDB887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A616-54C7-41D2-9C50-3776EEDBF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B8A6-8ECE-4FB4-9E26-23C8B2245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1916-99B9-489B-ADD8-74BC49AE0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4085-D8A6-4BF0-A4DD-EF7BCC072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FAFC-C4EC-41FD-A5A5-4AC5033F2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795-EAA9-4F34-AEEC-3B876AE91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8621-13C9-43B2-9837-0FE0D86B9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6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762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ubscripted Array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2DE0-5EF8-4472-89FA-83D10C163D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character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individuall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Inpu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string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6780960" cy="5562360"/>
            <a:chOff x="0" y="0"/>
            <a:chExt cx="6780960" cy="5562360"/>
          </a:xfrm>
        </p:grpSpPr>
        <p:grpSp>
          <p:nvGrpSpPr>
            <p:cNvPr id="241" name=""/>
            <p:cNvGrpSpPr/>
            <p:nvPr/>
          </p:nvGrpSpPr>
          <p:grpSpPr>
            <a:xfrm>
              <a:off x="0" y="0"/>
              <a:ext cx="6780960" cy="264600"/>
              <a:chOff x="0" y="0"/>
              <a:chExt cx="6780960" cy="2646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10: fig06_10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264600"/>
              <a:ext cx="6780960" cy="264600"/>
              <a:chOff x="0" y="264600"/>
              <a:chExt cx="6780960" cy="26460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reating character arrays as string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529560"/>
              <a:ext cx="6780960" cy="264960"/>
              <a:chOff x="0" y="529560"/>
              <a:chExt cx="6780960" cy="2649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5295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295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794520"/>
              <a:ext cx="6780960" cy="264600"/>
              <a:chOff x="0" y="794520"/>
              <a:chExt cx="6780960" cy="2646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794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794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1059480"/>
              <a:ext cx="6780960" cy="264600"/>
              <a:chOff x="0" y="1059480"/>
              <a:chExt cx="6780960" cy="2646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0594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0594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1324440"/>
              <a:ext cx="6780960" cy="264600"/>
              <a:chOff x="0" y="1324440"/>
              <a:chExt cx="6780960" cy="26460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324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1324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589040"/>
              <a:ext cx="6780960" cy="264960"/>
              <a:chOff x="0" y="1589040"/>
              <a:chExt cx="6780960" cy="26496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58904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58904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1[ 20 ], string2[] = "string literal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854360"/>
              <a:ext cx="6780960" cy="264600"/>
              <a:chOff x="0" y="1854360"/>
              <a:chExt cx="6780960" cy="2646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854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854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2118960"/>
              <a:ext cx="6780960" cy="264600"/>
              <a:chOff x="0" y="2118960"/>
              <a:chExt cx="6780960" cy="2646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2118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118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2383920"/>
              <a:ext cx="6780960" cy="264600"/>
              <a:chOff x="0" y="2383920"/>
              <a:chExt cx="6780960" cy="26460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83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2383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" Enter a string: "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648880"/>
              <a:ext cx="6780960" cy="264960"/>
              <a:chOff x="0" y="2648880"/>
              <a:chExt cx="6780960" cy="26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64888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64888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s", string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913840"/>
              <a:ext cx="6780960" cy="264600"/>
              <a:chOff x="0" y="2913840"/>
              <a:chExt cx="6780960" cy="264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913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913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ing1 is: %s\nstring2: is %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3178800"/>
              <a:ext cx="6780960" cy="264600"/>
              <a:chOff x="0" y="3178800"/>
              <a:chExt cx="6780960" cy="2646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31788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31788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string1 with spaces between characters is: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3443400"/>
              <a:ext cx="6780960" cy="264600"/>
              <a:chOff x="0" y="3443400"/>
              <a:chExt cx="6780960" cy="26460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4434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34434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tring1, string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708360"/>
              <a:ext cx="6780960" cy="264960"/>
              <a:chOff x="0" y="3708360"/>
              <a:chExt cx="6780960" cy="2649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7083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370836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973320"/>
              <a:ext cx="6780960" cy="264600"/>
              <a:chOff x="0" y="3973320"/>
              <a:chExt cx="6780960" cy="2646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9733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9733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string1[ i ] != '\0'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4238280"/>
              <a:ext cx="6780960" cy="264600"/>
              <a:chOff x="0" y="4238280"/>
              <a:chExt cx="6780960" cy="2646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4238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4238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c ", string1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4503240"/>
              <a:ext cx="6780960" cy="264600"/>
              <a:chOff x="0" y="4503240"/>
              <a:chExt cx="6780960" cy="26460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5032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45032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767840"/>
              <a:ext cx="6780960" cy="264600"/>
              <a:chOff x="0" y="4767840"/>
              <a:chExt cx="6780960" cy="26460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767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4767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5032800"/>
              <a:ext cx="6780960" cy="264960"/>
              <a:chOff x="0" y="5032800"/>
              <a:chExt cx="6780960" cy="26496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503280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5032800"/>
                <a:ext cx="6780960" cy="264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5297760"/>
              <a:ext cx="6780960" cy="264600"/>
              <a:chOff x="0" y="5297760"/>
              <a:chExt cx="6780960" cy="26460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5297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5297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0" y="55627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tring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B7D1-483A-41F8-AC8F-E226D0B629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n array argument to a function, specify the name of the array without any bracke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size usually passed to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passed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of array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s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ray el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by call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ubscripted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7AE3-02F3-4890-92CF-84E66F607E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names optional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writt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rray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C028-963E-4EF6-B2D7-B7902B0EF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ass array to a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ass array element to a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1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13: fig06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Passing arrays and individual array elements to function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pears strang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SIZE ] = { 0, 1, 2, 3, 4 }, i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ffects of passing entire array call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by reference:\n\nThe values of the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original array are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SIZE - 1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3d", a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Array( a, SIZE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assed call by referenc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values of the modified array are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SIZE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3d", a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\nEffects of passing array element call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by value:\n\nThe value of a[3] is %d\n",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Element(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value of a[ 3 ] is %d\n",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2666880" y="3276720"/>
            <a:ext cx="5334120" cy="990360"/>
            <a:chOff x="2666880" y="3276720"/>
            <a:chExt cx="5334120" cy="990360"/>
          </a:xfrm>
        </p:grpSpPr>
        <p:sp>
          <p:nvSpPr>
            <p:cNvPr id="408" name=""/>
            <p:cNvSpPr/>
            <p:nvPr/>
          </p:nvSpPr>
          <p:spPr>
            <a:xfrm>
              <a:off x="5105520" y="32767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ire arrays passed call-by-reference, and can be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66880" y="3505320"/>
              <a:ext cx="24386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895480" y="4876920"/>
            <a:ext cx="5334120" cy="1218960"/>
            <a:chOff x="2895480" y="4876920"/>
            <a:chExt cx="5334120" cy="1218960"/>
          </a:xfrm>
        </p:grpSpPr>
        <p:sp>
          <p:nvSpPr>
            <p:cNvPr id="411" name=""/>
            <p:cNvSpPr/>
            <p:nvPr/>
          </p:nvSpPr>
          <p:spPr>
            <a:xfrm>
              <a:off x="5334120" y="48769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 elements passed call-by-value, and cannot be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95480" y="5105520"/>
              <a:ext cx="24386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A140-31F0-4590-A13A-0920FDA49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0"/>
            <a:ext cx="6780960" cy="3733560"/>
            <a:chOff x="0" y="0"/>
            <a:chExt cx="6780960" cy="373356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6780960" cy="286920"/>
              <a:chOff x="0" y="0"/>
              <a:chExt cx="6780960" cy="2869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286920"/>
              <a:ext cx="6780960" cy="286920"/>
              <a:chOff x="0" y="286920"/>
              <a:chExt cx="6780960" cy="28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28692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28692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574200"/>
              <a:ext cx="6780960" cy="287280"/>
              <a:chOff x="0" y="574200"/>
              <a:chExt cx="6780960" cy="28728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57420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420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861480"/>
              <a:ext cx="6780960" cy="286920"/>
              <a:chOff x="0" y="861480"/>
              <a:chExt cx="6780960" cy="28692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8614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8614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1148760"/>
              <a:ext cx="6780960" cy="286920"/>
              <a:chOff x="0" y="1148760"/>
              <a:chExt cx="6780960" cy="28692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11487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11487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1436040"/>
              <a:ext cx="6780960" cy="286920"/>
              <a:chOff x="0" y="1436040"/>
              <a:chExt cx="6780960" cy="28692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14360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14360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1723320"/>
              <a:ext cx="6780960" cy="287280"/>
              <a:chOff x="0" y="1723320"/>
              <a:chExt cx="6780960" cy="28728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172332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172332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[ j ] *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2010600"/>
              <a:ext cx="6780960" cy="286920"/>
              <a:chOff x="0" y="2010600"/>
              <a:chExt cx="6780960" cy="28692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0106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0106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2297880"/>
              <a:ext cx="6780960" cy="286920"/>
              <a:chOff x="0" y="2297880"/>
              <a:chExt cx="6780960" cy="28692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22978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229788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2584800"/>
              <a:ext cx="6780960" cy="286920"/>
              <a:chOff x="0" y="2584800"/>
              <a:chExt cx="6780960" cy="28692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25848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258480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2872080"/>
              <a:ext cx="6780960" cy="287280"/>
              <a:chOff x="0" y="2872080"/>
              <a:chExt cx="6780960" cy="28728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287208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2872080"/>
                <a:ext cx="6780960" cy="28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3159360"/>
              <a:ext cx="6780960" cy="286920"/>
              <a:chOff x="0" y="3159360"/>
              <a:chExt cx="6780960" cy="2869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31593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15936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Value in modifyElement is %d\n", e *=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3446640"/>
              <a:ext cx="6780960" cy="286920"/>
              <a:chOff x="0" y="3446640"/>
              <a:chExt cx="6780960" cy="2869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34466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3446640"/>
                <a:ext cx="6780960" cy="28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0" y="380988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entire array call by refer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original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1  2  3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modified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2  4  6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array element call by val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in modifyElement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24D4-7DB5-4F42-9855-1F8109C6E5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 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2  4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2  3  4  6  7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95480" y="5334120"/>
            <a:ext cx="6098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0920" y="5715000"/>
            <a:ext cx="6094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1BD7-E289-4678-A4ED-D07F392851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in middle of sort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is the medi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that occurs most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is the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EFF1-0F78-4C7B-B323-6E7D8FAC61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3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16: fig06_1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is program introduces the topic of survey data analysis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It computes the mean, median, and  mode of the dat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 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9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uency[ 10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ponse[ SIZE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6, 7, 8, 9, 8, 7, 8, 9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5, 9, 8, 7, 8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6, 7, 8, 9, 3, 9, 8, 7, 8, 7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8, 9, 8, 9, 7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6, 7, 8, 7, 8, 7, 9, 8, 9, 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8, 9, 8, 9, 7, 5, 3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5, 6, 7, 2, 5, 3, 9, 4, 6, 4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8, 9, 6, 8, 7, 8, 9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7, 4, 4, 2, 5, 3, 8, 7, 5, 6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4, 5, 6, 1, 6, 5, 7, 8, 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an( 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dian( 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e( frequency, 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612E-850A-4AC8-A383-908DA05766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1.1 Sor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.2 Print middle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561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,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\n", "********", "  Mean", "********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answer[  j 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mean is the average value of the data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items. The mean is equal to the total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all the data items divided by the numbe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of data items ( %d ). The mean value fo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is run is: %d / %d = %.4f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IZE, total, SIZE, (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) total /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%s\n%s\n%s\n%s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********", " Median", "********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unsorted array of responses i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The sorted array i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The median is element %d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orted %d element array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For this run the median is %d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IZE / 2, SIZE, answer[ SIZE / 2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12CB-72E7-4217-8A9E-66784A083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5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ting, j, h, largest = 0, modeValu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%s\n%s\n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********", "  Mode", "********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69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req[ rating ]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freq[ answer[ j ]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11s%19s\n\n%54s\n%54s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Response", "Frequency", "Histogram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1    1    2    2", "5    0    5    0    5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8d%11d          ", rating, freq[ rating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freq[ rating ] &gt; largest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largest = freq[ rating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odeValue = ratin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h = 1; h &lt;= freq[ rating ]; 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*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705720" y="762120"/>
            <a:ext cx="23619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2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2.1 Incre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quency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 depending 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[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666880" y="2425680"/>
            <a:ext cx="4724280" cy="1067400"/>
            <a:chOff x="2666880" y="2425680"/>
            <a:chExt cx="4724280" cy="1067400"/>
          </a:xfrm>
        </p:grpSpPr>
        <p:sp>
          <p:nvSpPr>
            <p:cNvPr id="751" name=""/>
            <p:cNvSpPr/>
            <p:nvPr/>
          </p:nvSpPr>
          <p:spPr>
            <a:xfrm>
              <a:off x="3962160" y="242568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subscrip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 value of an element i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swer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666880" y="2578320"/>
              <a:ext cx="1295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590920" y="5943600"/>
            <a:ext cx="5333760" cy="580680"/>
            <a:chOff x="2590920" y="5943600"/>
            <a:chExt cx="5333760" cy="580680"/>
          </a:xfrm>
        </p:grpSpPr>
        <p:sp>
          <p:nvSpPr>
            <p:cNvPr id="754" name=""/>
            <p:cNvSpPr/>
            <p:nvPr/>
          </p:nvSpPr>
          <p:spPr>
            <a:xfrm>
              <a:off x="4724280" y="5943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stars depending on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590920" y="609588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0FF4-6F0B-42A8-A7F8-60A9E8E56E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ame size throughou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data structures discussed in Chapter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BBBD-0844-46CF-A3A8-AB954EC70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5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mode is the most frequent value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For this run the mode is %d which occurred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 %d times.\n", modeValue, large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j,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1; pass &lt;=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2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[ j ] &gt; a[ j + 1 ]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old =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] = a[ j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+ 1 ]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SIZE - 1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% 2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3124080" y="3809520"/>
            <a:ext cx="4495680" cy="657000"/>
            <a:chOff x="3124080" y="3809520"/>
            <a:chExt cx="4495680" cy="657000"/>
          </a:xfrm>
        </p:grpSpPr>
        <p:sp>
          <p:nvSpPr>
            <p:cNvPr id="852" name=""/>
            <p:cNvSpPr/>
            <p:nvPr/>
          </p:nvSpPr>
          <p:spPr>
            <a:xfrm>
              <a:off x="4419360" y="388584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bble sort: if elements out of order, swap them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3124080" y="380952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F9C8-0156-4F60-88BE-8A4D122DF9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0" y="0"/>
            <a:ext cx="6780960" cy="990720"/>
            <a:chOff x="0" y="0"/>
            <a:chExt cx="6780960" cy="990720"/>
          </a:xfrm>
        </p:grpSpPr>
        <p:grpSp>
          <p:nvGrpSpPr>
            <p:cNvPr id="856" name=""/>
            <p:cNvGrpSpPr/>
            <p:nvPr/>
          </p:nvGrpSpPr>
          <p:grpSpPr>
            <a:xfrm>
              <a:off x="0" y="0"/>
              <a:ext cx="6780960" cy="247680"/>
              <a:chOff x="0" y="0"/>
              <a:chExt cx="6780960" cy="24768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47680"/>
              <a:ext cx="6780960" cy="247680"/>
              <a:chOff x="0" y="247680"/>
              <a:chExt cx="6780960" cy="24768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4768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4768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2d", a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495360"/>
              <a:ext cx="6780960" cy="247680"/>
              <a:chOff x="0" y="495360"/>
              <a:chExt cx="6780960" cy="24768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49536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49536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743040"/>
              <a:ext cx="6780960" cy="247680"/>
              <a:chOff x="0" y="743040"/>
              <a:chExt cx="6780960" cy="24768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74304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74304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8" name=""/>
          <p:cNvSpPr/>
          <p:nvPr/>
        </p:nvSpPr>
        <p:spPr>
          <a:xfrm>
            <a:off x="0" y="990720"/>
            <a:ext cx="6781680" cy="556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an is the average value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ms. The mean is equal to the tot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the data items divided by th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 data items (99). The mean valu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run is: 681 / 99 = 6.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unsorted array of respons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8 9 8 7 8 9 8 9 7 8 9 5 9 8 7 8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3 9 8 7 8 7 7 8 9 8 9 8 9 7 8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7 8 7 9 8 9 2 7 8 9 8 9 8 9 7 5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7 2 5 3 9 4 6 4 7 8 9 6 8 7 8 9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4 4 2 5 3 8 7 5 6 4 5 6 1 6 5 7 8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arra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2 2 3 3 3 3 4 4 4 4 4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6 6 6 6 6 6 6 6 7 7 7 7 7 7 7 7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7 7 7 7 7 7 7 7 7 7 7 7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8 8 8 8 8 8 8 8 8 8 8 8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9 9 9 9 9 9 9 9 9 9 9 9 9 9 9 9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dian is element 49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99 element ar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edia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DB92-FAE8-44E9-A166-173DC17A2F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0"/>
            <a:ext cx="6781680" cy="392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ponse  Frequency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1    2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0    5    0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1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3  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4          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5  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8          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9  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23          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27          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19  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ode is the most frequ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ode is 8 which occurred 27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A377-4AC5-4462-A526-8953A1E7F5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n array 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ECD0-568A-42E6-B039-0B9275C61A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dd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 &lt; midd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ooks in first half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 &gt; midd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ooks in las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; at most n steps, wher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gt;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30 so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0968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D97C-0382-4B55-BD9F-575F1AC8F8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ed array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s with rows and column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matrices: specify row, then colum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190520" y="2792520"/>
            <a:ext cx="6505560" cy="2388960"/>
            <a:chOff x="1190520" y="2792520"/>
            <a:chExt cx="6505560" cy="2388960"/>
          </a:xfrm>
        </p:grpSpPr>
        <p:grpSp>
          <p:nvGrpSpPr>
            <p:cNvPr id="879" name=""/>
            <p:cNvGrpSpPr/>
            <p:nvPr/>
          </p:nvGrpSpPr>
          <p:grpSpPr>
            <a:xfrm>
              <a:off x="1190520" y="2792520"/>
              <a:ext cx="6108840" cy="1371600"/>
              <a:chOff x="1190520" y="2792520"/>
              <a:chExt cx="6108840" cy="1371600"/>
            </a:xfrm>
          </p:grpSpPr>
          <p:sp>
            <p:nvSpPr>
              <p:cNvPr id="880" name=""/>
              <p:cNvSpPr/>
              <p:nvPr/>
            </p:nvSpPr>
            <p:spPr>
              <a:xfrm>
                <a:off x="1190520" y="3192480"/>
                <a:ext cx="71136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ow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190520" y="3460680"/>
                <a:ext cx="71136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ow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90520" y="3728880"/>
                <a:ext cx="71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ow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176560" y="2792520"/>
                <a:ext cx="11030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486240" y="2792520"/>
                <a:ext cx="11048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797360" y="2792520"/>
                <a:ext cx="11034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107040" y="2792520"/>
                <a:ext cx="110484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lumn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2057400" y="3097080"/>
                <a:ext cx="1311120" cy="344520"/>
                <a:chOff x="2057400" y="3097080"/>
                <a:chExt cx="1311120" cy="34452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2057400" y="3097080"/>
                  <a:ext cx="131112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110680" y="3146760"/>
                  <a:ext cx="120348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2057400" y="3441600"/>
                <a:ext cx="1311120" cy="341280"/>
                <a:chOff x="2057400" y="3441600"/>
                <a:chExt cx="1311120" cy="34128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2057400" y="3441600"/>
                  <a:ext cx="131112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110680" y="3490560"/>
                  <a:ext cx="12034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2057400" y="3782880"/>
                <a:ext cx="1311120" cy="381240"/>
                <a:chOff x="2057400" y="3782880"/>
                <a:chExt cx="1311120" cy="38124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2057400" y="3782880"/>
                  <a:ext cx="131112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110680" y="3837600"/>
                  <a:ext cx="120348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3368520" y="3097080"/>
                <a:ext cx="1309680" cy="344520"/>
                <a:chOff x="3368520" y="3097080"/>
                <a:chExt cx="1309680" cy="34452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368520" y="3097080"/>
                  <a:ext cx="130968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421440" y="3146760"/>
                  <a:ext cx="120204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3368520" y="3441600"/>
                <a:ext cx="1309680" cy="341280"/>
                <a:chOff x="3368520" y="3441600"/>
                <a:chExt cx="1309680" cy="34128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3368520" y="3441600"/>
                  <a:ext cx="130968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421440" y="3490560"/>
                  <a:ext cx="120204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3368520" y="3782880"/>
                <a:ext cx="1309680" cy="381240"/>
                <a:chOff x="3368520" y="3782880"/>
                <a:chExt cx="1309680" cy="38124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368520" y="3782880"/>
                  <a:ext cx="13096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21440" y="3837600"/>
                  <a:ext cx="12020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4678200" y="3097080"/>
                <a:ext cx="1311480" cy="344520"/>
                <a:chOff x="4678200" y="3097080"/>
                <a:chExt cx="1311480" cy="34452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4678200" y="3097080"/>
                  <a:ext cx="131148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731480" y="3146760"/>
                  <a:ext cx="120348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4678200" y="3441600"/>
                <a:ext cx="1311480" cy="341280"/>
                <a:chOff x="4678200" y="3441600"/>
                <a:chExt cx="1311480" cy="34128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678200" y="3441600"/>
                  <a:ext cx="131148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731480" y="3490560"/>
                  <a:ext cx="12034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4678200" y="3782880"/>
                <a:ext cx="1311480" cy="381240"/>
                <a:chOff x="4678200" y="3782880"/>
                <a:chExt cx="1311480" cy="38124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678200" y="3782880"/>
                  <a:ext cx="13114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31480" y="3837600"/>
                  <a:ext cx="120348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5989680" y="3097080"/>
                <a:ext cx="1309680" cy="344520"/>
                <a:chOff x="5989680" y="3097080"/>
                <a:chExt cx="1309680" cy="3445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989680" y="3097080"/>
                  <a:ext cx="1309680" cy="344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042600" y="3146760"/>
                  <a:ext cx="120204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5989680" y="3441600"/>
                <a:ext cx="1309680" cy="341280"/>
                <a:chOff x="5989680" y="3441600"/>
                <a:chExt cx="1309680" cy="34128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989680" y="3441600"/>
                  <a:ext cx="1309680" cy="3412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042600" y="3490560"/>
                  <a:ext cx="120204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989680" y="3782880"/>
                <a:ext cx="1309680" cy="381240"/>
                <a:chOff x="5989680" y="3782880"/>
                <a:chExt cx="1309680" cy="38124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989680" y="3782880"/>
                  <a:ext cx="13096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042600" y="3837600"/>
                  <a:ext cx="120204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[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3" name=""/>
            <p:cNvSpPr/>
            <p:nvPr/>
          </p:nvSpPr>
          <p:spPr>
            <a:xfrm>
              <a:off x="2971800" y="5002200"/>
              <a:ext cx="22096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sub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86000" y="4697280"/>
              <a:ext cx="1365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ray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57720" y="4421160"/>
              <a:ext cx="2538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sub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05320" y="4087800"/>
              <a:ext cx="75960" cy="685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3734640" y="4087800"/>
              <a:ext cx="74520" cy="89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7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44840" y="4087800"/>
              <a:ext cx="74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4343400" y="4468680"/>
              <a:ext cx="762120" cy="7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468C-316D-4650-AF50-5C978DBAE1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b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, unspecified elements set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row, then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%d"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6511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3263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7162920" y="1523880"/>
            <a:ext cx="914400" cy="631440"/>
            <a:chOff x="7162920" y="1523880"/>
            <a:chExt cx="914400" cy="631440"/>
          </a:xfrm>
        </p:grpSpPr>
        <p:sp>
          <p:nvSpPr>
            <p:cNvPr id="937" name=""/>
            <p:cNvSpPr/>
            <p:nvPr/>
          </p:nvSpPr>
          <p:spPr>
            <a:xfrm>
              <a:off x="7162920" y="15238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20120" y="1523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62920" y="1828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10280" y="2895480"/>
            <a:ext cx="914400" cy="631440"/>
            <a:chOff x="7010280" y="2895480"/>
            <a:chExt cx="914400" cy="631440"/>
          </a:xfrm>
        </p:grpSpPr>
        <p:sp>
          <p:nvSpPr>
            <p:cNvPr id="941" name=""/>
            <p:cNvSpPr/>
            <p:nvPr/>
          </p:nvSpPr>
          <p:spPr>
            <a:xfrm>
              <a:off x="7010280" y="28954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67480" y="28954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1028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4432-5127-439D-9210-F0FDE3BBF9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fine functions to take double scripted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]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4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22: fig06_2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Double-subscripted array examp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S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XAMS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Grades[ STUDENTS ][ EXAMS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{ 77, 68, 86, 73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{ 96, 87, 89, 78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{ 70, 90, 86, 81 }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array i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studentGrades, STUDENTS, EXAM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Lowest grade: %d\nHighest grade: %d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inimum( studentGrades, STUDENTS, EXAMS 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aximum( studentGrades, STUDENTS, EXAMS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tudent = 0; student &lt;= STUDENTS - 1; stude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The average grade for student %d is %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stud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average( studentGrades[ student ], EXAMS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3504960" y="1981080"/>
            <a:ext cx="4572360" cy="990360"/>
            <a:chOff x="3504960" y="1981080"/>
            <a:chExt cx="4572360" cy="990360"/>
          </a:xfrm>
        </p:grpSpPr>
        <p:sp>
          <p:nvSpPr>
            <p:cNvPr id="1043" name=""/>
            <p:cNvSpPr/>
            <p:nvPr/>
          </p:nvSpPr>
          <p:spPr>
            <a:xfrm>
              <a:off x="5029200" y="19810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row is a particular student, each column is the grades on the exa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04960" y="220968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1AB4-C7A1-4CCE-A890-287CAD9BA2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4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nd the minimum grad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, lowGrade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pupils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tests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lt; low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low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8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8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9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9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nd the maximum grad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9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0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0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, highGrad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0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1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pupils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1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tests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gt; high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igh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Determine the average grade for a particular ex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OfGrades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C497-7E45-4B6C-8D93-B2C34C61A7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0" y="0"/>
            <a:ext cx="6780960" cy="4952880"/>
            <a:chOff x="0" y="0"/>
            <a:chExt cx="6780960" cy="4952880"/>
          </a:xfrm>
        </p:grpSpPr>
        <p:grpSp>
          <p:nvGrpSpPr>
            <p:cNvPr id="1145" name=""/>
            <p:cNvGrpSpPr/>
            <p:nvPr/>
          </p:nvGrpSpPr>
          <p:grpSpPr>
            <a:xfrm>
              <a:off x="0" y="0"/>
              <a:ext cx="6780960" cy="215280"/>
              <a:chOff x="0" y="0"/>
              <a:chExt cx="6780960" cy="21528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215280"/>
              <a:ext cx="6780960" cy="215280"/>
              <a:chOff x="0" y="215280"/>
              <a:chExt cx="6780960" cy="21528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215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215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430560"/>
              <a:ext cx="6780960" cy="215280"/>
              <a:chOff x="0" y="430560"/>
              <a:chExt cx="6780960" cy="21528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430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430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tests - 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645840"/>
              <a:ext cx="6780960" cy="215280"/>
              <a:chOff x="0" y="645840"/>
              <a:chExt cx="6780960" cy="21528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645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45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setOfGrades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861120"/>
              <a:ext cx="6780960" cy="215280"/>
              <a:chOff x="0" y="861120"/>
              <a:chExt cx="6780960" cy="21528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861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861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1076400"/>
              <a:ext cx="6780960" cy="215280"/>
              <a:chOff x="0" y="1076400"/>
              <a:chExt cx="6780960" cy="21528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1076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076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total / tes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1292040"/>
              <a:ext cx="6780960" cy="215280"/>
              <a:chOff x="0" y="1292040"/>
              <a:chExt cx="6780960" cy="21528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1292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1292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1507320"/>
              <a:ext cx="6780960" cy="215280"/>
              <a:chOff x="0" y="1507320"/>
              <a:chExt cx="6780960" cy="21528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1507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507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1722600"/>
              <a:ext cx="6780960" cy="215280"/>
              <a:chOff x="0" y="1722600"/>
              <a:chExt cx="6780960" cy="21528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1722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1722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int the arra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1937880"/>
              <a:ext cx="6780960" cy="215280"/>
              <a:chOff x="0" y="1937880"/>
              <a:chExt cx="6780960" cy="21528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1937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1937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2153160"/>
              <a:ext cx="6780960" cy="215280"/>
              <a:chOff x="0" y="2153160"/>
              <a:chExt cx="6780960" cy="21528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215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215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2368800"/>
              <a:ext cx="6780960" cy="215280"/>
              <a:chOff x="0" y="2368800"/>
              <a:chExt cx="6780960" cy="21528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23688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23688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2584080"/>
              <a:ext cx="6780960" cy="215280"/>
              <a:chOff x="0" y="2584080"/>
              <a:chExt cx="6780960" cy="21528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258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258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2799360"/>
              <a:ext cx="6780960" cy="215280"/>
              <a:chOff x="0" y="2799360"/>
              <a:chExt cx="6780960" cy="21528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27993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27993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3014640"/>
              <a:ext cx="6780960" cy="215280"/>
              <a:chOff x="0" y="3014640"/>
              <a:chExt cx="6780960" cy="21528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30146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30146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                 [0]  [1]  [2]  [3]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3230280"/>
              <a:ext cx="6780960" cy="215280"/>
              <a:chOff x="0" y="3230280"/>
              <a:chExt cx="6780960" cy="21528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323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323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3445560"/>
              <a:ext cx="6780960" cy="215280"/>
              <a:chOff x="0" y="3445560"/>
              <a:chExt cx="6780960" cy="21528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3445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445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pupils - 1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3660840"/>
              <a:ext cx="6780960" cy="215280"/>
              <a:chOff x="0" y="3660840"/>
              <a:chExt cx="6780960" cy="21528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3660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660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studentGrades[%d] ", 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3876120"/>
              <a:ext cx="6780960" cy="215280"/>
              <a:chOff x="0" y="3876120"/>
              <a:chExt cx="6780960" cy="21528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3876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38761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4091400"/>
              <a:ext cx="6780960" cy="215280"/>
              <a:chOff x="0" y="4091400"/>
              <a:chExt cx="6780960" cy="21528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4091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091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= tests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4307040"/>
              <a:ext cx="6780960" cy="215280"/>
              <a:chOff x="0" y="4307040"/>
              <a:chExt cx="6780960" cy="21528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4307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307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%-5d", grades[ i ]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4522320"/>
              <a:ext cx="6780960" cy="215280"/>
              <a:chOff x="0" y="4522320"/>
              <a:chExt cx="6780960" cy="21528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4522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522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737600"/>
              <a:ext cx="6780960" cy="215280"/>
              <a:chOff x="0" y="4737600"/>
              <a:chExt cx="6780960" cy="21528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737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737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75F9-1B70-48AB-B4B1-411399F54B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 of consecutive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tion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ition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rray nam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1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n –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248520" y="349200"/>
            <a:ext cx="2743200" cy="5813640"/>
            <a:chOff x="6248520" y="349200"/>
            <a:chExt cx="2743200" cy="5813640"/>
          </a:xfrm>
        </p:grpSpPr>
        <p:sp>
          <p:nvSpPr>
            <p:cNvPr id="101" name=""/>
            <p:cNvSpPr/>
            <p:nvPr/>
          </p:nvSpPr>
          <p:spPr>
            <a:xfrm>
              <a:off x="6437160" y="349200"/>
              <a:ext cx="25545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 of array (Note that all elements of this array have the same name,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5834160"/>
              <a:ext cx="2401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 number of the element within array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83320" y="5410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400800" y="1698480"/>
              <a:ext cx="2076480" cy="3635640"/>
              <a:chOff x="6400800" y="1698480"/>
              <a:chExt cx="2076480" cy="36356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7188120" y="2031840"/>
                <a:ext cx="1289160" cy="3302280"/>
                <a:chOff x="7188120" y="2031840"/>
                <a:chExt cx="1289160" cy="3302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188120" y="3682800"/>
                  <a:ext cx="128916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7188120" y="2031840"/>
                  <a:ext cx="1289160" cy="3302280"/>
                  <a:chOff x="7188120" y="2031840"/>
                  <a:chExt cx="1289160" cy="33022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188120" y="20318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188120" y="23068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188120" y="25819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188120" y="28573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188120" y="31323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188120" y="34077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188120" y="395820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188120" y="42332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188120" y="45086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188120" y="47836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188120" y="50590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9" name=""/>
              <p:cNvSpPr/>
              <p:nvPr/>
            </p:nvSpPr>
            <p:spPr>
              <a:xfrm>
                <a:off x="6508800" y="37227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6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20120" y="2071800"/>
                <a:ext cx="357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-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34320" y="2346120"/>
                <a:ext cx="14292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34320" y="2622600"/>
                <a:ext cx="1429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728120" y="289728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12120" y="31719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54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3448080"/>
                <a:ext cx="357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-8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834320" y="3722760"/>
                <a:ext cx="1429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28120" y="399744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6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28120" y="427356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34320" y="4548240"/>
                <a:ext cx="1429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512120" y="482292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64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28120" y="5099040"/>
                <a:ext cx="249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7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24720" y="1698480"/>
                <a:ext cx="360" cy="366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08800" y="207180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0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08800" y="2346120"/>
                <a:ext cx="46512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1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08800" y="2622600"/>
                <a:ext cx="465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2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08800" y="289728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3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00800" y="5099040"/>
                <a:ext cx="573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11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00800" y="4822920"/>
                <a:ext cx="573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10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08800" y="454824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9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08800" y="42735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8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08800" y="399744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7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08800" y="3448080"/>
                <a:ext cx="465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5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08800" y="3171960"/>
                <a:ext cx="465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[4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7188120" y="2031840"/>
                <a:ext cx="1289160" cy="3302280"/>
                <a:chOff x="7188120" y="2031840"/>
                <a:chExt cx="1289160" cy="3302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88120" y="3682800"/>
                  <a:ext cx="128916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7188120" y="2031840"/>
                  <a:ext cx="1289160" cy="3302280"/>
                  <a:chOff x="7188120" y="2031840"/>
                  <a:chExt cx="1289160" cy="3302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7188120" y="20318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188120" y="23068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188120" y="25819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188120" y="285732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188120" y="31323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188120" y="340776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188120" y="395820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188120" y="42332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188120" y="450864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188120" y="47836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188120" y="5059080"/>
                    <a:ext cx="12891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9B8F-E418-4D67-AD36-AA196D611A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ra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0]  [1]  [2]  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0] 77   68   86   73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1] 96   87   89   78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2] 70   90   86   81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west grade: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: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0 is 76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1 is 8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2 is 81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17DF-1EE2-44CC-8FCE-3B20F63D39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are like norm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", c[ 0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operations in subscript.  If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5 - 2 ] == c[ 3 ] == c[ x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D5F5-BBB5-4D91-A157-08357C5359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claring arrays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Type arrayName[ numberOfElements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[ 10 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myArray[ 3284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similar to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100 ], x[ 27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1C52-2CF4-4CB1-9929-1E35E8AE0C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beco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lement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any a syntax error is produced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rrays have no bounds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ize omitted, initializers determ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initializers, therefore 5 element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33CC-5C2E-416D-BC91-87EA06F87A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6780960" cy="5257440"/>
            <a:chOff x="0" y="0"/>
            <a:chExt cx="6780960" cy="5257440"/>
          </a:xfrm>
        </p:grpSpPr>
        <p:grpSp>
          <p:nvGrpSpPr>
            <p:cNvPr id="166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6.8: fig06_0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Histogram printing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[ SIZE ] = { 19, 3, 15, 7, 11, 9, 13, 5, 17, 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13s%17s\n", "Element", "Value", "Histogra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SIZE - 1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7d%13d        ", i, n[ i ]) 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1; j &lt;= n[ i ]; j++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int one ba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%c", '*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8F6F0-4D3E-4096-89BA-5B9F8D734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       Value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19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 3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 15        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  7        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 11        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 9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 13        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   5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17        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 1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CB7E-40F6-4D3F-88E9-B1FDF72325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“first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really a static array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s can be initialized using string liter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firs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ually has 6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equivalent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f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i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r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s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t'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ccess 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is character ‘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is address of array, so &amp; not needed for scan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%s"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rite beyond end of array, be car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CB12-3820-49CB-B448-C94F07D25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43:14Z</dcterms:created>
  <dc:creator>kalid</dc:creator>
  <dc:description/>
  <dc:language>en-US</dc:language>
  <cp:lastModifiedBy>Matty</cp:lastModifiedBy>
  <dcterms:modified xsi:type="dcterms:W3CDTF">2000-12-22T19:13:47Z</dcterms:modified>
  <cp:revision>193</cp:revision>
  <dc:subject/>
  <dc:title>PowerPoint Presentation</dc:title>
</cp:coreProperties>
</file>