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4B93-3302-4828-89B5-C6AC63B6C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4A80-867F-4763-AA87-FF97AA32D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D56C-6FB8-418F-BDD4-6B8ACE54D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1CDA-C8EB-482F-A128-84C3440FE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3D84-6B95-4E11-AD80-E11B15FB6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A7AC-4ABD-4470-ACCE-46CBAE509B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F79E-72FD-4EE9-9AD5-E400176D1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9577-C5B3-4738-92FF-A54802E899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CF06-E531-4174-9180-F60D135E00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373D-87A3-420A-9B4B-160CF9644B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6DA1-62D8-45C9-8FE2-3E6D340A0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157E-2B98-49D8-BA9E-B96A9CEDA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40AD-3CAA-4D2E-828B-06237AA06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BE9E-6A93-4E19-8CEE-AFD31187D5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1908-BBEC-4A28-8E07-8B1976AAEB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04F4-8FAC-412F-BAC3-223C264302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B224F-B63A-4D02-86AE-44E2BB9A60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CB6D-3C98-4806-8C73-C8459ACDF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1F4A-9099-44CD-8F7C-A9A10D4EA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D2AB-716F-417A-AF3D-13D96EEE6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CAAA-C6B6-4420-B6B6-45210E127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74E5-4980-4F98-BF45-8DCE7EA68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5FC8-F984-4EF0-A834-AE07B2DA3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DD4B-FCC6-4E23-9BE4-8989A0298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4AA6-C0BE-4E1D-B8CF-AED00754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C38F-F118-41F5-952A-6AA5F6FB5E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- Pointer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77724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Variable Declarations and Initializ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lling Functions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sing 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nst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Qualifier with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Bubble Sort Using Call by Referenc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 Expressions and Pointer Arithmetic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Relationship between Pointers and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rrays of Poin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ase Study: A Card Shuffling and Dealing Simu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7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ointers to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sing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Qualifier with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function does not need to change 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empting to chang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produces an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 to a constant memory lo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const 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my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 int *const Ptr = &amp;x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changed, but no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s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pointer to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ptr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(which i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Attempt to chang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t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321" name=""/>
            <p:cNvGrpSpPr/>
            <p:nvPr/>
          </p:nvGrpSpPr>
          <p:grpSpPr>
            <a:xfrm>
              <a:off x="0" y="0"/>
              <a:ext cx="6780960" cy="264600"/>
              <a:chOff x="0" y="0"/>
              <a:chExt cx="6780960" cy="26460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3: fig07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264600"/>
              <a:ext cx="6780960" cy="264600"/>
              <a:chOff x="0" y="264600"/>
              <a:chExt cx="6780960" cy="26460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ttempting to modify a constant pointer 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529200"/>
              <a:ext cx="6780960" cy="264600"/>
              <a:chOff x="0" y="529200"/>
              <a:chExt cx="6780960" cy="26460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5292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non-constant dat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794160"/>
              <a:ext cx="6780960" cy="264600"/>
              <a:chOff x="0" y="794160"/>
              <a:chExt cx="6780960" cy="26460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7941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1058760"/>
              <a:ext cx="6780960" cy="264600"/>
              <a:chOff x="0" y="1058760"/>
              <a:chExt cx="6780960" cy="26460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0587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1323360"/>
              <a:ext cx="6780960" cy="264600"/>
              <a:chOff x="0" y="1323360"/>
              <a:chExt cx="6780960" cy="26460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13233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1587960"/>
              <a:ext cx="6780960" cy="264600"/>
              <a:chOff x="0" y="1587960"/>
              <a:chExt cx="6780960" cy="26460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158796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1852920"/>
              <a:ext cx="6780960" cy="264600"/>
              <a:chOff x="0" y="1852920"/>
              <a:chExt cx="6780960" cy="26460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18529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2117520"/>
              <a:ext cx="6780960" cy="264600"/>
              <a:chOff x="0" y="2117520"/>
              <a:chExt cx="6780960" cy="26460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21175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,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0" y="2382120"/>
              <a:ext cx="6780960" cy="264600"/>
              <a:chOff x="0" y="2382120"/>
              <a:chExt cx="6780960" cy="264600"/>
            </a:xfrm>
          </p:grpSpPr>
          <p:sp>
            <p:nvSpPr>
              <p:cNvPr id="349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23821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0" y="2646720"/>
              <a:ext cx="6780960" cy="264600"/>
              <a:chOff x="0" y="2646720"/>
              <a:chExt cx="6780960" cy="2646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64672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tr = &amp;x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tr is a constant pointer to a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911680"/>
              <a:ext cx="6780960" cy="264600"/>
              <a:chOff x="0" y="2911680"/>
              <a:chExt cx="6780960" cy="2646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9116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integer. An integer can be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3176280"/>
              <a:ext cx="6780960" cy="264600"/>
              <a:chOff x="0" y="3176280"/>
              <a:chExt cx="6780960" cy="2646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1762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rough ptr, but ptr always point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3440880"/>
              <a:ext cx="6780960" cy="264600"/>
              <a:chOff x="0" y="3440880"/>
              <a:chExt cx="6780960" cy="2646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44088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o the same memory location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3705840"/>
              <a:ext cx="6780960" cy="264600"/>
              <a:chOff x="0" y="3705840"/>
              <a:chExt cx="6780960" cy="2646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7058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ptr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3970440"/>
              <a:ext cx="6780960" cy="264600"/>
              <a:chOff x="0" y="3970440"/>
              <a:chExt cx="6780960" cy="2646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39704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tr = &amp;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4235040"/>
              <a:ext cx="6780960" cy="264600"/>
              <a:chOff x="0" y="4235040"/>
              <a:chExt cx="6780960" cy="2646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423504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4500000"/>
              <a:ext cx="6780960" cy="264600"/>
              <a:chOff x="0" y="4500000"/>
              <a:chExt cx="6780960" cy="2646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45000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4764600"/>
              <a:ext cx="6780960" cy="264600"/>
              <a:chOff x="0" y="4764600"/>
              <a:chExt cx="6780960" cy="2646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764600"/>
                <a:ext cx="6780960" cy="264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0" y="53341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07_13.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ror E2024 FIG07_13.c 16: Cannot modify a const objec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* 1 errors in Compile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47920" y="1924200"/>
            <a:ext cx="4724280" cy="1809720"/>
            <a:chOff x="1447920" y="1924200"/>
            <a:chExt cx="4724280" cy="1809720"/>
          </a:xfrm>
        </p:grpSpPr>
        <p:sp>
          <p:nvSpPr>
            <p:cNvPr id="380" name=""/>
            <p:cNvSpPr/>
            <p:nvPr/>
          </p:nvSpPr>
          <p:spPr>
            <a:xfrm flipH="1">
              <a:off x="1447920" y="2286360"/>
              <a:ext cx="22096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0400" y="192420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ng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llowed 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a consta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599840" y="3809880"/>
            <a:ext cx="5029560" cy="1676520"/>
            <a:chOff x="1599840" y="3809880"/>
            <a:chExt cx="5029560" cy="1676520"/>
          </a:xfrm>
        </p:grpSpPr>
        <p:grpSp>
          <p:nvGrpSpPr>
            <p:cNvPr id="383" name=""/>
            <p:cNvGrpSpPr/>
            <p:nvPr/>
          </p:nvGrpSpPr>
          <p:grpSpPr>
            <a:xfrm>
              <a:off x="1599840" y="3809880"/>
              <a:ext cx="5029560" cy="580680"/>
              <a:chOff x="1599840" y="3809880"/>
              <a:chExt cx="5029560" cy="580680"/>
            </a:xfrm>
          </p:grpSpPr>
          <p:sp>
            <p:nvSpPr>
              <p:cNvPr id="384" name=""/>
              <p:cNvSpPr/>
              <p:nvPr/>
            </p:nvSpPr>
            <p:spPr>
              <a:xfrm flipH="1">
                <a:off x="1599840" y="4038480"/>
                <a:ext cx="25146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200" y="380988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n error –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ptr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is a constant pointe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 flipH="1">
              <a:off x="4419720" y="4419360"/>
              <a:ext cx="763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 bubblesort us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wap two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 must receive address (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f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elements have call-by-valu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pointers and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switch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ue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data in origin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Call function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nt sorted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fine bubble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ubble Sort Using Call-by-referenc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size of operand in by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rrays:  size of 1 element * 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( int 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tes, th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"%d", sizeof( myArray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pr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93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15: fig07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puts values into an array, sorts the values in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scending order, and prints the resulting array.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bubbleSort( a, SIZE 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ort the arra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0; i &lt; SIZE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4d", a[ i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Sor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1828800" y="2362320"/>
            <a:ext cx="4419720" cy="1523880"/>
            <a:chOff x="1828800" y="2362320"/>
            <a:chExt cx="4419720" cy="1523880"/>
          </a:xfrm>
        </p:grpSpPr>
        <p:sp>
          <p:nvSpPr>
            <p:cNvPr id="490" name=""/>
            <p:cNvSpPr/>
            <p:nvPr/>
          </p:nvSpPr>
          <p:spPr>
            <a:xfrm flipH="1">
              <a:off x="1828800" y="2895840"/>
              <a:ext cx="17524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362320"/>
              <a:ext cx="27432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sor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gets passed the address of array elements (pointers).  The name of an array is a 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0"/>
            <a:ext cx="6780960" cy="4114800"/>
            <a:chOff x="0" y="0"/>
            <a:chExt cx="6780960" cy="4114800"/>
          </a:xfrm>
        </p:grpSpPr>
        <p:grpSp>
          <p:nvGrpSpPr>
            <p:cNvPr id="494" name="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j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0; pass &lt; size - 1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j = 0; j &lt; size - 1; j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array[ j ] &gt; array[ j + 1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array[ j ], &amp;array[ j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hold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hol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"/>
          <p:cNvSpPr/>
          <p:nvPr/>
        </p:nvSpPr>
        <p:spPr>
          <a:xfrm>
            <a:off x="0" y="4343400"/>
            <a:ext cx="678168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operations can be performed o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ment/decrement pointer 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an integer to a pointer(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may be subtracted from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s meaningless unless performed on an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elemen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ray on machine with 4 byt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first 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ca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3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 += 2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incremented by 2), but the machine has 4 by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so it points to addre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76520" y="3581280"/>
            <a:ext cx="5485680" cy="2056680"/>
            <a:chOff x="1676520" y="3581280"/>
            <a:chExt cx="5485680" cy="2056680"/>
          </a:xfrm>
        </p:grpSpPr>
        <p:sp>
          <p:nvSpPr>
            <p:cNvPr id="547" name=""/>
            <p:cNvSpPr/>
            <p:nvPr/>
          </p:nvSpPr>
          <p:spPr>
            <a:xfrm>
              <a:off x="1676520" y="5346000"/>
              <a:ext cx="289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ointer variabl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v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7480" y="4973400"/>
              <a:ext cx="495720" cy="403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19944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44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73080" y="5107680"/>
              <a:ext cx="164520" cy="13464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29760" y="4339080"/>
              <a:ext cx="826920" cy="403920"/>
              <a:chOff x="3029760" y="4339080"/>
              <a:chExt cx="826920" cy="4039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2976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1652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0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3856680" y="4339080"/>
              <a:ext cx="826200" cy="403920"/>
              <a:chOff x="3856680" y="4339080"/>
              <a:chExt cx="826200" cy="403920"/>
            </a:xfrm>
          </p:grpSpPr>
          <p:sp>
            <p:nvSpPr>
              <p:cNvPr id="554" name=""/>
              <p:cNvSpPr/>
              <p:nvPr/>
            </p:nvSpPr>
            <p:spPr>
              <a:xfrm>
                <a:off x="38566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434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682880" y="4339080"/>
              <a:ext cx="826200" cy="403920"/>
              <a:chOff x="4682880" y="4339080"/>
              <a:chExt cx="826200" cy="403920"/>
            </a:xfrm>
          </p:grpSpPr>
          <p:sp>
            <p:nvSpPr>
              <p:cNvPr id="557" name=""/>
              <p:cNvSpPr/>
              <p:nvPr/>
            </p:nvSpPr>
            <p:spPr>
              <a:xfrm>
                <a:off x="468288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6964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336000" y="4339080"/>
              <a:ext cx="826200" cy="403920"/>
              <a:chOff x="6336000" y="4339080"/>
              <a:chExt cx="826200" cy="403920"/>
            </a:xfrm>
          </p:grpSpPr>
          <p:sp>
            <p:nvSpPr>
              <p:cNvPr id="560" name=""/>
              <p:cNvSpPr/>
              <p:nvPr/>
            </p:nvSpPr>
            <p:spPr>
              <a:xfrm>
                <a:off x="6336000" y="4339080"/>
                <a:ext cx="82620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422760" y="4419720"/>
                <a:ext cx="65160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4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509080" y="4339080"/>
              <a:ext cx="826920" cy="403920"/>
              <a:chOff x="5509080" y="4339080"/>
              <a:chExt cx="826920" cy="403920"/>
            </a:xfrm>
          </p:grpSpPr>
          <p:sp>
            <p:nvSpPr>
              <p:cNvPr id="563" name=""/>
              <p:cNvSpPr/>
              <p:nvPr/>
            </p:nvSpPr>
            <p:spPr>
              <a:xfrm>
                <a:off x="5509080" y="4339080"/>
                <a:ext cx="826920" cy="403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595840" y="4419720"/>
                <a:ext cx="651960" cy="29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v[3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302976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566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6828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0908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36000" y="4069800"/>
              <a:ext cx="360" cy="268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1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3744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400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0200" y="3817080"/>
              <a:ext cx="6512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71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3320" y="3817080"/>
              <a:ext cx="6501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47800" y="3581280"/>
              <a:ext cx="11156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949040" y="4515840"/>
              <a:ext cx="1084680" cy="59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5" y="0"/>
                  </a:moveTo>
                  <a:lnTo>
                    <a:pt x="0" y="0"/>
                  </a:lnTo>
                  <a:lnTo>
                    <a:pt x="0" y="199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828800" y="19890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343368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ing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number of elements from one to the other.  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2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Ptr = v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Ptr2 - v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ould produce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comparison (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which pointer points to the higher numbered arr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, see if a pointer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Expressions and Pointer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of the same type can be assigned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the same type, a cast operator must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ption: 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ic pointer, represents any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asting needed to convert a pointer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s cannot be de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, but difficult to mas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call-by-refere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ose relationship with arrays and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and pointers closely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name like a constan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an do array subscripting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an arra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poin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P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them equal to one another 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rray nam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actually the address of first element of the arra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 = &amp;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assign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ddress of first elem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Relationship Between Pointers an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me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offset. Called pointer/offse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pointer/subscript 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tr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ccessed by performing pointer arithmetic on the array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 of Poin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can contain 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an array of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suit[ 4 ] = { "Hearts", "Diamonds"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"Clubs", "Spades"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pointers to the first charac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ach elem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rings are not actually stored in the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nly pointers to the strings ar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i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ray has a fixed size, but strings can be of any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297160"/>
            <a:ext cx="5486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grpSp>
          <p:nvGrpSpPr>
            <p:cNvPr id="591" name=""/>
            <p:cNvGrpSpPr/>
            <p:nvPr/>
          </p:nvGrpSpPr>
          <p:grpSpPr>
            <a:xfrm>
              <a:off x="838080" y="5276880"/>
              <a:ext cx="2190960" cy="361800"/>
              <a:chOff x="838080" y="5276880"/>
              <a:chExt cx="2190960" cy="3618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838080" y="5276880"/>
                <a:ext cx="1565280" cy="361800"/>
                <a:chOff x="838080" y="5276880"/>
                <a:chExt cx="1565280" cy="361800"/>
              </a:xfrm>
            </p:grpSpPr>
            <p:grpSp>
              <p:nvGrpSpPr>
                <p:cNvPr id="593" name=""/>
                <p:cNvGrpSpPr/>
                <p:nvPr/>
              </p:nvGrpSpPr>
              <p:grpSpPr>
                <a:xfrm>
                  <a:off x="1934280" y="5276880"/>
                  <a:ext cx="469080" cy="361800"/>
                  <a:chOff x="1934280" y="5276880"/>
                  <a:chExt cx="469080" cy="36180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1934280" y="527688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89080" y="539748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6" name=""/>
                <p:cNvSpPr/>
                <p:nvPr/>
              </p:nvSpPr>
              <p:spPr>
                <a:xfrm>
                  <a:off x="838080" y="533700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3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2246760" y="5457600"/>
                <a:ext cx="78228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838080" y="4914720"/>
              <a:ext cx="2190960" cy="361800"/>
              <a:chOff x="838080" y="4914720"/>
              <a:chExt cx="2190960" cy="3618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838080" y="4914720"/>
                <a:ext cx="1565280" cy="361800"/>
                <a:chOff x="838080" y="4914720"/>
                <a:chExt cx="1565280" cy="36180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1934280" y="4914720"/>
                  <a:ext cx="469080" cy="361800"/>
                  <a:chOff x="1934280" y="4914720"/>
                  <a:chExt cx="469080" cy="36180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1934280" y="49147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89440" y="50353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838080" y="49748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2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2247120" y="50954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838080" y="4552920"/>
              <a:ext cx="2190960" cy="361800"/>
              <a:chOff x="838080" y="4552920"/>
              <a:chExt cx="2190960" cy="3618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838080" y="4552920"/>
                <a:ext cx="1565280" cy="361800"/>
                <a:chOff x="838080" y="4552920"/>
                <a:chExt cx="1565280" cy="36180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1934280" y="4552920"/>
                  <a:ext cx="469080" cy="361800"/>
                  <a:chOff x="1934280" y="4552920"/>
                  <a:chExt cx="469080" cy="36180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1934280" y="45529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89440" y="46735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838080" y="46130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1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2247120" y="47336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838080" y="4191120"/>
              <a:ext cx="2190960" cy="361800"/>
              <a:chOff x="838080" y="4191120"/>
              <a:chExt cx="2190960" cy="361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838080" y="4191120"/>
                <a:ext cx="1565280" cy="361800"/>
                <a:chOff x="838080" y="4191120"/>
                <a:chExt cx="1565280" cy="3618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1934280" y="4191120"/>
                  <a:ext cx="469080" cy="361800"/>
                  <a:chOff x="1934280" y="4191120"/>
                  <a:chExt cx="469080" cy="36180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934280" y="4191120"/>
                    <a:ext cx="469080" cy="36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944" y="0"/>
                        </a:moveTo>
                        <a:lnTo>
                          <a:pt x="19944" y="19944"/>
                        </a:lnTo>
                        <a:lnTo>
                          <a:pt x="0" y="19944"/>
                        </a:lnTo>
                        <a:lnTo>
                          <a:pt x="0" y="0"/>
                        </a:lnTo>
                        <a:lnTo>
                          <a:pt x="19944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089440" y="4311720"/>
                    <a:ext cx="157680" cy="121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>
                  <a:off x="838080" y="4251240"/>
                  <a:ext cx="11484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uit[0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2247120" y="4371840"/>
                <a:ext cx="781920" cy="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029040" y="4251240"/>
              <a:ext cx="625680" cy="282240"/>
              <a:chOff x="3029040" y="4251240"/>
              <a:chExt cx="625680" cy="282240"/>
            </a:xfrm>
          </p:grpSpPr>
          <p:sp>
            <p:nvSpPr>
              <p:cNvPr id="620" name=""/>
              <p:cNvSpPr/>
              <p:nvPr/>
            </p:nvSpPr>
            <p:spPr>
              <a:xfrm>
                <a:off x="30290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7980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H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3655080" y="4251240"/>
              <a:ext cx="625680" cy="282240"/>
              <a:chOff x="3655080" y="4251240"/>
              <a:chExt cx="625680" cy="282240"/>
            </a:xfrm>
          </p:grpSpPr>
          <p:sp>
            <p:nvSpPr>
              <p:cNvPr id="623" name=""/>
              <p:cNvSpPr/>
              <p:nvPr/>
            </p:nvSpPr>
            <p:spPr>
              <a:xfrm>
                <a:off x="36550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7058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280760" y="4251240"/>
              <a:ext cx="625680" cy="282240"/>
              <a:chOff x="4280760" y="4251240"/>
              <a:chExt cx="625680" cy="282240"/>
            </a:xfrm>
          </p:grpSpPr>
          <p:sp>
            <p:nvSpPr>
              <p:cNvPr id="626" name=""/>
              <p:cNvSpPr/>
              <p:nvPr/>
            </p:nvSpPr>
            <p:spPr>
              <a:xfrm>
                <a:off x="42807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3315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906800" y="4251240"/>
              <a:ext cx="625680" cy="282240"/>
              <a:chOff x="4906800" y="4251240"/>
              <a:chExt cx="625680" cy="282240"/>
            </a:xfrm>
          </p:grpSpPr>
          <p:sp>
            <p:nvSpPr>
              <p:cNvPr id="629" name=""/>
              <p:cNvSpPr/>
              <p:nvPr/>
            </p:nvSpPr>
            <p:spPr>
              <a:xfrm>
                <a:off x="490680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95756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r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532480" y="4251240"/>
              <a:ext cx="625680" cy="282240"/>
              <a:chOff x="5532480" y="4251240"/>
              <a:chExt cx="625680" cy="282240"/>
            </a:xfrm>
          </p:grpSpPr>
          <p:sp>
            <p:nvSpPr>
              <p:cNvPr id="632" name=""/>
              <p:cNvSpPr/>
              <p:nvPr/>
            </p:nvSpPr>
            <p:spPr>
              <a:xfrm>
                <a:off x="553248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8324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t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6158160" y="4251240"/>
              <a:ext cx="625680" cy="282240"/>
              <a:chOff x="6158160" y="4251240"/>
              <a:chExt cx="625680" cy="282240"/>
            </a:xfrm>
          </p:grpSpPr>
          <p:sp>
            <p:nvSpPr>
              <p:cNvPr id="635" name=""/>
              <p:cNvSpPr/>
              <p:nvPr/>
            </p:nvSpPr>
            <p:spPr>
              <a:xfrm>
                <a:off x="615816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08920" y="425124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756480" y="4251240"/>
              <a:ext cx="678960" cy="282240"/>
              <a:chOff x="6756480" y="4251240"/>
              <a:chExt cx="678960" cy="282240"/>
            </a:xfrm>
          </p:grpSpPr>
          <p:sp>
            <p:nvSpPr>
              <p:cNvPr id="638" name=""/>
              <p:cNvSpPr/>
              <p:nvPr/>
            </p:nvSpPr>
            <p:spPr>
              <a:xfrm>
                <a:off x="6783840" y="425124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756480" y="425124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029040" y="4603320"/>
              <a:ext cx="625680" cy="282240"/>
              <a:chOff x="3029040" y="4603320"/>
              <a:chExt cx="625680" cy="282240"/>
            </a:xfrm>
          </p:grpSpPr>
          <p:sp>
            <p:nvSpPr>
              <p:cNvPr id="641" name=""/>
              <p:cNvSpPr/>
              <p:nvPr/>
            </p:nvSpPr>
            <p:spPr>
              <a:xfrm>
                <a:off x="30290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07980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3655080" y="4603320"/>
              <a:ext cx="625680" cy="282240"/>
              <a:chOff x="3655080" y="4603320"/>
              <a:chExt cx="625680" cy="282240"/>
            </a:xfrm>
          </p:grpSpPr>
          <p:sp>
            <p:nvSpPr>
              <p:cNvPr id="644" name=""/>
              <p:cNvSpPr/>
              <p:nvPr/>
            </p:nvSpPr>
            <p:spPr>
              <a:xfrm>
                <a:off x="36550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584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280760" y="4603320"/>
              <a:ext cx="625680" cy="282240"/>
              <a:chOff x="4280760" y="4603320"/>
              <a:chExt cx="625680" cy="282240"/>
            </a:xfrm>
          </p:grpSpPr>
          <p:sp>
            <p:nvSpPr>
              <p:cNvPr id="647" name=""/>
              <p:cNvSpPr/>
              <p:nvPr/>
            </p:nvSpPr>
            <p:spPr>
              <a:xfrm>
                <a:off x="42807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3152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906800" y="4603320"/>
              <a:ext cx="625680" cy="282240"/>
              <a:chOff x="4906800" y="4603320"/>
              <a:chExt cx="625680" cy="282240"/>
            </a:xfrm>
          </p:grpSpPr>
          <p:sp>
            <p:nvSpPr>
              <p:cNvPr id="650" name=""/>
              <p:cNvSpPr/>
              <p:nvPr/>
            </p:nvSpPr>
            <p:spPr>
              <a:xfrm>
                <a:off x="49068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95756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m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532480" y="4603320"/>
              <a:ext cx="625680" cy="282240"/>
              <a:chOff x="5532480" y="4603320"/>
              <a:chExt cx="625680" cy="282240"/>
            </a:xfrm>
          </p:grpSpPr>
          <p:sp>
            <p:nvSpPr>
              <p:cNvPr id="653" name=""/>
              <p:cNvSpPr/>
              <p:nvPr/>
            </p:nvSpPr>
            <p:spPr>
              <a:xfrm>
                <a:off x="553248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58288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158160" y="4603320"/>
              <a:ext cx="625680" cy="282240"/>
              <a:chOff x="6158160" y="4603320"/>
              <a:chExt cx="625680" cy="282240"/>
            </a:xfrm>
          </p:grpSpPr>
          <p:sp>
            <p:nvSpPr>
              <p:cNvPr id="656" name=""/>
              <p:cNvSpPr/>
              <p:nvPr/>
            </p:nvSpPr>
            <p:spPr>
              <a:xfrm>
                <a:off x="615816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0856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6783840" y="4603320"/>
              <a:ext cx="625680" cy="282240"/>
              <a:chOff x="6783840" y="4603320"/>
              <a:chExt cx="625680" cy="282240"/>
            </a:xfrm>
          </p:grpSpPr>
          <p:sp>
            <p:nvSpPr>
              <p:cNvPr id="659" name=""/>
              <p:cNvSpPr/>
              <p:nvPr/>
            </p:nvSpPr>
            <p:spPr>
              <a:xfrm>
                <a:off x="678384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34240" y="46033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7409520" y="4603320"/>
              <a:ext cx="625680" cy="282240"/>
              <a:chOff x="7409520" y="4603320"/>
              <a:chExt cx="625680" cy="282240"/>
            </a:xfrm>
          </p:grpSpPr>
          <p:sp>
            <p:nvSpPr>
              <p:cNvPr id="662" name=""/>
              <p:cNvSpPr/>
              <p:nvPr/>
            </p:nvSpPr>
            <p:spPr>
              <a:xfrm>
                <a:off x="740952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460280" y="46033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8007840" y="4603320"/>
              <a:ext cx="678960" cy="282240"/>
              <a:chOff x="8007840" y="4603320"/>
              <a:chExt cx="678960" cy="282240"/>
            </a:xfrm>
          </p:grpSpPr>
          <p:sp>
            <p:nvSpPr>
              <p:cNvPr id="665" name=""/>
              <p:cNvSpPr/>
              <p:nvPr/>
            </p:nvSpPr>
            <p:spPr>
              <a:xfrm>
                <a:off x="8035200" y="46033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007840" y="46033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029040" y="4965120"/>
              <a:ext cx="625680" cy="282240"/>
              <a:chOff x="3029040" y="4965120"/>
              <a:chExt cx="625680" cy="282240"/>
            </a:xfrm>
          </p:grpSpPr>
          <p:sp>
            <p:nvSpPr>
              <p:cNvPr id="668" name=""/>
              <p:cNvSpPr/>
              <p:nvPr/>
            </p:nvSpPr>
            <p:spPr>
              <a:xfrm>
                <a:off x="302904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7980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3655080" y="4965120"/>
              <a:ext cx="625680" cy="282240"/>
              <a:chOff x="3655080" y="4965120"/>
              <a:chExt cx="625680" cy="282240"/>
            </a:xfrm>
          </p:grpSpPr>
          <p:sp>
            <p:nvSpPr>
              <p:cNvPr id="671" name=""/>
              <p:cNvSpPr/>
              <p:nvPr/>
            </p:nvSpPr>
            <p:spPr>
              <a:xfrm>
                <a:off x="365508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0584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4280760" y="4965120"/>
              <a:ext cx="625680" cy="282240"/>
              <a:chOff x="4280760" y="4965120"/>
              <a:chExt cx="625680" cy="282240"/>
            </a:xfrm>
          </p:grpSpPr>
          <p:sp>
            <p:nvSpPr>
              <p:cNvPr id="674" name=""/>
              <p:cNvSpPr/>
              <p:nvPr/>
            </p:nvSpPr>
            <p:spPr>
              <a:xfrm>
                <a:off x="428076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33116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4906800" y="4965120"/>
              <a:ext cx="625320" cy="282240"/>
              <a:chOff x="4906800" y="4965120"/>
              <a:chExt cx="625320" cy="282240"/>
            </a:xfrm>
          </p:grpSpPr>
          <p:sp>
            <p:nvSpPr>
              <p:cNvPr id="677" name=""/>
              <p:cNvSpPr/>
              <p:nvPr/>
            </p:nvSpPr>
            <p:spPr>
              <a:xfrm>
                <a:off x="4906800" y="496512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57200" y="496512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b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532120" y="4965120"/>
              <a:ext cx="625680" cy="282240"/>
              <a:chOff x="5532120" y="4965120"/>
              <a:chExt cx="625680" cy="282240"/>
            </a:xfrm>
          </p:grpSpPr>
          <p:sp>
            <p:nvSpPr>
              <p:cNvPr id="680" name=""/>
              <p:cNvSpPr/>
              <p:nvPr/>
            </p:nvSpPr>
            <p:spPr>
              <a:xfrm>
                <a:off x="553212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82880" y="496512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6130800" y="4965120"/>
              <a:ext cx="678960" cy="282240"/>
              <a:chOff x="6130800" y="4965120"/>
              <a:chExt cx="678960" cy="282240"/>
            </a:xfrm>
          </p:grpSpPr>
          <p:sp>
            <p:nvSpPr>
              <p:cNvPr id="683" name=""/>
              <p:cNvSpPr/>
              <p:nvPr/>
            </p:nvSpPr>
            <p:spPr>
              <a:xfrm>
                <a:off x="6157800" y="496512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130800" y="496512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029040" y="5327280"/>
              <a:ext cx="625680" cy="282240"/>
              <a:chOff x="3029040" y="5327280"/>
              <a:chExt cx="625680" cy="282240"/>
            </a:xfrm>
          </p:grpSpPr>
          <p:sp>
            <p:nvSpPr>
              <p:cNvPr id="686" name=""/>
              <p:cNvSpPr/>
              <p:nvPr/>
            </p:nvSpPr>
            <p:spPr>
              <a:xfrm>
                <a:off x="302904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07980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655080" y="5327280"/>
              <a:ext cx="625680" cy="282240"/>
              <a:chOff x="3655080" y="5327280"/>
              <a:chExt cx="625680" cy="282240"/>
            </a:xfrm>
          </p:grpSpPr>
          <p:sp>
            <p:nvSpPr>
              <p:cNvPr id="689" name=""/>
              <p:cNvSpPr/>
              <p:nvPr/>
            </p:nvSpPr>
            <p:spPr>
              <a:xfrm>
                <a:off x="36550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70584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4280760" y="5327280"/>
              <a:ext cx="625680" cy="282240"/>
              <a:chOff x="4280760" y="5327280"/>
              <a:chExt cx="625680" cy="282240"/>
            </a:xfrm>
          </p:grpSpPr>
          <p:sp>
            <p:nvSpPr>
              <p:cNvPr id="692" name=""/>
              <p:cNvSpPr/>
              <p:nvPr/>
            </p:nvSpPr>
            <p:spPr>
              <a:xfrm>
                <a:off x="428076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33116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906800" y="5327280"/>
              <a:ext cx="625320" cy="282240"/>
              <a:chOff x="4906800" y="5327280"/>
              <a:chExt cx="625320" cy="282240"/>
            </a:xfrm>
          </p:grpSpPr>
          <p:sp>
            <p:nvSpPr>
              <p:cNvPr id="695" name=""/>
              <p:cNvSpPr/>
              <p:nvPr/>
            </p:nvSpPr>
            <p:spPr>
              <a:xfrm>
                <a:off x="4906800" y="5327280"/>
                <a:ext cx="62532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957200" y="5327280"/>
                <a:ext cx="52308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5532120" y="5327280"/>
              <a:ext cx="625680" cy="282240"/>
              <a:chOff x="5532120" y="5327280"/>
              <a:chExt cx="625680" cy="282240"/>
            </a:xfrm>
          </p:grpSpPr>
          <p:sp>
            <p:nvSpPr>
              <p:cNvPr id="698" name=""/>
              <p:cNvSpPr/>
              <p:nvPr/>
            </p:nvSpPr>
            <p:spPr>
              <a:xfrm>
                <a:off x="553212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58288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157800" y="5327280"/>
              <a:ext cx="625680" cy="282240"/>
              <a:chOff x="6157800" y="5327280"/>
              <a:chExt cx="625680" cy="282240"/>
            </a:xfrm>
          </p:grpSpPr>
          <p:sp>
            <p:nvSpPr>
              <p:cNvPr id="701" name=""/>
              <p:cNvSpPr/>
              <p:nvPr/>
            </p:nvSpPr>
            <p:spPr>
              <a:xfrm>
                <a:off x="615780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08560" y="5327280"/>
                <a:ext cx="52272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6756120" y="5327280"/>
              <a:ext cx="678960" cy="282240"/>
              <a:chOff x="6756120" y="5327280"/>
              <a:chExt cx="678960" cy="282240"/>
            </a:xfrm>
          </p:grpSpPr>
          <p:sp>
            <p:nvSpPr>
              <p:cNvPr id="704" name=""/>
              <p:cNvSpPr/>
              <p:nvPr/>
            </p:nvSpPr>
            <p:spPr>
              <a:xfrm>
                <a:off x="6783480" y="5327280"/>
                <a:ext cx="625680" cy="24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58" y="0"/>
                    </a:moveTo>
                    <a:lnTo>
                      <a:pt x="19958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5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756120" y="5327280"/>
                <a:ext cx="67896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’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\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0" y="337356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3429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 shuffl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array of pointers to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double scripted array (suit, fa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umbers 1-52 go into th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ing the order in which the cards are de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054160"/>
            <a:ext cx="548640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6320" y="2666880"/>
            <a:ext cx="9983520" cy="2355840"/>
            <a:chOff x="76320" y="2666880"/>
            <a:chExt cx="9983520" cy="2355840"/>
          </a:xfrm>
        </p:grpSpPr>
        <p:sp>
          <p:nvSpPr>
            <p:cNvPr id="712" name=""/>
            <p:cNvSpPr/>
            <p:nvPr/>
          </p:nvSpPr>
          <p:spPr>
            <a:xfrm>
              <a:off x="4114800" y="4343400"/>
              <a:ext cx="59450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k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[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Courier New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Mincho"/>
                </a:rPr>
                <a:t> represents the King of Club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76320" y="2666880"/>
              <a:ext cx="9178920" cy="2355840"/>
              <a:chOff x="76320" y="2666880"/>
              <a:chExt cx="9178920" cy="2355840"/>
            </a:xfrm>
          </p:grpSpPr>
          <p:sp>
            <p:nvSpPr>
              <p:cNvPr id="714" name=""/>
              <p:cNvSpPr/>
              <p:nvPr/>
            </p:nvSpPr>
            <p:spPr>
              <a:xfrm>
                <a:off x="76320" y="318096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Hear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6320" y="3425400"/>
                <a:ext cx="1200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Diamon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6320" y="3671640"/>
                <a:ext cx="770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6320" y="3917880"/>
                <a:ext cx="914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pad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734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9401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071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4736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38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5403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073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1405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6740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075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406960" y="314460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4072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274240" y="314460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734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401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0071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4736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0738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5403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073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1405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6740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075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406960" y="3390480"/>
                <a:ext cx="53316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74072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74240" y="3390480"/>
                <a:ext cx="533520" cy="244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8734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9401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071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4736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0738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403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073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1405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6740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075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406960" y="3635280"/>
                <a:ext cx="53316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74072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734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9401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0071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736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0738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403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6073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405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740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075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06960" y="3881160"/>
                <a:ext cx="53316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4072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274240" y="3881160"/>
                <a:ext cx="533520" cy="24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35400" y="3126960"/>
                <a:ext cx="2379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535400" y="337176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535400" y="3617640"/>
                <a:ext cx="2379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35400" y="3863880"/>
                <a:ext cx="23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274240" y="3635280"/>
                <a:ext cx="533520" cy="245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44" y="0"/>
                    </a:moveTo>
                    <a:lnTo>
                      <a:pt x="19944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44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244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75760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w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2911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h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246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578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F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9132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i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2484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Se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95800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E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9152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N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25040" y="2666880"/>
                <a:ext cx="4888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T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58200" y="2666880"/>
                <a:ext cx="6303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J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091720" y="2666880"/>
                <a:ext cx="77148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Que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625240" y="2666880"/>
                <a:ext cx="630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210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545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877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6212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1547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6879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214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5496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288120" y="2825640"/>
                <a:ext cx="2368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821640" y="2825640"/>
                <a:ext cx="2365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6624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99760" y="2825640"/>
                <a:ext cx="41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32920" y="2825640"/>
                <a:ext cx="41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755760" y="3774960"/>
                <a:ext cx="1600200" cy="5331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8" y="1997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556080" y="4460760"/>
                <a:ext cx="990720" cy="30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16" y="199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73760" y="4776480"/>
                <a:ext cx="769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Cl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84880" y="4765320"/>
                <a:ext cx="62892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Mincho"/>
                  </a:rPr>
                  <a:t>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5004000" y="453672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2"/>
                    </a:moveTo>
                    <a:lnTo>
                      <a:pt x="1991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head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"/>
          <p:cNvSpPr/>
          <p:nvPr/>
        </p:nvSpPr>
        <p:spPr>
          <a:xfrm>
            <a:off x="-609480" y="1447920"/>
            <a:ext cx="128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4133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 leve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and 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refine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sui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fac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nitialize the deck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huffle the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eal 52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randomly selected unoccupied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of the 52 cards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nd card number in deck array and print face and suit of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A Card Shuffling and Dealing Simu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refin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ffle the de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ile chosen slot of deck has been previously chosen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oose slot of deck random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ce card number in chosen slot of d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deal 52 ca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ach slot of the deck array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f slot contains card number</a:t>
            </a:r>
            <a:br>
              <a:rPr sz="2000"/>
            </a:b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Print the face and suit of the c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it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k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huff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a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81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4: fig07_2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ard shuffling dealing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tim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[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uit[ 4 ] =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Hearts", "Diamonds", "Clubs", "Spades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face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{ "Ace", "Deuce", "Three", "Fou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Five", "Six", "Seven", "Eigh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"Nine", "Ten", "Jack", "Queen", "King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ck[ 4 ][ 13 ] = {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rand( time( 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huffle( deck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eal( deck, face, sui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8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9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9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9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huff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90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90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ow, column,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90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90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0" y="0"/>
            <a:ext cx="6780960" cy="6553080"/>
            <a:chOff x="0" y="0"/>
            <a:chExt cx="6780960" cy="6553080"/>
          </a:xfrm>
        </p:grpSpPr>
        <p:grpSp>
          <p:nvGrpSpPr>
            <p:cNvPr id="913" name=""/>
            <p:cNvGrpSpPr/>
            <p:nvPr/>
          </p:nvGrpSpPr>
          <p:grpSpPr>
            <a:xfrm>
              <a:off x="0" y="0"/>
              <a:ext cx="6780960" cy="262080"/>
              <a:chOff x="0" y="0"/>
              <a:chExt cx="6780960" cy="26208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0" y="262080"/>
              <a:ext cx="6780960" cy="262080"/>
              <a:chOff x="0" y="262080"/>
              <a:chExt cx="6780960" cy="262080"/>
            </a:xfrm>
          </p:grpSpPr>
          <p:sp>
            <p:nvSpPr>
              <p:cNvPr id="917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262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ow = rand() %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0" y="524160"/>
              <a:ext cx="6780960" cy="262080"/>
              <a:chOff x="0" y="524160"/>
              <a:chExt cx="6780960" cy="262080"/>
            </a:xfrm>
          </p:grpSpPr>
          <p:sp>
            <p:nvSpPr>
              <p:cNvPr id="920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0" y="524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column = rand() % 1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0" y="786240"/>
              <a:ext cx="6780960" cy="262080"/>
              <a:chOff x="0" y="786240"/>
              <a:chExt cx="6780960" cy="26208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786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wDeck[ row ][ column ] != 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1048320"/>
              <a:ext cx="6780960" cy="262080"/>
              <a:chOff x="0" y="1048320"/>
              <a:chExt cx="6780960" cy="26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1048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1310400"/>
              <a:ext cx="6780960" cy="262080"/>
              <a:chOff x="0" y="1310400"/>
              <a:chExt cx="6780960" cy="26208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1310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wDeck[ row ][ column ] = car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1572480"/>
              <a:ext cx="6780960" cy="262080"/>
              <a:chOff x="0" y="1572480"/>
              <a:chExt cx="6780960" cy="26208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1572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1834920"/>
              <a:ext cx="6780960" cy="262080"/>
              <a:chOff x="0" y="1834920"/>
              <a:chExt cx="6780960" cy="26208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1834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2097000"/>
              <a:ext cx="6780960" cy="262080"/>
              <a:chOff x="0" y="2097000"/>
              <a:chExt cx="6780960" cy="26208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2097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2359080"/>
              <a:ext cx="6780960" cy="262080"/>
              <a:chOff x="0" y="2359080"/>
              <a:chExt cx="6780960" cy="26208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2359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al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Deck[][ 13 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Face[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2621160"/>
              <a:ext cx="6780960" cy="262080"/>
              <a:chOff x="0" y="2621160"/>
              <a:chExt cx="6780960" cy="26208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2621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wSuit[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2883240"/>
              <a:ext cx="6780960" cy="262080"/>
              <a:chOff x="0" y="2883240"/>
              <a:chExt cx="6780960" cy="26208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2883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3145320"/>
              <a:ext cx="6780960" cy="262080"/>
              <a:chOff x="0" y="3145320"/>
              <a:chExt cx="6780960" cy="26208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3145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ard, row, colu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3407400"/>
              <a:ext cx="6780960" cy="262080"/>
              <a:chOff x="0" y="3407400"/>
              <a:chExt cx="6780960" cy="26208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3407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3669480"/>
              <a:ext cx="6780960" cy="262080"/>
              <a:chOff x="0" y="3669480"/>
              <a:chExt cx="6780960" cy="26208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36694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ard = 1; card &lt;= 52; card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3931920"/>
              <a:ext cx="6780960" cy="262080"/>
              <a:chOff x="0" y="3931920"/>
              <a:chExt cx="6780960" cy="26208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3931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4194000"/>
              <a:ext cx="6780960" cy="262080"/>
              <a:chOff x="0" y="4194000"/>
              <a:chExt cx="6780960" cy="26208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4194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ow = 0; row &lt;= 3; row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4456080"/>
              <a:ext cx="6780960" cy="262080"/>
              <a:chOff x="0" y="4456080"/>
              <a:chExt cx="6780960" cy="26208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45608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4718160"/>
              <a:ext cx="6780960" cy="262080"/>
              <a:chOff x="0" y="4718160"/>
              <a:chExt cx="6780960" cy="26208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471816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lumn = 0; column &lt;= 12; column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4980240"/>
              <a:ext cx="6780960" cy="262080"/>
              <a:chOff x="0" y="4980240"/>
              <a:chExt cx="6780960" cy="26208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49802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5242320"/>
              <a:ext cx="6780960" cy="262080"/>
              <a:chOff x="0" y="5242320"/>
              <a:chExt cx="6780960" cy="26208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52423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wDeck[ row ][ column ] == car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5504400"/>
              <a:ext cx="6780960" cy="262080"/>
              <a:chOff x="0" y="5504400"/>
              <a:chExt cx="6780960" cy="26208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55044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%5s of %-8s%c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5766840"/>
              <a:ext cx="6780960" cy="262080"/>
              <a:chOff x="0" y="5766840"/>
              <a:chExt cx="6780960" cy="26208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576684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wFace[ column ], wSuit[ row 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6028920"/>
              <a:ext cx="6780960" cy="262080"/>
              <a:chOff x="0" y="6028920"/>
              <a:chExt cx="6780960" cy="26208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602892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card % 2 == 0 ? '\n' : '\t'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6291000"/>
              <a:ext cx="6780960" cy="262080"/>
              <a:chOff x="0" y="6291000"/>
              <a:chExt cx="6780960" cy="2620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6291000"/>
                <a:ext cx="6780960" cy="2620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0" y="6291000"/>
                <a:ext cx="6780600" cy="262080"/>
                <a:chOff x="0" y="6291000"/>
                <a:chExt cx="6780600" cy="26208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57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0" y="6291000"/>
                  <a:ext cx="6780600" cy="26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3733920" y="228600"/>
            <a:ext cx="4343400" cy="1218960"/>
            <a:chOff x="3733920" y="228600"/>
            <a:chExt cx="4343400" cy="1218960"/>
          </a:xfrm>
        </p:grpSpPr>
        <p:sp>
          <p:nvSpPr>
            <p:cNvPr id="991" name=""/>
            <p:cNvSpPr/>
            <p:nvPr/>
          </p:nvSpPr>
          <p:spPr>
            <a:xfrm>
              <a:off x="54100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numbers 1-52 are randomly placed into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3733920" y="761760"/>
              <a:ext cx="1676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657240" y="4038480"/>
            <a:ext cx="4343760" cy="1371600"/>
            <a:chOff x="3657240" y="4038480"/>
            <a:chExt cx="4343760" cy="1371600"/>
          </a:xfrm>
        </p:grpSpPr>
        <p:sp>
          <p:nvSpPr>
            <p:cNvPr id="994" name=""/>
            <p:cNvSpPr/>
            <p:nvPr/>
          </p:nvSpPr>
          <p:spPr>
            <a:xfrm>
              <a:off x="5638680" y="4038480"/>
              <a:ext cx="23623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arch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ck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or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umber, then print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ui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3657240" y="4419360"/>
              <a:ext cx="1981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6781680" cy="538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Clubs          Sev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Spades           Ac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Hearts         Queen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een of Clubs          Sev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Hearts         Deuce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Spades         Thre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n of Diamonds        Four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Diamonds         T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x of Diamonds         Six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Hearts         Thre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Hearts         Three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Spades           Six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Clubs          Eight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Diamonds       Eight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Spades          King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ing of Diamonds        Jack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uce of Hearts         Queen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e of Clubs           King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ree of Clubs           King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ine of Clubs           Nine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Hearts         Que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ht of Diamonds        Nin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Diamonds       Seven of Cl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ve of Hearts          Five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ur of Clubs           Jack of He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ck of Clubs          Seven of Sp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 memory addresses as their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 variables contain a specific value (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s contain address of a variable that has a specific value (indirect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rec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ferencing a point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549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962520" y="2378160"/>
            <a:ext cx="847440" cy="745920"/>
            <a:chOff x="3962520" y="2378160"/>
            <a:chExt cx="847440" cy="745920"/>
          </a:xfrm>
        </p:grpSpPr>
        <p:sp>
          <p:nvSpPr>
            <p:cNvPr id="104" name=""/>
            <p:cNvSpPr/>
            <p:nvPr/>
          </p:nvSpPr>
          <p:spPr>
            <a:xfrm>
              <a:off x="3962520" y="2378160"/>
              <a:ext cx="847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038480" y="2654280"/>
              <a:ext cx="560520" cy="469800"/>
              <a:chOff x="4038480" y="2654280"/>
              <a:chExt cx="560520" cy="469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038480" y="2654280"/>
                <a:ext cx="560520" cy="469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7" y="0"/>
                    </a:moveTo>
                    <a:lnTo>
                      <a:pt x="19967" y="19967"/>
                    </a:lnTo>
                    <a:lnTo>
                      <a:pt x="0" y="19967"/>
                    </a:lnTo>
                    <a:lnTo>
                      <a:pt x="0" y="0"/>
                    </a:lnTo>
                    <a:lnTo>
                      <a:pt x="19967" y="0"/>
                    </a:lnTo>
                    <a:close/>
                  </a:path>
                </a:pathLst>
              </a:custGeom>
              <a:solidFill>
                <a:srgbClr val="00cc9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8720" y="2804400"/>
                <a:ext cx="138960" cy="204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819520" y="4419720"/>
            <a:ext cx="2361960" cy="685800"/>
            <a:chOff x="2819520" y="4419720"/>
            <a:chExt cx="2361960" cy="685800"/>
          </a:xfrm>
        </p:grpSpPr>
        <p:sp>
          <p:nvSpPr>
            <p:cNvPr id="109" name=""/>
            <p:cNvSpPr/>
            <p:nvPr/>
          </p:nvSpPr>
          <p:spPr>
            <a:xfrm>
              <a:off x="4343400" y="4419720"/>
              <a:ext cx="8380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4664160"/>
              <a:ext cx="50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99000" y="4740120"/>
              <a:ext cx="125280" cy="19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19520" y="4419720"/>
              <a:ext cx="1296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untPt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4648320"/>
              <a:ext cx="6098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7" y="0"/>
                  </a:moveTo>
                  <a:lnTo>
                    <a:pt x="19967" y="19967"/>
                  </a:lnTo>
                  <a:lnTo>
                    <a:pt x="0" y="19967"/>
                  </a:lnTo>
                  <a:lnTo>
                    <a:pt x="0" y="0"/>
                  </a:lnTo>
                  <a:lnTo>
                    <a:pt x="19967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4800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4876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ains address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 to how array name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starting address of code that defines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ointers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to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d in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ed to other function poi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11 Pointer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bubbl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a func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b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s this help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etermines ascending or descending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argument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ubbles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poin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( *compare )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bubblesort to expect a pointer to a function that takes tw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parentheses were left ou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 *compare( int, i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function that receives two integers and returns a pointer to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Initialize array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ompt for ascending or descending sort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Put appropriate function pointer into bubblesor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Call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ub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 resul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0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26: fig07_2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Multipurpose sorting program using function pointe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1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1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1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2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2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3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3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3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orde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counte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a[ SIZE ] = { 2, 6, 4, 8, 10, 12, 89, 68, 45, 3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1 to sort in ascending order,\n"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nter 2 to sort in descending order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 &amp;ord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Data items in original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order == 1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a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a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bubble( a, SIZE, descending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\nData items in descending order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3886200" y="1142640"/>
            <a:ext cx="3657600" cy="885960"/>
            <a:chOff x="3886200" y="1142640"/>
            <a:chExt cx="3657600" cy="885960"/>
          </a:xfrm>
        </p:grpSpPr>
        <p:sp>
          <p:nvSpPr>
            <p:cNvPr id="1101" name=""/>
            <p:cNvSpPr/>
            <p:nvPr/>
          </p:nvSpPr>
          <p:spPr>
            <a:xfrm flipH="1" flipV="1">
              <a:off x="3886200" y="1142640"/>
              <a:ext cx="1371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05520" y="14479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the function pointer parameter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05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10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er = 0; counter &lt; SIZE; counter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10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5d", a[ counter ] );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11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11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12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12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12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13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ubbl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work[]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iz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13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*compare)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pass, 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pass = 1; pass &lt; size; pass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ount = 0; count &lt; size - 1; count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*compare)( work[ count ], work[ count + 1 ]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swap( &amp;work[ count ], &amp;work[ count +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wap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1Pt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element2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emp = *element1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1Ptr = *element2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element2Ptr = te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1" name=""/>
          <p:cNvGrpSpPr/>
          <p:nvPr/>
        </p:nvGrpSpPr>
        <p:grpSpPr>
          <a:xfrm>
            <a:off x="2133360" y="1600200"/>
            <a:ext cx="6476760" cy="2514600"/>
            <a:chOff x="2133360" y="1600200"/>
            <a:chExt cx="6476760" cy="2514600"/>
          </a:xfrm>
        </p:grpSpPr>
        <p:sp>
          <p:nvSpPr>
            <p:cNvPr id="1202" name=""/>
            <p:cNvSpPr/>
            <p:nvPr/>
          </p:nvSpPr>
          <p:spPr>
            <a:xfrm>
              <a:off x="5714640" y="1600200"/>
              <a:ext cx="28954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esce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al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ub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wap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f the function call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tru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2133360" y="1981080"/>
              <a:ext cx="358092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438280" y="4343400"/>
            <a:ext cx="6400800" cy="1813320"/>
            <a:chOff x="2438280" y="4343400"/>
            <a:chExt cx="6400800" cy="1813320"/>
          </a:xfrm>
        </p:grpSpPr>
        <p:sp>
          <p:nvSpPr>
            <p:cNvPr id="1205" name=""/>
            <p:cNvSpPr/>
            <p:nvPr/>
          </p:nvSpPr>
          <p:spPr>
            <a:xfrm>
              <a:off x="6095880" y="4359240"/>
              <a:ext cx="2743200" cy="1797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function pointers are called using the dereferencing operator. 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not required, but emphasizes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omp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function pointer and not a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 flipV="1">
              <a:off x="2438280" y="4343400"/>
              <a:ext cx="36576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1  Define func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0" y="0"/>
            <a:ext cx="6780960" cy="2895120"/>
            <a:chOff x="0" y="0"/>
            <a:chExt cx="6780960" cy="2895120"/>
          </a:xfrm>
        </p:grpSpPr>
        <p:grpSp>
          <p:nvGrpSpPr>
            <p:cNvPr id="1209" name=""/>
            <p:cNvGrpSpPr/>
            <p:nvPr/>
          </p:nvGrpSpPr>
          <p:grpSpPr>
            <a:xfrm>
              <a:off x="0" y="0"/>
              <a:ext cx="6780960" cy="321480"/>
              <a:chOff x="0" y="0"/>
              <a:chExt cx="6780960" cy="32148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321480"/>
              <a:ext cx="6780960" cy="321480"/>
              <a:chOff x="0" y="321480"/>
              <a:chExt cx="6780960" cy="32148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321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643320"/>
              <a:ext cx="6780960" cy="321840"/>
              <a:chOff x="0" y="643320"/>
              <a:chExt cx="6780960" cy="3218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643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l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less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965160"/>
              <a:ext cx="6780960" cy="321480"/>
              <a:chOff x="0" y="965160"/>
              <a:chExt cx="6780960" cy="32148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965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1286640"/>
              <a:ext cx="6780960" cy="321480"/>
              <a:chOff x="0" y="1286640"/>
              <a:chExt cx="6780960" cy="32148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1286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1608480"/>
              <a:ext cx="6780960" cy="321480"/>
              <a:chOff x="0" y="1608480"/>
              <a:chExt cx="6780960" cy="32148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160848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scending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1930320"/>
              <a:ext cx="6780960" cy="321840"/>
              <a:chOff x="0" y="1930320"/>
              <a:chExt cx="6780960" cy="3218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1930320"/>
                <a:ext cx="6780960" cy="321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2252160"/>
              <a:ext cx="6780960" cy="321480"/>
              <a:chOff x="0" y="2252160"/>
              <a:chExt cx="6780960" cy="32148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225216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 &gt;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swap if b is greater than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2573640"/>
              <a:ext cx="6780960" cy="321480"/>
              <a:chOff x="0" y="2573640"/>
              <a:chExt cx="6780960" cy="32148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2573640"/>
                <a:ext cx="6780960" cy="321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0" y="2573640"/>
                <a:ext cx="6780600" cy="321480"/>
                <a:chOff x="0" y="2573640"/>
                <a:chExt cx="6780600" cy="32148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7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0" y="2573640"/>
                  <a:ext cx="6780600" cy="32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8" name=""/>
          <p:cNvSpPr/>
          <p:nvPr/>
        </p:nvSpPr>
        <p:spPr>
          <a:xfrm>
            <a:off x="0" y="304812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472428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1 to sort in ascending ord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2 to sort in descending ord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items in de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9  68  45  37  12  10   8   6   4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Variable Declarations and Initial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with pointe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s a pointer to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pointer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 pointers require using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each variabl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myPtr1, *myPt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pointers to any data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 pointer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or an 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s to nothing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fer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5760" y="3070080"/>
            <a:ext cx="150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46160"/>
            <a:ext cx="548640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ddress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ddress of oper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yPt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= &amp;y;      // yPtr gets address of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Ptr “points to”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3556080"/>
            <a:ext cx="7696080" cy="2532600"/>
            <a:chOff x="685800" y="3556080"/>
            <a:chExt cx="7696080" cy="2532600"/>
          </a:xfrm>
        </p:grpSpPr>
        <p:sp>
          <p:nvSpPr>
            <p:cNvPr id="123" name=""/>
            <p:cNvSpPr/>
            <p:nvPr/>
          </p:nvSpPr>
          <p:spPr>
            <a:xfrm>
              <a:off x="700200" y="4520880"/>
              <a:ext cx="550800" cy="3301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cccc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22440" y="4132080"/>
              <a:ext cx="549360" cy="3297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56" y="0"/>
                  </a:moveTo>
                  <a:lnTo>
                    <a:pt x="19956" y="19956"/>
                  </a:lnTo>
                  <a:lnTo>
                    <a:pt x="0" y="19956"/>
                  </a:lnTo>
                  <a:lnTo>
                    <a:pt x="0" y="0"/>
                  </a:lnTo>
                  <a:lnTo>
                    <a:pt x="19956" y="0"/>
                  </a:lnTo>
                  <a:close/>
                </a:path>
              </a:pathLst>
            </a:custGeom>
            <a:solidFill>
              <a:srgbClr val="00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6320" y="4316400"/>
              <a:ext cx="1446120" cy="369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0"/>
                  </a:moveTo>
                  <a:lnTo>
                    <a:pt x="0" y="1996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325760"/>
              <a:ext cx="577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Pt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9080" y="4652640"/>
              <a:ext cx="111240" cy="6660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4960" y="3936960"/>
              <a:ext cx="18252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4960" y="4217760"/>
              <a:ext cx="182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7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505320" y="3860640"/>
              <a:ext cx="4876560" cy="685440"/>
              <a:chOff x="3505320" y="3860640"/>
              <a:chExt cx="4876560" cy="685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3505320" y="3860640"/>
                <a:ext cx="2059920" cy="685440"/>
                <a:chOff x="3505320" y="3860640"/>
                <a:chExt cx="2059920" cy="685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817160" y="3860640"/>
                  <a:ext cx="5155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p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3505320" y="4166280"/>
                  <a:ext cx="2059920" cy="379800"/>
                  <a:chOff x="3505320" y="4166280"/>
                  <a:chExt cx="2059920" cy="379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350532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5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58440" y="4166280"/>
                    <a:ext cx="1306800" cy="379800"/>
                    <a:chOff x="4258440" y="4166280"/>
                    <a:chExt cx="1306800" cy="37980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534560" y="4229280"/>
                      <a:ext cx="753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5844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8" name=""/>
              <p:cNvGrpSpPr/>
              <p:nvPr/>
            </p:nvGrpSpPr>
            <p:grpSpPr>
              <a:xfrm>
                <a:off x="6321960" y="3860640"/>
                <a:ext cx="2059920" cy="685440"/>
                <a:chOff x="6321960" y="3860640"/>
                <a:chExt cx="2059920" cy="6854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48560" y="3860640"/>
                  <a:ext cx="159120" cy="2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600" spc="-1" strike="noStrike">
                      <a:solidFill>
                        <a:srgbClr val="000000"/>
                      </a:solidFill>
                      <a:latin typeface="Courier New"/>
                    </a:rPr>
                    <a:t>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" name=""/>
                <p:cNvGrpSpPr/>
                <p:nvPr/>
              </p:nvGrpSpPr>
              <p:grpSpPr>
                <a:xfrm>
                  <a:off x="6321960" y="4166280"/>
                  <a:ext cx="2059920" cy="379800"/>
                  <a:chOff x="6321960" y="4166280"/>
                  <a:chExt cx="2059920" cy="3798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321960" y="4229280"/>
                    <a:ext cx="753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600" spc="-1" strike="noStrike">
                        <a:solidFill>
                          <a:srgbClr val="000000"/>
                        </a:solidFill>
                        <a:latin typeface="Courier New"/>
                      </a:rPr>
                      <a:t>600000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7075080" y="4166280"/>
                    <a:ext cx="1306800" cy="379800"/>
                    <a:chOff x="7075080" y="4166280"/>
                    <a:chExt cx="1306800" cy="37980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7648200" y="4229280"/>
                      <a:ext cx="159120" cy="296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075080" y="4166280"/>
                      <a:ext cx="130680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00" h="20000">
                          <a:moveTo>
                            <a:pt x="19985" y="0"/>
                          </a:moveTo>
                          <a:lnTo>
                            <a:pt x="19985" y="19944"/>
                          </a:lnTo>
                          <a:lnTo>
                            <a:pt x="0" y="19944"/>
                          </a:lnTo>
                          <a:lnTo>
                            <a:pt x="0" y="0"/>
                          </a:lnTo>
                          <a:lnTo>
                            <a:pt x="19985" y="0"/>
                          </a:lnTo>
                          <a:close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"/>
            <p:cNvSpPr/>
            <p:nvPr/>
          </p:nvSpPr>
          <p:spPr>
            <a:xfrm>
              <a:off x="3429000" y="3556080"/>
              <a:ext cx="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10080" y="5079960"/>
              <a:ext cx="1676520" cy="1008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value of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p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400800" y="446976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5028840" y="4394160"/>
              <a:ext cx="60948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ointer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direction/dereferencing oper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synonym/alias of what its operand points 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beca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pt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used for assig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lias to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yptr = 7;  // changes y to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referenced pointer (operan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must be an lvalue (no consta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ver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cancel each other 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0" y="0"/>
            <a:ext cx="6780960" cy="5029200"/>
            <a:chOff x="0" y="0"/>
            <a:chExt cx="6780960" cy="5029200"/>
          </a:xfrm>
        </p:grpSpPr>
        <p:grpSp>
          <p:nvGrpSpPr>
            <p:cNvPr id="153" name=""/>
            <p:cNvGrpSpPr/>
            <p:nvPr/>
          </p:nvGrpSpPr>
          <p:grpSpPr>
            <a:xfrm>
              <a:off x="0" y="0"/>
              <a:ext cx="6780960" cy="225000"/>
              <a:chOff x="0" y="0"/>
              <a:chExt cx="6780960" cy="22500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0"/>
                <a:ext cx="6780960" cy="225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4: fig07_04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225000"/>
              <a:ext cx="6780960" cy="208800"/>
              <a:chOff x="0" y="225000"/>
              <a:chExt cx="6780960" cy="20880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250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the &amp; and * operators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433800"/>
              <a:ext cx="6780960" cy="208800"/>
              <a:chOff x="0" y="433800"/>
              <a:chExt cx="6780960" cy="2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338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642600"/>
              <a:ext cx="6780960" cy="208800"/>
              <a:chOff x="0" y="642600"/>
              <a:chExt cx="6780960" cy="20880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42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851400"/>
              <a:ext cx="6780960" cy="208800"/>
              <a:chOff x="0" y="851400"/>
              <a:chExt cx="6780960" cy="20880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851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1060560"/>
              <a:ext cx="6780960" cy="208800"/>
              <a:chOff x="0" y="1060560"/>
              <a:chExt cx="6780960" cy="2088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0605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1269360"/>
              <a:ext cx="6780960" cy="208800"/>
              <a:chOff x="0" y="1269360"/>
              <a:chExt cx="6780960" cy="20880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12693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 is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1478160"/>
              <a:ext cx="6780960" cy="208800"/>
              <a:chOff x="0" y="1478160"/>
              <a:chExt cx="6780960" cy="20880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14781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aPtr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is a pointer to an integ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1686960"/>
              <a:ext cx="6780960" cy="208800"/>
              <a:chOff x="0" y="1686960"/>
              <a:chExt cx="6780960" cy="20880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68696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1896120"/>
              <a:ext cx="6780960" cy="208800"/>
              <a:chOff x="0" y="1896120"/>
              <a:chExt cx="6780960" cy="20880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8961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 = 7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2104920"/>
              <a:ext cx="6780960" cy="208800"/>
              <a:chOff x="0" y="2104920"/>
              <a:chExt cx="6780960" cy="2088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1049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aPtr = &amp;a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aPtr set to address of a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2313720"/>
              <a:ext cx="6780960" cy="208800"/>
              <a:chOff x="0" y="2313720"/>
              <a:chExt cx="6780960" cy="20880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23137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2522520"/>
              <a:ext cx="6780960" cy="208800"/>
              <a:chOff x="0" y="2522520"/>
              <a:chExt cx="6780960" cy="20880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25225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address of a is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2731320"/>
              <a:ext cx="6780960" cy="208800"/>
              <a:chOff x="0" y="2731320"/>
              <a:chExt cx="6780960" cy="20880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273132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aPtr is %p", &amp;a, 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940480"/>
              <a:ext cx="6780960" cy="208800"/>
              <a:chOff x="0" y="2940480"/>
              <a:chExt cx="6780960" cy="20880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9404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3149280"/>
              <a:ext cx="6780960" cy="208800"/>
              <a:chOff x="0" y="3149280"/>
              <a:chExt cx="6780960" cy="20880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1492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The value of a is %d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3358080"/>
              <a:ext cx="6780960" cy="208800"/>
              <a:chOff x="0" y="3358080"/>
              <a:chExt cx="6780960" cy="20880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580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The value of *aPtr is %d", a, *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3566880"/>
              <a:ext cx="6780960" cy="208800"/>
              <a:chOff x="0" y="3566880"/>
              <a:chExt cx="6780960" cy="20880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56688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3776040"/>
              <a:ext cx="6780960" cy="208800"/>
              <a:chOff x="0" y="3776040"/>
              <a:chExt cx="6780960" cy="20880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7760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\nShowing that * and &amp; are inverses of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984840"/>
              <a:ext cx="6780960" cy="208800"/>
              <a:chOff x="0" y="3984840"/>
              <a:chExt cx="6780960" cy="20880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9848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each other.\n&amp;*aPtr = %p"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193640"/>
              <a:ext cx="6780960" cy="208800"/>
              <a:chOff x="0" y="4193640"/>
              <a:chExt cx="6780960" cy="20880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1936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\n*&amp;aPtr = %p\n", &amp;*aPtr, *&amp;a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4402440"/>
              <a:ext cx="6780960" cy="208800"/>
              <a:chOff x="0" y="4402440"/>
              <a:chExt cx="6780960" cy="20880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440244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4611600"/>
              <a:ext cx="6780960" cy="208800"/>
              <a:chOff x="0" y="4611600"/>
              <a:chExt cx="6780960" cy="20880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46116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4820400"/>
              <a:ext cx="6780960" cy="208800"/>
              <a:chOff x="0" y="4820400"/>
              <a:chExt cx="6780960" cy="20880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4820400"/>
                <a:ext cx="6780960" cy="2088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0" y="502920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address of a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Ptr is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a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*aPtr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ving that * and &amp; are complements of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*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&amp;aPtr = 0012FF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90560" y="990720"/>
            <a:ext cx="4572360" cy="1523880"/>
            <a:chOff x="2590560" y="990720"/>
            <a:chExt cx="4572360" cy="1523880"/>
          </a:xfrm>
        </p:grpSpPr>
        <p:sp>
          <p:nvSpPr>
            <p:cNvPr id="227" name=""/>
            <p:cNvSpPr/>
            <p:nvPr/>
          </p:nvSpPr>
          <p:spPr>
            <a:xfrm>
              <a:off x="4495680" y="9907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the valu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.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90560" y="1295280"/>
              <a:ext cx="1904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876560" y="1828800"/>
            <a:ext cx="3124440" cy="1476360"/>
            <a:chOff x="4876560" y="1828800"/>
            <a:chExt cx="3124440" cy="1476360"/>
          </a:xfrm>
        </p:grpSpPr>
        <p:sp>
          <p:nvSpPr>
            <p:cNvPr id="230" name=""/>
            <p:cNvSpPr/>
            <p:nvPr/>
          </p:nvSpPr>
          <p:spPr>
            <a:xfrm>
              <a:off x="5410080" y="1828800"/>
              <a:ext cx="25909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perator returns an alias to what its operand points to.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oints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s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a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76560" y="2467080"/>
              <a:ext cx="5331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800240" y="3753000"/>
            <a:ext cx="3657960" cy="580680"/>
            <a:chOff x="4800240" y="3753000"/>
            <a:chExt cx="3657960" cy="580680"/>
          </a:xfrm>
        </p:grpSpPr>
        <p:sp>
          <p:nvSpPr>
            <p:cNvPr id="233" name=""/>
            <p:cNvSpPr/>
            <p:nvPr/>
          </p:nvSpPr>
          <p:spPr>
            <a:xfrm>
              <a:off x="6781680" y="3753000"/>
              <a:ext cx="16765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vers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800240" y="3981600"/>
              <a:ext cx="1981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7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lling Functions by Referenc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with pointer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address of argument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s you to change actual location in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re not passe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cause the array name is already a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as alias/nickname for variable insid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uble( int *numbe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number = 2 * ( *numbe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numb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as nickname for the variable pas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Function prototyp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buClr>
                <a:srgbClr val="00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Call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Define fun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marL="30492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6780960" cy="5486400"/>
            <a:chOff x="0" y="0"/>
            <a:chExt cx="6780960" cy="5486400"/>
          </a:xfrm>
        </p:grpSpPr>
        <p:grpSp>
          <p:nvGrpSpPr>
            <p:cNvPr id="239" name=""/>
            <p:cNvGrpSpPr/>
            <p:nvPr/>
          </p:nvGrpSpPr>
          <p:grpSpPr>
            <a:xfrm>
              <a:off x="0" y="0"/>
              <a:ext cx="6780960" cy="238320"/>
              <a:chOff x="0" y="0"/>
              <a:chExt cx="6780960" cy="23832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7.7: fig07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38320"/>
              <a:ext cx="6780960" cy="238320"/>
              <a:chOff x="0" y="238320"/>
              <a:chExt cx="6780960" cy="23832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383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ube a variable using call-by-referenc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477000"/>
              <a:ext cx="6780960" cy="238320"/>
              <a:chOff x="0" y="477000"/>
              <a:chExt cx="6780960" cy="23832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477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with a pointer argumen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715680"/>
              <a:ext cx="6780960" cy="238320"/>
              <a:chOff x="0" y="715680"/>
              <a:chExt cx="6780960" cy="23832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15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954000"/>
              <a:ext cx="6780960" cy="238320"/>
              <a:chOff x="0" y="954000"/>
              <a:chExt cx="6780960" cy="23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954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1192680"/>
              <a:ext cx="6780960" cy="238320"/>
              <a:chOff x="0" y="1192680"/>
              <a:chExt cx="6780960" cy="23832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1192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1431000"/>
              <a:ext cx="6780960" cy="238320"/>
              <a:chOff x="0" y="1431000"/>
              <a:chExt cx="6780960" cy="23832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4310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prototyp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1669680"/>
              <a:ext cx="6780960" cy="238320"/>
              <a:chOff x="0" y="1669680"/>
              <a:chExt cx="6780960" cy="23832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69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1908360"/>
              <a:ext cx="6780960" cy="238320"/>
              <a:chOff x="0" y="1908360"/>
              <a:chExt cx="6780960" cy="23832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908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2146680"/>
              <a:ext cx="6780960" cy="238320"/>
              <a:chOff x="0" y="2146680"/>
              <a:chExt cx="6780960" cy="23832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21466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2385360"/>
              <a:ext cx="6780960" cy="238320"/>
              <a:chOff x="0" y="2385360"/>
              <a:chExt cx="6780960" cy="23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2385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umber = 5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2624040"/>
              <a:ext cx="6780960" cy="238320"/>
              <a:chOff x="0" y="2624040"/>
              <a:chExt cx="6780960" cy="23832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2624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2862360"/>
              <a:ext cx="6780960" cy="238320"/>
              <a:chOff x="0" y="2862360"/>
              <a:chExt cx="6780960" cy="23832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2862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The original value of number is %d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3101040"/>
              <a:ext cx="6780960" cy="238320"/>
              <a:chOff x="0" y="3101040"/>
              <a:chExt cx="6780960" cy="23832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3101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ubeByReference( &amp;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3339360"/>
              <a:ext cx="6780960" cy="238320"/>
              <a:chOff x="0" y="3339360"/>
              <a:chExt cx="6780960" cy="23832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333936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new value of number is %d\n", numbe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3578040"/>
              <a:ext cx="6780960" cy="238320"/>
              <a:chOff x="0" y="3578040"/>
              <a:chExt cx="6780960" cy="23832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578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3816720"/>
              <a:ext cx="6780960" cy="238320"/>
              <a:chOff x="0" y="3816720"/>
              <a:chExt cx="6780960" cy="2383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816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4055040"/>
              <a:ext cx="6780960" cy="238320"/>
              <a:chOff x="0" y="4055040"/>
              <a:chExt cx="6780960" cy="23832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405504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4293720"/>
              <a:ext cx="6780960" cy="238320"/>
              <a:chOff x="0" y="4293720"/>
              <a:chExt cx="6780960" cy="23832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4293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4532400"/>
              <a:ext cx="6780960" cy="238320"/>
              <a:chOff x="0" y="4532400"/>
              <a:chExt cx="6780960" cy="23832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532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ub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n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770720"/>
              <a:ext cx="6780960" cy="238320"/>
              <a:chOff x="0" y="4770720"/>
              <a:chExt cx="6780960" cy="2383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77072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5009400"/>
              <a:ext cx="6780960" cy="238320"/>
              <a:chOff x="0" y="5009400"/>
              <a:chExt cx="6780960" cy="23832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00940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*nPtr = *nPtr * *nPtr * *nPtr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ube number in mai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5248080"/>
              <a:ext cx="6780960" cy="238320"/>
              <a:chOff x="0" y="5248080"/>
              <a:chExt cx="6780960" cy="23832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248080"/>
                <a:ext cx="6780960" cy="238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0" y="563868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original value of number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new value of number is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66520" y="1143000"/>
            <a:ext cx="4038840" cy="1981080"/>
            <a:chOff x="2666520" y="1143000"/>
            <a:chExt cx="4038840" cy="1981080"/>
          </a:xfrm>
        </p:grpSpPr>
        <p:sp>
          <p:nvSpPr>
            <p:cNvPr id="310" name=""/>
            <p:cNvSpPr/>
            <p:nvPr/>
          </p:nvSpPr>
          <p:spPr>
            <a:xfrm flipH="1">
              <a:off x="2666520" y="2209680"/>
              <a:ext cx="1676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33560" y="1143000"/>
              <a:ext cx="29718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tice how the addres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given -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xpects a pointer (an address of a variable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048120" y="3505320"/>
            <a:ext cx="4647600" cy="990000"/>
            <a:chOff x="3048120" y="3505320"/>
            <a:chExt cx="4647600" cy="990000"/>
          </a:xfrm>
        </p:grpSpPr>
        <p:sp>
          <p:nvSpPr>
            <p:cNvPr id="313" name=""/>
            <p:cNvSpPr/>
            <p:nvPr/>
          </p:nvSpPr>
          <p:spPr>
            <a:xfrm>
              <a:off x="4410360" y="3505320"/>
              <a:ext cx="32853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id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ubeByRefer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use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nPt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048120" y="3809880"/>
              <a:ext cx="13622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048120" y="152280"/>
            <a:ext cx="33526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function prototype takes a pointer to an integer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819160" y="7621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6:08:17Z</dcterms:created>
  <dc:creator>kalid</dc:creator>
  <dc:description/>
  <dc:language>en-US</dc:language>
  <cp:lastModifiedBy>Matty</cp:lastModifiedBy>
  <dcterms:modified xsi:type="dcterms:W3CDTF">2000-12-22T19:16:24Z</dcterms:modified>
  <cp:revision>429</cp:revision>
  <dc:subject/>
  <dc:title>PowerPoint Presentation</dc:title>
</cp:coreProperties>
</file>