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B415-D1E5-46D2-8655-986631FA5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2A34-D073-4FCF-97CC-9400424BC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713C-413D-48A5-BBC3-68ABEAC66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4647-1A23-4DA5-B185-FD7D6E0BF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A495-37CB-482B-809A-27A8F9AB7D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DEF1-64FC-40BB-9071-F2DDB73A94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F004-B8C8-4171-86DD-9FC054B46D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D43D-6309-4045-9D35-BBADD2E4ED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C7B8-5C14-4E48-AED5-12818B33C6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3B371-8BB0-4DC3-966E-35E55C1EFD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A8670-D5C9-4E15-BAF5-7F35BF6615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244D-ABBC-4688-AD37-2EB7AC375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99F7-6F68-4708-96B6-673BBDEB6D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2802-9F29-4A71-BF29-E717EF08DB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4196-E16D-4B65-804D-C17E4B0973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B199-4615-42B8-A0B4-5C37B0C97D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97B9-E35A-4606-8CD6-98C436D730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A805-20ED-4026-A3BD-1EA0D9AAB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A5F2-ED69-4513-BC8D-3D8881D7C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0BBE-B4C7-4999-BF64-5CCC12EDF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F201-17D1-401A-BC10-AB78186CE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A473-89FF-48E5-88DD-4DEBA066B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71D5-BD3D-4686-A25D-7CA7612A2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8C19-BA3C-4380-8555-DB6AAA2E7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C9E8-E2F5-4987-B709-5D122E983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1520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6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1DE9-3729-4CE6-A2ED-6A472D71B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2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8 - Characters and String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336680"/>
            <a:ext cx="8229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damentals of Strings and Charac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haracter Handling Librar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 Conversion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Input/Output Library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 Manipulation Functions of the String 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arison Functions of the String 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arch Functions of the String Handling Librar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emory Functions of the String Handling Librar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ther Functions of the String 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6DD3-6475-43E7-ABEF-993F800C25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onvert 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ssign to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0"/>
            <a:ext cx="6780960" cy="4038480"/>
            <a:chOff x="0" y="0"/>
            <a:chExt cx="6780960" cy="4038480"/>
          </a:xfrm>
        </p:grpSpPr>
        <p:grpSp>
          <p:nvGrpSpPr>
            <p:cNvPr id="238" name=""/>
            <p:cNvGrpSpPr/>
            <p:nvPr/>
          </p:nvGrpSpPr>
          <p:grpSpPr>
            <a:xfrm>
              <a:off x="0" y="0"/>
              <a:ext cx="6780960" cy="252360"/>
              <a:chOff x="0" y="0"/>
              <a:chExt cx="6780960" cy="252360"/>
            </a:xfrm>
          </p:grpSpPr>
          <p:sp>
            <p:nvSpPr>
              <p:cNvPr id="239" name=""/>
              <p:cNvSpPr/>
              <p:nvPr/>
            </p:nvSpPr>
            <p:spPr>
              <a:xfrm>
                <a:off x="0" y="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8.6: fig08_06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0" y="252360"/>
              <a:ext cx="6780960" cy="252360"/>
              <a:chOff x="0" y="252360"/>
              <a:chExt cx="6780960" cy="25236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25236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5236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Using atof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504720"/>
              <a:ext cx="6780960" cy="252360"/>
              <a:chOff x="0" y="504720"/>
              <a:chExt cx="6780960" cy="25236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50472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50472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757080"/>
              <a:ext cx="6780960" cy="252360"/>
              <a:chOff x="0" y="757080"/>
              <a:chExt cx="6780960" cy="25236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75708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75708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lib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1009440"/>
              <a:ext cx="6780960" cy="252360"/>
              <a:chOff x="0" y="1009440"/>
              <a:chExt cx="6780960" cy="25236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100944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100944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1261800"/>
              <a:ext cx="6780960" cy="252360"/>
              <a:chOff x="0" y="1261800"/>
              <a:chExt cx="6780960" cy="25236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126180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26180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1514160"/>
              <a:ext cx="6780960" cy="252360"/>
              <a:chOff x="0" y="1514160"/>
              <a:chExt cx="6780960" cy="25236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151416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151416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766880"/>
              <a:ext cx="6780960" cy="252360"/>
              <a:chOff x="0" y="1766880"/>
              <a:chExt cx="6780960" cy="25236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76688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176688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2019240"/>
              <a:ext cx="6780960" cy="252360"/>
              <a:chOff x="0" y="2019240"/>
              <a:chExt cx="6780960" cy="25236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201924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201924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2271600"/>
              <a:ext cx="6780960" cy="252360"/>
              <a:chOff x="0" y="2271600"/>
              <a:chExt cx="6780960" cy="25236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227160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227160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 = atof( "99.0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2523960"/>
              <a:ext cx="6780960" cy="252360"/>
              <a:chOff x="0" y="2523960"/>
              <a:chExt cx="6780960" cy="25236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252396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252396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.3f\n%s%.3f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776320"/>
              <a:ext cx="6780960" cy="252360"/>
              <a:chOff x="0" y="2776320"/>
              <a:chExt cx="6780960" cy="25236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77632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277632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string \"99.0\" converted to double is ", d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3028680"/>
              <a:ext cx="6780960" cy="252360"/>
              <a:chOff x="0" y="3028680"/>
              <a:chExt cx="6780960" cy="25236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302868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302868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converted value divided by 2 is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3281040"/>
              <a:ext cx="6780960" cy="252360"/>
              <a:chOff x="0" y="3281040"/>
              <a:chExt cx="6780960" cy="25236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328104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328104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d / 2.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3533760"/>
              <a:ext cx="6780960" cy="252360"/>
              <a:chOff x="0" y="3533760"/>
              <a:chExt cx="6780960" cy="25236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353376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353376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3786120"/>
              <a:ext cx="6780960" cy="252360"/>
              <a:chOff x="0" y="3786120"/>
              <a:chExt cx="6780960" cy="25236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378612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378612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0" y="42670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tring "99.0" converted to double is 99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converted value divided by 2 is 49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3D28F-3E9D-4BE0-A216-17147C82C0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andard Input/Output Library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stdio.h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manipulate character and string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-519120" y="2209680"/>
          <a:ext cx="10196640" cy="38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19120" y="2209680"/>
                    <a:ext cx="1019664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9226-CF7B-489C-A906-88A9B92C19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 (note recursion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0" y="0"/>
            <a:ext cx="6780960" cy="5562720"/>
            <a:chOff x="0" y="0"/>
            <a:chExt cx="6780960" cy="5562720"/>
          </a:xfrm>
        </p:grpSpPr>
        <p:grpSp>
          <p:nvGrpSpPr>
            <p:cNvPr id="293" name=""/>
            <p:cNvGrpSpPr/>
            <p:nvPr/>
          </p:nvGrpSpPr>
          <p:grpSpPr>
            <a:xfrm>
              <a:off x="0" y="0"/>
              <a:ext cx="6780960" cy="205920"/>
              <a:chOff x="0" y="0"/>
              <a:chExt cx="6780960" cy="20592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8.13: fig08_13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205920"/>
              <a:ext cx="6780960" cy="205920"/>
              <a:chOff x="0" y="205920"/>
              <a:chExt cx="6780960" cy="20592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2059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2059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Using gets and putcha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411840"/>
              <a:ext cx="6780960" cy="205920"/>
              <a:chOff x="0" y="411840"/>
              <a:chExt cx="6780960" cy="20592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4118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4118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0" y="618120"/>
              <a:ext cx="6780960" cy="205920"/>
              <a:chOff x="0" y="618120"/>
              <a:chExt cx="6780960" cy="20592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6181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6181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0" y="824040"/>
              <a:ext cx="6780960" cy="205920"/>
              <a:chOff x="0" y="824040"/>
              <a:chExt cx="6780960" cy="205920"/>
            </a:xfrm>
          </p:grpSpPr>
          <p:sp>
            <p:nvSpPr>
              <p:cNvPr id="306" name=""/>
              <p:cNvSpPr/>
              <p:nvPr/>
            </p:nvSpPr>
            <p:spPr>
              <a:xfrm>
                <a:off x="0" y="8240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8240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0" y="1029960"/>
              <a:ext cx="6780960" cy="205920"/>
              <a:chOff x="0" y="1029960"/>
              <a:chExt cx="6780960" cy="20592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1029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1029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0" y="1235880"/>
              <a:ext cx="6780960" cy="205920"/>
              <a:chOff x="0" y="1235880"/>
              <a:chExt cx="6780960" cy="20592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1235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1235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ntence[ 8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0" y="1442160"/>
              <a:ext cx="6780960" cy="205920"/>
              <a:chOff x="0" y="1442160"/>
              <a:chExt cx="6780960" cy="205920"/>
            </a:xfrm>
          </p:grpSpPr>
          <p:sp>
            <p:nvSpPr>
              <p:cNvPr id="315" name=""/>
              <p:cNvSpPr/>
              <p:nvPr/>
            </p:nvSpPr>
            <p:spPr>
              <a:xfrm>
                <a:off x="0" y="14421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14421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vers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0" y="1648080"/>
              <a:ext cx="6780960" cy="205920"/>
              <a:chOff x="0" y="1648080"/>
              <a:chExt cx="6780960" cy="20592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1648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1648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0" y="1854000"/>
              <a:ext cx="6780960" cy="205920"/>
              <a:chOff x="0" y="1854000"/>
              <a:chExt cx="6780960" cy="20592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18540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18540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a line of text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2060280"/>
              <a:ext cx="6780960" cy="205920"/>
              <a:chOff x="0" y="2060280"/>
              <a:chExt cx="6780960" cy="20592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2060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2060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gets( sente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2266200"/>
              <a:ext cx="6780960" cy="205920"/>
              <a:chOff x="0" y="2266200"/>
              <a:chExt cx="6780960" cy="20592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22662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22662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2472120"/>
              <a:ext cx="6780960" cy="205920"/>
              <a:chOff x="0" y="2472120"/>
              <a:chExt cx="6780960" cy="20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24721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4721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he line printed backwards is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2678400"/>
              <a:ext cx="6780960" cy="205920"/>
              <a:chOff x="0" y="2678400"/>
              <a:chExt cx="6780960" cy="20592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26784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26784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reverse( sente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2884320"/>
              <a:ext cx="6780960" cy="205920"/>
              <a:chOff x="0" y="2884320"/>
              <a:chExt cx="6780960" cy="20592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28843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28843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3090600"/>
              <a:ext cx="6780960" cy="205920"/>
              <a:chOff x="0" y="3090600"/>
              <a:chExt cx="6780960" cy="20592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30906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30906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3296520"/>
              <a:ext cx="6780960" cy="205920"/>
              <a:chOff x="0" y="3296520"/>
              <a:chExt cx="6780960" cy="20592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32965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32965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3502440"/>
              <a:ext cx="6780960" cy="205920"/>
              <a:chOff x="0" y="3502440"/>
              <a:chExt cx="6780960" cy="20592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35024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5024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3708360"/>
              <a:ext cx="6780960" cy="205920"/>
              <a:chOff x="0" y="3708360"/>
              <a:chExt cx="6780960" cy="20592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37083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37083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vers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3914640"/>
              <a:ext cx="6780960" cy="205920"/>
              <a:chOff x="0" y="3914640"/>
              <a:chExt cx="6780960" cy="2059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39146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39146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4120560"/>
              <a:ext cx="6780960" cy="205920"/>
              <a:chOff x="0" y="4120560"/>
              <a:chExt cx="6780960" cy="20592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41205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41205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Ptr[ 0 ] == '\0'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4326480"/>
              <a:ext cx="6780960" cy="205920"/>
              <a:chOff x="0" y="4326480"/>
              <a:chExt cx="6780960" cy="2059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4326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4326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4532760"/>
              <a:ext cx="6780960" cy="205920"/>
              <a:chOff x="0" y="4532760"/>
              <a:chExt cx="6780960" cy="20592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4532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2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4738680"/>
              <a:ext cx="6780960" cy="205920"/>
              <a:chOff x="0" y="4738680"/>
              <a:chExt cx="6780960" cy="20592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47386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47386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reverse( &amp;sPtr[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4944600"/>
              <a:ext cx="6780960" cy="205920"/>
              <a:chOff x="0" y="4944600"/>
              <a:chExt cx="6780960" cy="20592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49446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9446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utchar( sPtr[ 0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5150880"/>
              <a:ext cx="6780960" cy="205920"/>
              <a:chOff x="0" y="5150880"/>
              <a:chExt cx="6780960" cy="20592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5150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5150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5356800"/>
              <a:ext cx="6780960" cy="205920"/>
              <a:chOff x="0" y="5356800"/>
              <a:chExt cx="6780960" cy="20592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53568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53568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4" name=""/>
          <p:cNvSpPr/>
          <p:nvPr/>
        </p:nvSpPr>
        <p:spPr>
          <a:xfrm>
            <a:off x="0" y="556272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line of tex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acters and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line printed backwards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gnirtS dna sretcarah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048120" y="4191120"/>
            <a:ext cx="4572000" cy="824040"/>
            <a:chOff x="3048120" y="4191120"/>
            <a:chExt cx="4572000" cy="824040"/>
          </a:xfrm>
        </p:grpSpPr>
        <p:sp>
          <p:nvSpPr>
            <p:cNvPr id="376" name=""/>
            <p:cNvSpPr/>
            <p:nvPr/>
          </p:nvSpPr>
          <p:spPr>
            <a:xfrm flipH="1">
              <a:off x="3048120" y="4495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09880" y="4191120"/>
              <a:ext cx="3810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ver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itself using substrings of the original string.  When it reach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'\0'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haracter it print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tch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D0FF-FA26-4597-9154-085800C618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ing Manipulation Functions of the String 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handling library has function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 string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kenize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 string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73080" y="3198960"/>
          <a:ext cx="8866080" cy="371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3198960"/>
                    <a:ext cx="886608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58C6-0297-487C-9D39-582EB3EB1B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0" y="0"/>
            <a:ext cx="6780960" cy="4419720"/>
            <a:chOff x="0" y="0"/>
            <a:chExt cx="6780960" cy="4419720"/>
          </a:xfrm>
        </p:grpSpPr>
        <p:grpSp>
          <p:nvGrpSpPr>
            <p:cNvPr id="384" name=""/>
            <p:cNvGrpSpPr/>
            <p:nvPr/>
          </p:nvGrpSpPr>
          <p:grpSpPr>
            <a:xfrm>
              <a:off x="0" y="0"/>
              <a:ext cx="6780960" cy="256320"/>
              <a:chOff x="0" y="0"/>
              <a:chExt cx="6780960" cy="25632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8.19: fig08_19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256320"/>
              <a:ext cx="6780960" cy="256320"/>
              <a:chOff x="0" y="256320"/>
              <a:chExt cx="6780960" cy="25632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25632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25632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strcat and strncat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512640"/>
              <a:ext cx="6780960" cy="256320"/>
              <a:chOff x="0" y="512640"/>
              <a:chExt cx="6780960" cy="25632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51264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51264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769320"/>
              <a:ext cx="6780960" cy="256320"/>
              <a:chOff x="0" y="769320"/>
              <a:chExt cx="6780960" cy="25632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76932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76932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ring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1026000"/>
              <a:ext cx="6780960" cy="256320"/>
              <a:chOff x="0" y="1026000"/>
              <a:chExt cx="6780960" cy="25632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10260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10260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1282320"/>
              <a:ext cx="6780960" cy="256320"/>
              <a:chOff x="0" y="1282320"/>
              <a:chExt cx="6780960" cy="25632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128232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128232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1539000"/>
              <a:ext cx="6780960" cy="256320"/>
              <a:chOff x="0" y="1539000"/>
              <a:chExt cx="6780960" cy="25632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15390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15390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1795680"/>
              <a:ext cx="6780960" cy="256320"/>
              <a:chOff x="0" y="1795680"/>
              <a:chExt cx="6780960" cy="25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179568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179568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1[ 20 ] = "Happy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2052000"/>
              <a:ext cx="6780960" cy="256320"/>
              <a:chOff x="0" y="2052000"/>
              <a:chExt cx="6780960" cy="25632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20520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20520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2[] = "New Year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2308680"/>
              <a:ext cx="6780960" cy="256320"/>
              <a:chOff x="0" y="2308680"/>
              <a:chExt cx="6780960" cy="25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230868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230868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3[ 40 ] = "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2565000"/>
              <a:ext cx="6780960" cy="256320"/>
              <a:chOff x="0" y="2565000"/>
              <a:chExt cx="6780960" cy="25632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25650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25650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2821680"/>
              <a:ext cx="6780960" cy="256320"/>
              <a:chOff x="0" y="2821680"/>
              <a:chExt cx="6780960" cy="25632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282168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282168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s1 = %s\ns2 = %s\n", s1, s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3078360"/>
              <a:ext cx="6780960" cy="256320"/>
              <a:chOff x="0" y="3078360"/>
              <a:chExt cx="6780960" cy="25632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307836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307836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strcat( s1, s2 ) = %s\n", strcat( s1, s2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3334680"/>
              <a:ext cx="6780960" cy="315360"/>
              <a:chOff x="0" y="3334680"/>
              <a:chExt cx="6780960" cy="31536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3334680"/>
                <a:ext cx="6780960" cy="31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3334680"/>
                <a:ext cx="6780960" cy="31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strncat( s3, s1, 6 ) = %s\n", strncat( s3, s1, 6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3650400"/>
              <a:ext cx="6780960" cy="256320"/>
              <a:chOff x="0" y="3650400"/>
              <a:chExt cx="6780960" cy="25632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36504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36504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strcat( s3, s1 ) = %s\n", strcat( s3, s1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3906720"/>
              <a:ext cx="6780960" cy="256320"/>
              <a:chOff x="0" y="3906720"/>
              <a:chExt cx="6780960" cy="25632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390672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390672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4163400"/>
              <a:ext cx="6780960" cy="256320"/>
              <a:chOff x="0" y="4163400"/>
              <a:chExt cx="6780960" cy="25632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41634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41634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>
            <a:off x="0" y="457200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 = Happ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2 = New Y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cat( s1, s2 )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ncat( s3, s1, 6 ) = Hap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cat( s3, s1 ) = Happy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0E39-1EBA-48E2-AECD-3A98D08138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arison Functions of the String 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r compares numeric ASCII codes of characters in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endix D has a list of character c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strcmp( const char *s1, const char *s2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s str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negative number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 &lt; s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zero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 == s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a positive number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 &gt; s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strncmp( const char *s1, const char *s2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_t n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s up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racters of str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values as ab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0A98-6AB8-47E0-A5FD-B111B6A565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 Functions of the String 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-519120" y="1442880"/>
          <a:ext cx="9956880" cy="785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19120" y="1442880"/>
                    <a:ext cx="9956880" cy="785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7493-EA3A-4F31-AEDE-BBF4980E24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0" y="0"/>
            <a:ext cx="6780960" cy="4419720"/>
            <a:chOff x="0" y="0"/>
            <a:chExt cx="6780960" cy="4419720"/>
          </a:xfrm>
        </p:grpSpPr>
        <p:grpSp>
          <p:nvGrpSpPr>
            <p:cNvPr id="444" name=""/>
            <p:cNvGrpSpPr/>
            <p:nvPr/>
          </p:nvGrpSpPr>
          <p:grpSpPr>
            <a:xfrm>
              <a:off x="0" y="0"/>
              <a:ext cx="6780960" cy="259920"/>
              <a:chOff x="0" y="0"/>
              <a:chExt cx="6780960" cy="25992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8.27: fig08_27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259920"/>
              <a:ext cx="6780960" cy="259920"/>
              <a:chOff x="0" y="259920"/>
              <a:chExt cx="6780960" cy="25992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25992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5992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strsp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519840"/>
              <a:ext cx="6780960" cy="259920"/>
              <a:chOff x="0" y="519840"/>
              <a:chExt cx="6780960" cy="25992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51984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51984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779760"/>
              <a:ext cx="6780960" cy="259920"/>
              <a:chOff x="0" y="779760"/>
              <a:chExt cx="6780960" cy="25992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77976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77976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ring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1039680"/>
              <a:ext cx="6780960" cy="259920"/>
              <a:chOff x="0" y="1039680"/>
              <a:chExt cx="6780960" cy="25992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103968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103968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1299600"/>
              <a:ext cx="6780960" cy="259920"/>
              <a:chOff x="0" y="1299600"/>
              <a:chExt cx="6780960" cy="25992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129960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129960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0" y="1559880"/>
              <a:ext cx="6780960" cy="259920"/>
              <a:chOff x="0" y="1559880"/>
              <a:chExt cx="6780960" cy="25992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155988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155988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0" y="1819800"/>
              <a:ext cx="6780960" cy="259920"/>
              <a:chOff x="0" y="1819800"/>
              <a:chExt cx="6780960" cy="259920"/>
            </a:xfrm>
          </p:grpSpPr>
          <p:sp>
            <p:nvSpPr>
              <p:cNvPr id="466" name=""/>
              <p:cNvSpPr/>
              <p:nvPr/>
            </p:nvSpPr>
            <p:spPr>
              <a:xfrm>
                <a:off x="0" y="181980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181980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tring1 = "The value is 3.14159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0" y="2079720"/>
              <a:ext cx="6780960" cy="259920"/>
              <a:chOff x="0" y="2079720"/>
              <a:chExt cx="6780960" cy="259920"/>
            </a:xfrm>
          </p:grpSpPr>
          <p:sp>
            <p:nvSpPr>
              <p:cNvPr id="469" name=""/>
              <p:cNvSpPr/>
              <p:nvPr/>
            </p:nvSpPr>
            <p:spPr>
              <a:xfrm>
                <a:off x="0" y="207972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207972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tring2 = "aehi lsTuv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0" y="2339640"/>
              <a:ext cx="6780960" cy="259920"/>
              <a:chOff x="0" y="2339640"/>
              <a:chExt cx="6780960" cy="259920"/>
            </a:xfrm>
          </p:grpSpPr>
          <p:sp>
            <p:nvSpPr>
              <p:cNvPr id="472" name=""/>
              <p:cNvSpPr/>
              <p:nvPr/>
            </p:nvSpPr>
            <p:spPr>
              <a:xfrm>
                <a:off x="0" y="233964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33964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2599560"/>
              <a:ext cx="6780960" cy="259920"/>
              <a:chOff x="0" y="2599560"/>
              <a:chExt cx="6780960" cy="259920"/>
            </a:xfrm>
          </p:grpSpPr>
          <p:sp>
            <p:nvSpPr>
              <p:cNvPr id="475" name=""/>
              <p:cNvSpPr/>
              <p:nvPr/>
            </p:nvSpPr>
            <p:spPr>
              <a:xfrm>
                <a:off x="0" y="259956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59956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s\n%s%s\n\n%s\n%s%u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0" y="2859840"/>
              <a:ext cx="6780960" cy="259920"/>
              <a:chOff x="0" y="2859840"/>
              <a:chExt cx="6780960" cy="25992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285984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285984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string1 = ", string1, "string2 = ", string2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0" y="3119760"/>
              <a:ext cx="6780960" cy="259920"/>
              <a:chOff x="0" y="3119760"/>
              <a:chExt cx="6780960" cy="25992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311976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311976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length of the initial segment of string1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3379680"/>
              <a:ext cx="6780960" cy="259920"/>
              <a:chOff x="0" y="3379680"/>
              <a:chExt cx="6780960" cy="25992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337968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337968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containing only characters from string2 = 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3639600"/>
              <a:ext cx="6780960" cy="259920"/>
              <a:chOff x="0" y="3639600"/>
              <a:chExt cx="6780960" cy="25992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363960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363960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strspn( string1, string2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3899880"/>
              <a:ext cx="6780960" cy="259920"/>
              <a:chOff x="0" y="3899880"/>
              <a:chExt cx="6780960" cy="259920"/>
            </a:xfrm>
          </p:grpSpPr>
          <p:sp>
            <p:nvSpPr>
              <p:cNvPr id="490" name=""/>
              <p:cNvSpPr/>
              <p:nvPr/>
            </p:nvSpPr>
            <p:spPr>
              <a:xfrm>
                <a:off x="0" y="389988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389988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0" y="4159800"/>
              <a:ext cx="6780960" cy="259920"/>
              <a:chOff x="0" y="4159800"/>
              <a:chExt cx="6780960" cy="259920"/>
            </a:xfrm>
          </p:grpSpPr>
          <p:sp>
            <p:nvSpPr>
              <p:cNvPr id="493" name=""/>
              <p:cNvSpPr/>
              <p:nvPr/>
            </p:nvSpPr>
            <p:spPr>
              <a:xfrm>
                <a:off x="0" y="415980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415980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5" name=""/>
          <p:cNvSpPr/>
          <p:nvPr/>
        </p:nvSpPr>
        <p:spPr>
          <a:xfrm>
            <a:off x="0" y="457200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= The value is 3.141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2 = aehi lsT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length of the initial segment of string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taining only characters from string2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6363-7BF6-4160-98CA-657981F89B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0" y="0"/>
            <a:ext cx="6780960" cy="4572000"/>
            <a:chOff x="0" y="0"/>
            <a:chExt cx="6780960" cy="4572000"/>
          </a:xfrm>
        </p:grpSpPr>
        <p:grpSp>
          <p:nvGrpSpPr>
            <p:cNvPr id="498" name=""/>
            <p:cNvGrpSpPr/>
            <p:nvPr/>
          </p:nvGrpSpPr>
          <p:grpSpPr>
            <a:xfrm>
              <a:off x="0" y="0"/>
              <a:ext cx="6780960" cy="198720"/>
              <a:chOff x="0" y="0"/>
              <a:chExt cx="6780960" cy="198720"/>
            </a:xfrm>
          </p:grpSpPr>
          <p:sp>
            <p:nvSpPr>
              <p:cNvPr id="499" name=""/>
              <p:cNvSpPr/>
              <p:nvPr/>
            </p:nvSpPr>
            <p:spPr>
              <a:xfrm>
                <a:off x="0" y="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8.29: fig08_29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0" y="198720"/>
              <a:ext cx="6780960" cy="198720"/>
              <a:chOff x="0" y="198720"/>
              <a:chExt cx="6780960" cy="198720"/>
            </a:xfrm>
          </p:grpSpPr>
          <p:sp>
            <p:nvSpPr>
              <p:cNvPr id="502" name=""/>
              <p:cNvSpPr/>
              <p:nvPr/>
            </p:nvSpPr>
            <p:spPr>
              <a:xfrm>
                <a:off x="0" y="1987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1987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strtok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0" y="397440"/>
              <a:ext cx="6780960" cy="198720"/>
              <a:chOff x="0" y="397440"/>
              <a:chExt cx="6780960" cy="198720"/>
            </a:xfrm>
          </p:grpSpPr>
          <p:sp>
            <p:nvSpPr>
              <p:cNvPr id="505" name=""/>
              <p:cNvSpPr/>
              <p:nvPr/>
            </p:nvSpPr>
            <p:spPr>
              <a:xfrm>
                <a:off x="0" y="3974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3974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0" y="596160"/>
              <a:ext cx="6780960" cy="198720"/>
              <a:chOff x="0" y="596160"/>
              <a:chExt cx="6780960" cy="198720"/>
            </a:xfrm>
          </p:grpSpPr>
          <p:sp>
            <p:nvSpPr>
              <p:cNvPr id="508" name=""/>
              <p:cNvSpPr/>
              <p:nvPr/>
            </p:nvSpPr>
            <p:spPr>
              <a:xfrm>
                <a:off x="0" y="5961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5961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ring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0" y="794880"/>
              <a:ext cx="6780960" cy="198720"/>
              <a:chOff x="0" y="794880"/>
              <a:chExt cx="6780960" cy="19872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794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794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0" y="993600"/>
              <a:ext cx="6780960" cy="198720"/>
              <a:chOff x="0" y="993600"/>
              <a:chExt cx="6780960" cy="198720"/>
            </a:xfrm>
          </p:grpSpPr>
          <p:sp>
            <p:nvSpPr>
              <p:cNvPr id="514" name=""/>
              <p:cNvSpPr/>
              <p:nvPr/>
            </p:nvSpPr>
            <p:spPr>
              <a:xfrm>
                <a:off x="0" y="993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993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0" y="1192680"/>
              <a:ext cx="6780960" cy="198720"/>
              <a:chOff x="0" y="1192680"/>
              <a:chExt cx="6780960" cy="19872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11926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1926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0" y="1391400"/>
              <a:ext cx="6780960" cy="198720"/>
              <a:chOff x="0" y="1391400"/>
              <a:chExt cx="6780960" cy="19872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13914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13914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ring[] = "This is a sentence with 7 tokens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1590120"/>
              <a:ext cx="6780960" cy="198720"/>
              <a:chOff x="0" y="1590120"/>
              <a:chExt cx="6780960" cy="19872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15901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15901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oken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1788840"/>
              <a:ext cx="6780960" cy="198720"/>
              <a:chOff x="0" y="1788840"/>
              <a:chExt cx="6780960" cy="198720"/>
            </a:xfrm>
          </p:grpSpPr>
          <p:sp>
            <p:nvSpPr>
              <p:cNvPr id="526" name=""/>
              <p:cNvSpPr/>
              <p:nvPr/>
            </p:nvSpPr>
            <p:spPr>
              <a:xfrm>
                <a:off x="0" y="1788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1788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0" y="1987560"/>
              <a:ext cx="6780960" cy="198720"/>
              <a:chOff x="0" y="1987560"/>
              <a:chExt cx="6780960" cy="19872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1987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1987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\n\n%s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0" y="2186640"/>
              <a:ext cx="6780960" cy="198720"/>
              <a:chOff x="0" y="2186640"/>
              <a:chExt cx="6780960" cy="19872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21866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21866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string to be tokenized is:", string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2385360"/>
              <a:ext cx="6780960" cy="198720"/>
              <a:chOff x="0" y="2385360"/>
              <a:chExt cx="6780960" cy="19872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23853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23853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tokens are: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2584080"/>
              <a:ext cx="6780960" cy="198720"/>
              <a:chOff x="0" y="2584080"/>
              <a:chExt cx="6780960" cy="19872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25840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25840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2782800"/>
              <a:ext cx="6780960" cy="198720"/>
              <a:chOff x="0" y="2782800"/>
              <a:chExt cx="6780960" cy="19872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27828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27828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okenPtr = strtok( string, "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2981880"/>
              <a:ext cx="6780960" cy="198720"/>
              <a:chOff x="0" y="2981880"/>
              <a:chExt cx="6780960" cy="19872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2981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2981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3180600"/>
              <a:ext cx="6780960" cy="198720"/>
              <a:chOff x="0" y="3180600"/>
              <a:chExt cx="6780960" cy="19872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3180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3180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tokenPtr != NULL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3379320"/>
              <a:ext cx="6780960" cy="198720"/>
              <a:chOff x="0" y="3379320"/>
              <a:chExt cx="6780960" cy="19872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33793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33793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s\n", token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3578040"/>
              <a:ext cx="6780960" cy="198720"/>
              <a:chOff x="0" y="3578040"/>
              <a:chExt cx="6780960" cy="198720"/>
            </a:xfrm>
          </p:grpSpPr>
          <p:sp>
            <p:nvSpPr>
              <p:cNvPr id="553" name=""/>
              <p:cNvSpPr/>
              <p:nvPr/>
            </p:nvSpPr>
            <p:spPr>
              <a:xfrm>
                <a:off x="0" y="35780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35780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kenPtr = strtok( NULL, "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3776760"/>
              <a:ext cx="6780960" cy="198720"/>
              <a:chOff x="0" y="3776760"/>
              <a:chExt cx="6780960" cy="19872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37767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37767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3975840"/>
              <a:ext cx="6780960" cy="198720"/>
              <a:chOff x="0" y="3975840"/>
              <a:chExt cx="6780960" cy="19872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3975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3975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0" y="4174560"/>
              <a:ext cx="6780960" cy="198720"/>
              <a:chOff x="0" y="4174560"/>
              <a:chExt cx="6780960" cy="19872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4174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4174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4373280"/>
              <a:ext cx="6780960" cy="198720"/>
              <a:chOff x="0" y="4373280"/>
              <a:chExt cx="6780960" cy="19872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43732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43732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7" name=""/>
          <p:cNvSpPr/>
          <p:nvPr/>
        </p:nvSpPr>
        <p:spPr>
          <a:xfrm>
            <a:off x="0" y="4572000"/>
            <a:ext cx="678168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tring to be tokenized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is a sentence with 7 to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token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3A42-E722-4883-A314-98A18450C7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Memory Functions of the String- 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dlib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, compare, and search blocks of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manipulate any block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parameters a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id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pointer can be assigned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vice ver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not be dereferen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function receives a size argument specifying the number of bytes (characters) to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397B-C308-4986-8A18-5F801D786A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 some standard librar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 string and character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can process characters, strings, lines of text, and blocks of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techniques used to 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d process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ge layout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setting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F7B1-707F-4163-A81D-F0BFA2769A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Memory Functions of the String- handling Library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-247680" y="1146240"/>
          <a:ext cx="9696600" cy="54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7680" y="1146240"/>
                    <a:ext cx="969660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BFAB-D740-4BC6-8B7A-0CE9F24950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0" y="0"/>
            <a:ext cx="6780960" cy="4038120"/>
            <a:chOff x="0" y="0"/>
            <a:chExt cx="6780960" cy="4038120"/>
          </a:xfrm>
        </p:grpSpPr>
        <p:grpSp>
          <p:nvGrpSpPr>
            <p:cNvPr id="576" name=""/>
            <p:cNvGrpSpPr/>
            <p:nvPr/>
          </p:nvGrpSpPr>
          <p:grpSpPr>
            <a:xfrm>
              <a:off x="0" y="0"/>
              <a:ext cx="6780960" cy="237240"/>
              <a:chOff x="0" y="0"/>
              <a:chExt cx="6780960" cy="237240"/>
            </a:xfrm>
          </p:grpSpPr>
          <p:sp>
            <p:nvSpPr>
              <p:cNvPr id="577" name=""/>
              <p:cNvSpPr/>
              <p:nvPr/>
            </p:nvSpPr>
            <p:spPr>
              <a:xfrm>
                <a:off x="0" y="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8.32: fig08_32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0" y="237240"/>
              <a:ext cx="6780960" cy="237240"/>
              <a:chOff x="0" y="237240"/>
              <a:chExt cx="6780960" cy="237240"/>
            </a:xfrm>
          </p:grpSpPr>
          <p:sp>
            <p:nvSpPr>
              <p:cNvPr id="580" name=""/>
              <p:cNvSpPr/>
              <p:nvPr/>
            </p:nvSpPr>
            <p:spPr>
              <a:xfrm>
                <a:off x="0" y="2372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2372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memmov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0" y="474840"/>
              <a:ext cx="6780960" cy="237600"/>
              <a:chOff x="0" y="474840"/>
              <a:chExt cx="6780960" cy="237600"/>
            </a:xfrm>
          </p:grpSpPr>
          <p:sp>
            <p:nvSpPr>
              <p:cNvPr id="583" name=""/>
              <p:cNvSpPr/>
              <p:nvPr/>
            </p:nvSpPr>
            <p:spPr>
              <a:xfrm>
                <a:off x="0" y="47484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47484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0" y="712440"/>
              <a:ext cx="6780960" cy="237240"/>
              <a:chOff x="0" y="712440"/>
              <a:chExt cx="6780960" cy="237240"/>
            </a:xfrm>
          </p:grpSpPr>
          <p:sp>
            <p:nvSpPr>
              <p:cNvPr id="586" name=""/>
              <p:cNvSpPr/>
              <p:nvPr/>
            </p:nvSpPr>
            <p:spPr>
              <a:xfrm>
                <a:off x="0" y="7124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7124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ring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0" y="950040"/>
              <a:ext cx="6780960" cy="237240"/>
              <a:chOff x="0" y="950040"/>
              <a:chExt cx="6780960" cy="237240"/>
            </a:xfrm>
          </p:grpSpPr>
          <p:sp>
            <p:nvSpPr>
              <p:cNvPr id="589" name=""/>
              <p:cNvSpPr/>
              <p:nvPr/>
            </p:nvSpPr>
            <p:spPr>
              <a:xfrm>
                <a:off x="0" y="9500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9500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0" y="1187640"/>
              <a:ext cx="6780960" cy="237240"/>
              <a:chOff x="0" y="1187640"/>
              <a:chExt cx="6780960" cy="237240"/>
            </a:xfrm>
          </p:grpSpPr>
          <p:sp>
            <p:nvSpPr>
              <p:cNvPr id="592" name=""/>
              <p:cNvSpPr/>
              <p:nvPr/>
            </p:nvSpPr>
            <p:spPr>
              <a:xfrm>
                <a:off x="0" y="11876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11876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0" y="1425240"/>
              <a:ext cx="6780960" cy="237600"/>
              <a:chOff x="0" y="1425240"/>
              <a:chExt cx="6780960" cy="23760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142524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142524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0" y="1662840"/>
              <a:ext cx="6780960" cy="237240"/>
              <a:chOff x="0" y="1662840"/>
              <a:chExt cx="6780960" cy="237240"/>
            </a:xfrm>
          </p:grpSpPr>
          <p:sp>
            <p:nvSpPr>
              <p:cNvPr id="598" name=""/>
              <p:cNvSpPr/>
              <p:nvPr/>
            </p:nvSpPr>
            <p:spPr>
              <a:xfrm>
                <a:off x="0" y="16628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16628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[] = "Home Sweet Home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0" y="1900440"/>
              <a:ext cx="6780960" cy="237240"/>
              <a:chOff x="0" y="1900440"/>
              <a:chExt cx="6780960" cy="237240"/>
            </a:xfrm>
          </p:grpSpPr>
          <p:sp>
            <p:nvSpPr>
              <p:cNvPr id="601" name=""/>
              <p:cNvSpPr/>
              <p:nvPr/>
            </p:nvSpPr>
            <p:spPr>
              <a:xfrm>
                <a:off x="0" y="19004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19004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2138040"/>
              <a:ext cx="6780960" cy="237240"/>
              <a:chOff x="0" y="2138040"/>
              <a:chExt cx="6780960" cy="237240"/>
            </a:xfrm>
          </p:grpSpPr>
          <p:sp>
            <p:nvSpPr>
              <p:cNvPr id="604" name=""/>
              <p:cNvSpPr/>
              <p:nvPr/>
            </p:nvSpPr>
            <p:spPr>
              <a:xfrm>
                <a:off x="0" y="21380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21380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s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2375640"/>
              <a:ext cx="6780960" cy="237600"/>
              <a:chOff x="0" y="2375640"/>
              <a:chExt cx="6780960" cy="237600"/>
            </a:xfrm>
          </p:grpSpPr>
          <p:sp>
            <p:nvSpPr>
              <p:cNvPr id="607" name=""/>
              <p:cNvSpPr/>
              <p:nvPr/>
            </p:nvSpPr>
            <p:spPr>
              <a:xfrm>
                <a:off x="0" y="237564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237564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string in array x before memmove is: 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2613240"/>
              <a:ext cx="6780960" cy="237240"/>
              <a:chOff x="0" y="2613240"/>
              <a:chExt cx="6780960" cy="237240"/>
            </a:xfrm>
          </p:grpSpPr>
          <p:sp>
            <p:nvSpPr>
              <p:cNvPr id="610" name=""/>
              <p:cNvSpPr/>
              <p:nvPr/>
            </p:nvSpPr>
            <p:spPr>
              <a:xfrm>
                <a:off x="0" y="26132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26132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s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0" y="2850840"/>
              <a:ext cx="6780960" cy="237240"/>
              <a:chOff x="0" y="2850840"/>
              <a:chExt cx="6780960" cy="23724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28508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28508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string in array x after memmove is: 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3088080"/>
              <a:ext cx="6780960" cy="237240"/>
              <a:chOff x="0" y="3088080"/>
              <a:chExt cx="6780960" cy="237240"/>
            </a:xfrm>
          </p:grpSpPr>
          <p:sp>
            <p:nvSpPr>
              <p:cNvPr id="616" name=""/>
              <p:cNvSpPr/>
              <p:nvPr/>
            </p:nvSpPr>
            <p:spPr>
              <a:xfrm>
                <a:off x="0" y="308808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308808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memmove( x, &amp;x[ 5 ], 1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3325680"/>
              <a:ext cx="6780960" cy="237600"/>
              <a:chOff x="0" y="3325680"/>
              <a:chExt cx="6780960" cy="23760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332568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332568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0" y="3563280"/>
              <a:ext cx="6780960" cy="237240"/>
              <a:chOff x="0" y="3563280"/>
              <a:chExt cx="6780960" cy="237240"/>
            </a:xfrm>
          </p:grpSpPr>
          <p:sp>
            <p:nvSpPr>
              <p:cNvPr id="622" name=""/>
              <p:cNvSpPr/>
              <p:nvPr/>
            </p:nvSpPr>
            <p:spPr>
              <a:xfrm>
                <a:off x="0" y="356328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356328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3800880"/>
              <a:ext cx="6780960" cy="237240"/>
              <a:chOff x="0" y="3800880"/>
              <a:chExt cx="6780960" cy="23724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380088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380088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7" name=""/>
          <p:cNvSpPr/>
          <p:nvPr/>
        </p:nvSpPr>
        <p:spPr>
          <a:xfrm>
            <a:off x="0" y="43434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tring in array x before memmove is: Home Sweet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tring in array x after memmove is:  Sweet Hom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7A23-0BED-46DD-A277-E5B7DF07A1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ther Functions of the String 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*strerror( int errornum 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 system-dependent error message based 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rrorn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pointer to the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_t strlen( const char *s 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number of characters (bef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in str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61D0-AC39-4B2E-AB30-0377404CB1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0"/>
            <a:ext cx="6780960" cy="3352680"/>
            <a:chOff x="0" y="0"/>
            <a:chExt cx="6780960" cy="3352680"/>
          </a:xfrm>
        </p:grpSpPr>
        <p:grpSp>
          <p:nvGrpSpPr>
            <p:cNvPr id="632" name=""/>
            <p:cNvGrpSpPr/>
            <p:nvPr/>
          </p:nvGrpSpPr>
          <p:grpSpPr>
            <a:xfrm>
              <a:off x="0" y="0"/>
              <a:ext cx="6780960" cy="335160"/>
              <a:chOff x="0" y="0"/>
              <a:chExt cx="6780960" cy="33516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8.37: fig08_37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335160"/>
              <a:ext cx="6780960" cy="335160"/>
              <a:chOff x="0" y="335160"/>
              <a:chExt cx="6780960" cy="33516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33516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3516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strerro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0" y="670320"/>
              <a:ext cx="6780960" cy="335160"/>
              <a:chOff x="0" y="670320"/>
              <a:chExt cx="6780960" cy="335160"/>
            </a:xfrm>
          </p:grpSpPr>
          <p:sp>
            <p:nvSpPr>
              <p:cNvPr id="639" name=""/>
              <p:cNvSpPr/>
              <p:nvPr/>
            </p:nvSpPr>
            <p:spPr>
              <a:xfrm>
                <a:off x="0" y="67032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67032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0" y="1005840"/>
              <a:ext cx="6780960" cy="335160"/>
              <a:chOff x="0" y="1005840"/>
              <a:chExt cx="6780960" cy="335160"/>
            </a:xfrm>
          </p:grpSpPr>
          <p:sp>
            <p:nvSpPr>
              <p:cNvPr id="642" name=""/>
              <p:cNvSpPr/>
              <p:nvPr/>
            </p:nvSpPr>
            <p:spPr>
              <a:xfrm>
                <a:off x="0" y="100584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100584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ring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0" y="1341000"/>
              <a:ext cx="6780960" cy="335160"/>
              <a:chOff x="0" y="1341000"/>
              <a:chExt cx="6780960" cy="335160"/>
            </a:xfrm>
          </p:grpSpPr>
          <p:sp>
            <p:nvSpPr>
              <p:cNvPr id="645" name=""/>
              <p:cNvSpPr/>
              <p:nvPr/>
            </p:nvSpPr>
            <p:spPr>
              <a:xfrm>
                <a:off x="0" y="134100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134100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0" y="1676160"/>
              <a:ext cx="6780960" cy="335160"/>
              <a:chOff x="0" y="1676160"/>
              <a:chExt cx="6780960" cy="335160"/>
            </a:xfrm>
          </p:grpSpPr>
          <p:sp>
            <p:nvSpPr>
              <p:cNvPr id="648" name=""/>
              <p:cNvSpPr/>
              <p:nvPr/>
            </p:nvSpPr>
            <p:spPr>
              <a:xfrm>
                <a:off x="0" y="167616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167616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0" y="2011320"/>
              <a:ext cx="6780960" cy="335160"/>
              <a:chOff x="0" y="2011320"/>
              <a:chExt cx="6780960" cy="335160"/>
            </a:xfrm>
          </p:grpSpPr>
          <p:sp>
            <p:nvSpPr>
              <p:cNvPr id="651" name=""/>
              <p:cNvSpPr/>
              <p:nvPr/>
            </p:nvSpPr>
            <p:spPr>
              <a:xfrm>
                <a:off x="0" y="201132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201132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0" y="2346840"/>
              <a:ext cx="6780960" cy="335160"/>
              <a:chOff x="0" y="2346840"/>
              <a:chExt cx="6780960" cy="335160"/>
            </a:xfrm>
          </p:grpSpPr>
          <p:sp>
            <p:nvSpPr>
              <p:cNvPr id="654" name=""/>
              <p:cNvSpPr/>
              <p:nvPr/>
            </p:nvSpPr>
            <p:spPr>
              <a:xfrm>
                <a:off x="0" y="234684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234684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", strerror( 2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0" y="2682000"/>
              <a:ext cx="6780960" cy="335160"/>
              <a:chOff x="0" y="2682000"/>
              <a:chExt cx="6780960" cy="335160"/>
            </a:xfrm>
          </p:grpSpPr>
          <p:sp>
            <p:nvSpPr>
              <p:cNvPr id="657" name=""/>
              <p:cNvSpPr/>
              <p:nvPr/>
            </p:nvSpPr>
            <p:spPr>
              <a:xfrm>
                <a:off x="0" y="268200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268200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0" y="3017520"/>
              <a:ext cx="6780960" cy="335160"/>
              <a:chOff x="0" y="3017520"/>
              <a:chExt cx="6780960" cy="33516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301752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301752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2" name=""/>
          <p:cNvSpPr/>
          <p:nvPr/>
        </p:nvSpPr>
        <p:spPr>
          <a:xfrm>
            <a:off x="0" y="365760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 such file or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BCB8-1FC6-4378-89C2-E566FAE42F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damentals of Strings and Charac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ding blocks of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program is a sequence of meaningfully grouped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 cons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 represented as a character in single qu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z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presents the integer valu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es of characters treated as a single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include letters, digits and special character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literal (string constant) - written in double qu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Hell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s are arrays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a pointer to firs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of string is the address of firs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73E9-D3AF-48CD-841B-572E4A0530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damentals of Strings and Charac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as a character array or a variable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olor[] = "blu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colorPtr = "blu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ember that strings represented as character arrays en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t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can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("%s", wor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inpu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ne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ecause a string is a poi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ember to leave room in the array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0ABB-891C-41BF-AB97-5390D13C30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 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handling libr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s functions to perform useful tests and manipulations of charact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function receives a character (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an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slide contains a table of all the functions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ctype.h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FD36-F771-4C69-A8AF-460E951A48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Character 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-166680" y="1066680"/>
          <a:ext cx="9767880" cy="638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6680" y="1066680"/>
                    <a:ext cx="976788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5A23-494C-46E5-9A19-F3E01BB29D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erform tes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9" name=""/>
            <p:cNvGrpSpPr/>
            <p:nvPr/>
          </p:nvGrpSpPr>
          <p:grpSpPr>
            <a:xfrm>
              <a:off x="0" y="0"/>
              <a:ext cx="6780960" cy="213480"/>
              <a:chOff x="0" y="0"/>
              <a:chExt cx="6780960" cy="213480"/>
            </a:xfrm>
          </p:grpSpPr>
          <p:sp>
            <p:nvSpPr>
              <p:cNvPr id="110" name=""/>
              <p:cNvSpPr/>
              <p:nvPr/>
            </p:nvSpPr>
            <p:spPr>
              <a:xfrm>
                <a:off x="0" y="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8.2: fig08_02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0" y="213480"/>
              <a:ext cx="6780960" cy="230040"/>
              <a:chOff x="0" y="213480"/>
              <a:chExt cx="6780960" cy="23004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213480"/>
                <a:ext cx="6780960" cy="230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13480"/>
                <a:ext cx="6780960" cy="230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functions isdigit, isalpha, isalnum, and isxdigit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443880"/>
              <a:ext cx="6780960" cy="213840"/>
              <a:chOff x="0" y="443880"/>
              <a:chExt cx="6780960" cy="21384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44388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44388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657720"/>
              <a:ext cx="6780960" cy="213480"/>
              <a:chOff x="0" y="657720"/>
              <a:chExt cx="6780960" cy="213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6577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6577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type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871560"/>
              <a:ext cx="6780960" cy="213480"/>
              <a:chOff x="0" y="871560"/>
              <a:chExt cx="6780960" cy="2134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8715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8715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1085400"/>
              <a:ext cx="6780960" cy="213480"/>
              <a:chOff x="0" y="1085400"/>
              <a:chExt cx="6780960" cy="21348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10854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0854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1299240"/>
              <a:ext cx="6780960" cy="213840"/>
              <a:chOff x="0" y="1299240"/>
              <a:chExt cx="6780960" cy="21384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129924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29924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1513080"/>
              <a:ext cx="6780960" cy="213480"/>
              <a:chOff x="0" y="1513080"/>
              <a:chExt cx="6780960" cy="21348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51308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51308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%s\n%s%s\n\n", "According to isdigit: 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1726920"/>
              <a:ext cx="6780960" cy="213480"/>
              <a:chOff x="0" y="1726920"/>
              <a:chExt cx="6780960" cy="21348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17269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7269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digit( '8' ) ? "8 is a " : "8 is not a ", "digi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1940760"/>
              <a:ext cx="6780960" cy="213480"/>
              <a:chOff x="0" y="1940760"/>
              <a:chExt cx="6780960" cy="2134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19407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19407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digit( '#' ) ? "# is a " 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2154240"/>
              <a:ext cx="6780960" cy="213480"/>
              <a:chOff x="0" y="2154240"/>
              <a:chExt cx="6780960" cy="21348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215424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15424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# is not a ", "digit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2368080"/>
              <a:ext cx="6780960" cy="213840"/>
              <a:chOff x="0" y="2368080"/>
              <a:chExt cx="6780960" cy="21384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236808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36808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%s\n%s%s\n%s%s\n%s%s\n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2581920"/>
              <a:ext cx="6780960" cy="213480"/>
              <a:chOff x="0" y="2581920"/>
              <a:chExt cx="6780960" cy="21348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25819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25819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According to isalpha: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2795760"/>
              <a:ext cx="6780960" cy="213480"/>
              <a:chOff x="0" y="2795760"/>
              <a:chExt cx="6780960" cy="2134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27957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27957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alpha( 'A' ) ? "A is a " : "A is not a ", "lett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3009600"/>
              <a:ext cx="6780960" cy="213480"/>
              <a:chOff x="0" y="3009600"/>
              <a:chExt cx="6780960" cy="21348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3009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3009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alpha( 'b' ) ? "b is a " : "b is not a ", "lett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3223440"/>
              <a:ext cx="6780960" cy="213840"/>
              <a:chOff x="0" y="3223440"/>
              <a:chExt cx="6780960" cy="21384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22344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322344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alpha( '&amp;' ) ? "&amp; is a " : "&amp; is not a ", "lett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3437280"/>
              <a:ext cx="6780960" cy="213480"/>
              <a:chOff x="0" y="3437280"/>
              <a:chExt cx="6780960" cy="21348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343728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43728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alpha( '4' ) ? "4 is a " 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3651120"/>
              <a:ext cx="6780960" cy="213480"/>
              <a:chOff x="0" y="3651120"/>
              <a:chExt cx="6780960" cy="21348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36511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36511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4 is not a ", "letter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3864960"/>
              <a:ext cx="6780960" cy="213480"/>
              <a:chOff x="0" y="3864960"/>
              <a:chExt cx="6780960" cy="21348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38649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38649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%s\n%s%s\n%s%s\n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4078440"/>
              <a:ext cx="6780960" cy="213840"/>
              <a:chOff x="0" y="4078440"/>
              <a:chExt cx="6780960" cy="21384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407844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407844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According to isalnum: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4292640"/>
              <a:ext cx="6780960" cy="213480"/>
              <a:chOff x="0" y="4292640"/>
              <a:chExt cx="6780960" cy="21348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429264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29264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alnum( 'A' ) ? "A is a " : "A is not a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4506120"/>
              <a:ext cx="6780960" cy="213480"/>
              <a:chOff x="0" y="4506120"/>
              <a:chExt cx="6780960" cy="21348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45061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5061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digit or a lett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4719960"/>
              <a:ext cx="6780960" cy="213480"/>
              <a:chOff x="0" y="4719960"/>
              <a:chExt cx="6780960" cy="21348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47199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199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alnum( '8' ) ? "8 is a " : "8 is not a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4933800"/>
              <a:ext cx="6780960" cy="213840"/>
              <a:chOff x="0" y="4933800"/>
              <a:chExt cx="6780960" cy="21384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493380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93380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digit or a lett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5147640"/>
              <a:ext cx="6780960" cy="213480"/>
              <a:chOff x="0" y="5147640"/>
              <a:chExt cx="6780960" cy="21348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514764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514764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alnum( '#' ) ? "# is a " : "# is not a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5361480"/>
              <a:ext cx="6780960" cy="213480"/>
              <a:chOff x="0" y="5361480"/>
              <a:chExt cx="6780960" cy="21348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536148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536148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digit or a letter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5575320"/>
              <a:ext cx="6780960" cy="213480"/>
              <a:chOff x="0" y="5575320"/>
              <a:chExt cx="6780960" cy="21348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55753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55753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%s\n%s%s\n%s%s\n%s%s\n%s%s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5789160"/>
              <a:ext cx="6780960" cy="213480"/>
              <a:chOff x="0" y="5789160"/>
              <a:chExt cx="6780960" cy="21348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5789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789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According to isxdigit: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6003000"/>
              <a:ext cx="6780960" cy="213840"/>
              <a:chOff x="0" y="6003000"/>
              <a:chExt cx="6780960" cy="21384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600300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600300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xdigit( 'F' ) ? "F is a " : "F is not a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6216840"/>
              <a:ext cx="6780960" cy="213480"/>
              <a:chOff x="0" y="6216840"/>
              <a:chExt cx="6780960" cy="2134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621684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621684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hexadecimal digi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6430680"/>
              <a:ext cx="6780960" cy="213480"/>
              <a:chOff x="0" y="6430680"/>
              <a:chExt cx="6780960" cy="21348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643068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643068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xdigit( 'J' ) ? "J is a " : "J is not a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6644160"/>
              <a:ext cx="6780960" cy="213480"/>
              <a:chOff x="0" y="6644160"/>
              <a:chExt cx="6780960" cy="21348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6644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6644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hexadecimal digi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F30E-17A5-4639-A360-7332FF60D4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0"/>
            <a:ext cx="6780960" cy="1980720"/>
            <a:chOff x="0" y="0"/>
            <a:chExt cx="6780960" cy="1980720"/>
          </a:xfrm>
        </p:grpSpPr>
        <p:grpSp>
          <p:nvGrpSpPr>
            <p:cNvPr id="207" name=""/>
            <p:cNvGrpSpPr/>
            <p:nvPr/>
          </p:nvGrpSpPr>
          <p:grpSpPr>
            <a:xfrm>
              <a:off x="0" y="0"/>
              <a:ext cx="6780960" cy="247320"/>
              <a:chOff x="0" y="0"/>
              <a:chExt cx="6780960" cy="24732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xdigit( '7' ) ? "7 is a " : "7 is not a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247320"/>
              <a:ext cx="6780960" cy="247320"/>
              <a:chOff x="0" y="247320"/>
              <a:chExt cx="6780960" cy="24732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24732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4732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hexadecimal digi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495000"/>
              <a:ext cx="6780960" cy="247680"/>
              <a:chOff x="0" y="495000"/>
              <a:chExt cx="6780960" cy="24768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49500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9500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xdigit( '$' ) ? "$ is a " : "$ is not a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742680"/>
              <a:ext cx="6780960" cy="247320"/>
              <a:chOff x="0" y="742680"/>
              <a:chExt cx="6780960" cy="24732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74268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74268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hexadecimal digi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990360"/>
              <a:ext cx="6780960" cy="247320"/>
              <a:chOff x="0" y="990360"/>
              <a:chExt cx="6780960" cy="24732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99036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99036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xdigit( 'f' ) ? "f is a " : "f is not a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1238040"/>
              <a:ext cx="6780960" cy="247320"/>
              <a:chOff x="0" y="1238040"/>
              <a:chExt cx="6780960" cy="24732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123804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23804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hexadecimal digit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1485720"/>
              <a:ext cx="6780960" cy="247680"/>
              <a:chOff x="0" y="1485720"/>
              <a:chExt cx="6780960" cy="24768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148572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8572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1733400"/>
              <a:ext cx="6780960" cy="247320"/>
              <a:chOff x="0" y="1733400"/>
              <a:chExt cx="6780960" cy="24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173340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73340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0" y="2133720"/>
            <a:ext cx="6781680" cy="4109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rding to isdigi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is a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is not a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rding to isalph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is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is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amp; is not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is not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rding to isaln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is a digit or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is a digit or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is not a digit or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rding to isxdigi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is a hexadecimal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 is not a hexadecimal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a hexadecimal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 is not a hexadecimal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is a hexadecimal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02BA-B6E3-41AE-AEC2-D03DBDE2CB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  String Conversion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dlib.h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general utilities librar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strings of digits to integer and floating-poin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80880" y="3056040"/>
          <a:ext cx="8377200" cy="40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56040"/>
                    <a:ext cx="837720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0CA7-BE72-4AA6-97D0-FE8D02E9F1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20:19:05Z</dcterms:created>
  <dc:creator>kalid</dc:creator>
  <dc:description/>
  <dc:language>en-US</dc:language>
  <cp:lastModifiedBy>Matty</cp:lastModifiedBy>
  <dcterms:modified xsi:type="dcterms:W3CDTF">2000-12-22T19:20:50Z</dcterms:modified>
  <cp:revision>110</cp:revision>
  <dc:subject/>
  <dc:title>Chapter 8 - Characters and Strings</dc:title>
</cp:coreProperties>
</file>