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E98C4-CBFF-4C01-A1E1-B104554395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D292C-7FF6-4D09-8130-E6787C5F68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154C9-E86A-4F4F-95A8-6EC3FC1525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A5ED3-1185-46DF-8568-23A0D69946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019C7-168C-4A39-A1AB-99F634E2B4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BADB8-1D9E-416F-917B-98571914F1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055BA-ACFE-4A81-8E07-ABE2E1870A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24911-0600-4774-A117-78EC306EED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B6FED-0505-4A32-A8A9-2C39A5117E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5FEDC-3274-4A07-AFDF-26D340F02B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D1621-A0B9-4E3F-A925-B3D67E0CDB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27FB4-BB47-462F-B61E-E13D887142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80222-44BB-46B3-A6E2-7D22CF83F0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41B46-A8A8-4D54-B6D1-C90BC5777D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C1235-2F9A-4C7F-B885-CE3B5DDE24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45A56-824E-45B3-8B54-0E70D749B8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E9010-2541-49FA-93F0-79BACA4397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8190D-CF4C-41E9-87DA-448F0E3CF5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E8C5A-B419-4D36-AD50-5A1F20764B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73E0B-6420-4EA3-91A1-D02968FF47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AB375-3004-42B5-B898-203E4BA095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B79F5-7BD4-4507-84C6-1174B3077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EBF60-424C-424B-A93E-F055751B09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AFD0B-B9C8-406F-8C50-542B064EA5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4823-E759-4B22-B67B-74F16BF59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7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D65C-1CAA-4C44-A69D-35D77EF919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53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0 - Structures, Unions, Bit Manipulations, and Enumeration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95280"/>
            <a:ext cx="853452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ucture Defin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itializing 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ccessing Members of 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Structures with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type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xample: High-Performance Card Shuffling and Dealing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n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Bitwise Ope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Bit F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0.1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Enumeration Const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E306B-E933-48B6-B885-54A22CF4DB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7   Example: High-Performance Card-shuffling and Dealing Simulation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eudoc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an array of card struc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t cards in the de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uffle the de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al the ca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41C68-7D9F-4C73-91F6-C3C4C17EDA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Defin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Function prototyp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ck[]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ce[]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4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it[]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0" y="0"/>
            <a:ext cx="6780960" cy="6552720"/>
            <a:chOff x="0" y="0"/>
            <a:chExt cx="6780960" cy="6552720"/>
          </a:xfrm>
        </p:grpSpPr>
        <p:grpSp>
          <p:nvGrpSpPr>
            <p:cNvPr id="116" name=""/>
            <p:cNvGrpSpPr/>
            <p:nvPr/>
          </p:nvGrpSpPr>
          <p:grpSpPr>
            <a:xfrm>
              <a:off x="0" y="0"/>
              <a:ext cx="6780960" cy="218160"/>
              <a:chOff x="0" y="0"/>
              <a:chExt cx="6780960" cy="218160"/>
            </a:xfrm>
          </p:grpSpPr>
          <p:sp>
            <p:nvSpPr>
              <p:cNvPr id="117" name=""/>
              <p:cNvSpPr/>
              <p:nvPr/>
            </p:nvSpPr>
            <p:spPr>
              <a:xfrm>
                <a:off x="0" y="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8000"/>
                    </a:solidFill>
                    <a:latin typeface="Courier New"/>
                    <a:ea typeface="Times New Roman"/>
                  </a:rPr>
                  <a:t>/* Fig. 10.3: fig10_03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0" y="218160"/>
              <a:ext cx="6780960" cy="218160"/>
              <a:chOff x="0" y="218160"/>
              <a:chExt cx="6780960" cy="218160"/>
            </a:xfrm>
          </p:grpSpPr>
          <p:sp>
            <p:nvSpPr>
              <p:cNvPr id="120" name=""/>
              <p:cNvSpPr/>
              <p:nvPr/>
            </p:nvSpPr>
            <p:spPr>
              <a:xfrm>
                <a:off x="0" y="2181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181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8000"/>
                    </a:solidFill>
                    <a:latin typeface="Courier New"/>
                    <a:ea typeface="Times New Roman"/>
                  </a:rPr>
                  <a:t>   The card shuffling and dealing program using structures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0" y="436680"/>
              <a:ext cx="6780960" cy="218520"/>
              <a:chOff x="0" y="436680"/>
              <a:chExt cx="6780960" cy="218520"/>
            </a:xfrm>
          </p:grpSpPr>
          <p:sp>
            <p:nvSpPr>
              <p:cNvPr id="123" name=""/>
              <p:cNvSpPr/>
              <p:nvPr/>
            </p:nvSpPr>
            <p:spPr>
              <a:xfrm>
                <a:off x="0" y="4366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4366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0" y="655200"/>
              <a:ext cx="6780960" cy="218160"/>
              <a:chOff x="0" y="655200"/>
              <a:chExt cx="6780960" cy="218160"/>
            </a:xfrm>
          </p:grpSpPr>
          <p:sp>
            <p:nvSpPr>
              <p:cNvPr id="126" name=""/>
              <p:cNvSpPr/>
              <p:nvPr/>
            </p:nvSpPr>
            <p:spPr>
              <a:xfrm>
                <a:off x="0" y="6552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6552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lib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0" y="873720"/>
              <a:ext cx="6780960" cy="218160"/>
              <a:chOff x="0" y="873720"/>
              <a:chExt cx="6780960" cy="218160"/>
            </a:xfrm>
          </p:grpSpPr>
          <p:sp>
            <p:nvSpPr>
              <p:cNvPr id="129" name=""/>
              <p:cNvSpPr/>
              <p:nvPr/>
            </p:nvSpPr>
            <p:spPr>
              <a:xfrm>
                <a:off x="0" y="8737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8737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time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0" y="1091880"/>
              <a:ext cx="6780960" cy="218160"/>
              <a:chOff x="0" y="1091880"/>
              <a:chExt cx="6780960" cy="218160"/>
            </a:xfrm>
          </p:grpSpPr>
          <p:sp>
            <p:nvSpPr>
              <p:cNvPr id="132" name=""/>
              <p:cNvSpPr/>
              <p:nvPr/>
            </p:nvSpPr>
            <p:spPr>
              <a:xfrm>
                <a:off x="0" y="10918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0918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0" y="1310400"/>
              <a:ext cx="6780960" cy="218520"/>
              <a:chOff x="0" y="1310400"/>
              <a:chExt cx="6780960" cy="218520"/>
            </a:xfrm>
          </p:grpSpPr>
          <p:sp>
            <p:nvSpPr>
              <p:cNvPr id="135" name=""/>
              <p:cNvSpPr/>
              <p:nvPr/>
            </p:nvSpPr>
            <p:spPr>
              <a:xfrm>
                <a:off x="0" y="131040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131040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ard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0" y="1528920"/>
              <a:ext cx="6780960" cy="218160"/>
              <a:chOff x="0" y="1528920"/>
              <a:chExt cx="6780960" cy="218160"/>
            </a:xfrm>
          </p:grpSpPr>
          <p:sp>
            <p:nvSpPr>
              <p:cNvPr id="138" name=""/>
              <p:cNvSpPr/>
              <p:nvPr/>
            </p:nvSpPr>
            <p:spPr>
              <a:xfrm>
                <a:off x="0" y="15289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15289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ac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0" y="1747440"/>
              <a:ext cx="6780960" cy="218160"/>
              <a:chOff x="0" y="1747440"/>
              <a:chExt cx="6780960" cy="218160"/>
            </a:xfrm>
          </p:grpSpPr>
          <p:sp>
            <p:nvSpPr>
              <p:cNvPr id="141" name=""/>
              <p:cNvSpPr/>
              <p:nvPr/>
            </p:nvSpPr>
            <p:spPr>
              <a:xfrm>
                <a:off x="0" y="17474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17474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sui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0" y="1965960"/>
              <a:ext cx="6780960" cy="218160"/>
              <a:chOff x="0" y="1965960"/>
              <a:chExt cx="6780960" cy="218160"/>
            </a:xfrm>
          </p:grpSpPr>
          <p:sp>
            <p:nvSpPr>
              <p:cNvPr id="144" name=""/>
              <p:cNvSpPr/>
              <p:nvPr/>
            </p:nvSpPr>
            <p:spPr>
              <a:xfrm>
                <a:off x="0" y="19659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19659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0" y="2184120"/>
              <a:ext cx="6780960" cy="218520"/>
              <a:chOff x="0" y="2184120"/>
              <a:chExt cx="6780960" cy="218520"/>
            </a:xfrm>
          </p:grpSpPr>
          <p:sp>
            <p:nvSpPr>
              <p:cNvPr id="147" name=""/>
              <p:cNvSpPr/>
              <p:nvPr/>
            </p:nvSpPr>
            <p:spPr>
              <a:xfrm>
                <a:off x="0" y="218412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218412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0" y="2402640"/>
              <a:ext cx="6780960" cy="218160"/>
              <a:chOff x="0" y="2402640"/>
              <a:chExt cx="6780960" cy="218160"/>
            </a:xfrm>
          </p:grpSpPr>
          <p:sp>
            <p:nvSpPr>
              <p:cNvPr id="150" name=""/>
              <p:cNvSpPr/>
              <p:nvPr/>
            </p:nvSpPr>
            <p:spPr>
              <a:xfrm>
                <a:off x="0" y="24026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4026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type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ard Car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0" y="2621160"/>
              <a:ext cx="6780960" cy="218160"/>
              <a:chOff x="0" y="2621160"/>
              <a:chExt cx="6780960" cy="218160"/>
            </a:xfrm>
          </p:grpSpPr>
          <p:sp>
            <p:nvSpPr>
              <p:cNvPr id="153" name=""/>
              <p:cNvSpPr/>
              <p:nvPr/>
            </p:nvSpPr>
            <p:spPr>
              <a:xfrm>
                <a:off x="0" y="26211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26211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0" y="2839680"/>
              <a:ext cx="6780960" cy="218160"/>
              <a:chOff x="0" y="2839680"/>
              <a:chExt cx="6780960" cy="218160"/>
            </a:xfrm>
          </p:grpSpPr>
          <p:sp>
            <p:nvSpPr>
              <p:cNvPr id="156" name=""/>
              <p:cNvSpPr/>
              <p:nvPr/>
            </p:nvSpPr>
            <p:spPr>
              <a:xfrm>
                <a:off x="0" y="28396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28396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illDeck( Card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[]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0" y="3057840"/>
              <a:ext cx="6780960" cy="218520"/>
              <a:chOff x="0" y="3057840"/>
              <a:chExt cx="6780960" cy="218520"/>
            </a:xfrm>
          </p:grpSpPr>
          <p:sp>
            <p:nvSpPr>
              <p:cNvPr id="159" name=""/>
              <p:cNvSpPr/>
              <p:nvPr/>
            </p:nvSpPr>
            <p:spPr>
              <a:xfrm>
                <a:off x="0" y="305784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305784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[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0" y="3276720"/>
              <a:ext cx="6780960" cy="218160"/>
              <a:chOff x="0" y="3276720"/>
              <a:chExt cx="6780960" cy="218160"/>
            </a:xfrm>
          </p:grpSpPr>
          <p:sp>
            <p:nvSpPr>
              <p:cNvPr id="162" name=""/>
              <p:cNvSpPr/>
              <p:nvPr/>
            </p:nvSpPr>
            <p:spPr>
              <a:xfrm>
                <a:off x="0" y="32767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32767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huffle( Card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0" y="3494880"/>
              <a:ext cx="6780960" cy="218160"/>
              <a:chOff x="0" y="3494880"/>
              <a:chExt cx="6780960" cy="218160"/>
            </a:xfrm>
          </p:grpSpPr>
          <p:sp>
            <p:nvSpPr>
              <p:cNvPr id="165" name=""/>
              <p:cNvSpPr/>
              <p:nvPr/>
            </p:nvSpPr>
            <p:spPr>
              <a:xfrm>
                <a:off x="0" y="34948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34948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al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ard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0" y="3713400"/>
              <a:ext cx="6780960" cy="218160"/>
              <a:chOff x="0" y="3713400"/>
              <a:chExt cx="6780960" cy="218160"/>
            </a:xfrm>
          </p:grpSpPr>
          <p:sp>
            <p:nvSpPr>
              <p:cNvPr id="168" name=""/>
              <p:cNvSpPr/>
              <p:nvPr/>
            </p:nvSpPr>
            <p:spPr>
              <a:xfrm>
                <a:off x="0" y="37134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37134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0" y="3931920"/>
              <a:ext cx="6780960" cy="218160"/>
              <a:chOff x="0" y="3931920"/>
              <a:chExt cx="6780960" cy="218160"/>
            </a:xfrm>
          </p:grpSpPr>
          <p:sp>
            <p:nvSpPr>
              <p:cNvPr id="171" name=""/>
              <p:cNvSpPr/>
              <p:nvPr/>
            </p:nvSpPr>
            <p:spPr>
              <a:xfrm>
                <a:off x="0" y="39319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39319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0" y="4150080"/>
              <a:ext cx="6780960" cy="218520"/>
              <a:chOff x="0" y="4150080"/>
              <a:chExt cx="6780960" cy="218520"/>
            </a:xfrm>
          </p:grpSpPr>
          <p:sp>
            <p:nvSpPr>
              <p:cNvPr id="174" name=""/>
              <p:cNvSpPr/>
              <p:nvPr/>
            </p:nvSpPr>
            <p:spPr>
              <a:xfrm>
                <a:off x="0" y="41500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1500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0" y="4368600"/>
              <a:ext cx="6780960" cy="218160"/>
              <a:chOff x="0" y="4368600"/>
              <a:chExt cx="6780960" cy="218160"/>
            </a:xfrm>
          </p:grpSpPr>
          <p:sp>
            <p:nvSpPr>
              <p:cNvPr id="177" name=""/>
              <p:cNvSpPr/>
              <p:nvPr/>
            </p:nvSpPr>
            <p:spPr>
              <a:xfrm>
                <a:off x="0" y="43686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3686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ard deck[ 52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0" y="4587120"/>
              <a:ext cx="6780960" cy="218160"/>
              <a:chOff x="0" y="4587120"/>
              <a:chExt cx="6780960" cy="218160"/>
            </a:xfrm>
          </p:grpSpPr>
          <p:sp>
            <p:nvSpPr>
              <p:cNvPr id="180" name=""/>
              <p:cNvSpPr/>
              <p:nvPr/>
            </p:nvSpPr>
            <p:spPr>
              <a:xfrm>
                <a:off x="0" y="45871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5871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ace[] = { "Ace", "Deuce", "Three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0" y="4805640"/>
              <a:ext cx="6780960" cy="218160"/>
              <a:chOff x="0" y="4805640"/>
              <a:chExt cx="6780960" cy="218160"/>
            </a:xfrm>
          </p:grpSpPr>
          <p:sp>
            <p:nvSpPr>
              <p:cNvPr id="183" name=""/>
              <p:cNvSpPr/>
              <p:nvPr/>
            </p:nvSpPr>
            <p:spPr>
              <a:xfrm>
                <a:off x="0" y="48056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8056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"Four", "Five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0" y="5023800"/>
              <a:ext cx="6780960" cy="218520"/>
              <a:chOff x="0" y="5023800"/>
              <a:chExt cx="6780960" cy="218520"/>
            </a:xfrm>
          </p:grpSpPr>
          <p:sp>
            <p:nvSpPr>
              <p:cNvPr id="186" name=""/>
              <p:cNvSpPr/>
              <p:nvPr/>
            </p:nvSpPr>
            <p:spPr>
              <a:xfrm>
                <a:off x="0" y="502380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502380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"Six", "Seven", "Eight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0" y="5242680"/>
              <a:ext cx="6780960" cy="218160"/>
              <a:chOff x="0" y="5242680"/>
              <a:chExt cx="6780960" cy="218160"/>
            </a:xfrm>
          </p:grpSpPr>
          <p:sp>
            <p:nvSpPr>
              <p:cNvPr id="189" name=""/>
              <p:cNvSpPr/>
              <p:nvPr/>
            </p:nvSpPr>
            <p:spPr>
              <a:xfrm>
                <a:off x="0" y="52426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52426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"Nine", "Ten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0" y="5460840"/>
              <a:ext cx="6780960" cy="218160"/>
              <a:chOff x="0" y="5460840"/>
              <a:chExt cx="6780960" cy="218160"/>
            </a:xfrm>
          </p:grpSpPr>
          <p:sp>
            <p:nvSpPr>
              <p:cNvPr id="192" name=""/>
              <p:cNvSpPr/>
              <p:nvPr/>
            </p:nvSpPr>
            <p:spPr>
              <a:xfrm>
                <a:off x="0" y="54608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54608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"Jack", "Queen", "King"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0" y="5679360"/>
              <a:ext cx="6780960" cy="218160"/>
              <a:chOff x="0" y="5679360"/>
              <a:chExt cx="6780960" cy="218160"/>
            </a:xfrm>
          </p:grpSpPr>
          <p:sp>
            <p:nvSpPr>
              <p:cNvPr id="195" name=""/>
              <p:cNvSpPr/>
              <p:nvPr/>
            </p:nvSpPr>
            <p:spPr>
              <a:xfrm>
                <a:off x="0" y="56793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56793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suit[] = { "Hearts", "Diamonds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0" y="5897880"/>
              <a:ext cx="6780960" cy="218520"/>
              <a:chOff x="0" y="5897880"/>
              <a:chExt cx="6780960" cy="218520"/>
            </a:xfrm>
          </p:grpSpPr>
          <p:sp>
            <p:nvSpPr>
              <p:cNvPr id="198" name=""/>
              <p:cNvSpPr/>
              <p:nvPr/>
            </p:nvSpPr>
            <p:spPr>
              <a:xfrm>
                <a:off x="0" y="58978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58978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"Clubs", "Spades"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0" y="6116400"/>
              <a:ext cx="6780960" cy="218160"/>
              <a:chOff x="0" y="6116400"/>
              <a:chExt cx="6780960" cy="218160"/>
            </a:xfrm>
          </p:grpSpPr>
          <p:sp>
            <p:nvSpPr>
              <p:cNvPr id="201" name=""/>
              <p:cNvSpPr/>
              <p:nvPr/>
            </p:nvSpPr>
            <p:spPr>
              <a:xfrm>
                <a:off x="0" y="61164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61164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0" y="6334560"/>
              <a:ext cx="6780960" cy="218160"/>
              <a:chOff x="0" y="6334560"/>
              <a:chExt cx="6780960" cy="218160"/>
            </a:xfrm>
          </p:grpSpPr>
          <p:sp>
            <p:nvSpPr>
              <p:cNvPr id="204" name=""/>
              <p:cNvSpPr/>
              <p:nvPr/>
            </p:nvSpPr>
            <p:spPr>
              <a:xfrm>
                <a:off x="0" y="63345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63345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rand( time( NULL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82F5D-C5BC-4EE1-BFD4-ECB2AE1D9B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llDeck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uff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al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0" y="0"/>
            <a:ext cx="6780960" cy="6552720"/>
            <a:chOff x="0" y="0"/>
            <a:chExt cx="6780960" cy="6552720"/>
          </a:xfrm>
        </p:grpSpPr>
        <p:grpSp>
          <p:nvGrpSpPr>
            <p:cNvPr id="208" name=""/>
            <p:cNvGrpSpPr/>
            <p:nvPr/>
          </p:nvGrpSpPr>
          <p:grpSpPr>
            <a:xfrm>
              <a:off x="0" y="0"/>
              <a:ext cx="6780960" cy="218160"/>
              <a:chOff x="0" y="0"/>
              <a:chExt cx="6780960" cy="218160"/>
            </a:xfrm>
          </p:grpSpPr>
          <p:sp>
            <p:nvSpPr>
              <p:cNvPr id="209" name=""/>
              <p:cNvSpPr/>
              <p:nvPr/>
            </p:nvSpPr>
            <p:spPr>
              <a:xfrm>
                <a:off x="0" y="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0" y="218160"/>
              <a:ext cx="6780960" cy="218160"/>
              <a:chOff x="0" y="218160"/>
              <a:chExt cx="6780960" cy="218160"/>
            </a:xfrm>
          </p:grpSpPr>
          <p:sp>
            <p:nvSpPr>
              <p:cNvPr id="212" name=""/>
              <p:cNvSpPr/>
              <p:nvPr/>
            </p:nvSpPr>
            <p:spPr>
              <a:xfrm>
                <a:off x="0" y="2181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181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illDeck( deck, face, sui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0" y="436680"/>
              <a:ext cx="6780960" cy="218520"/>
              <a:chOff x="0" y="436680"/>
              <a:chExt cx="6780960" cy="218520"/>
            </a:xfrm>
          </p:grpSpPr>
          <p:sp>
            <p:nvSpPr>
              <p:cNvPr id="215" name=""/>
              <p:cNvSpPr/>
              <p:nvPr/>
            </p:nvSpPr>
            <p:spPr>
              <a:xfrm>
                <a:off x="0" y="4366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4366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huffle( deck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0" y="655200"/>
              <a:ext cx="6780960" cy="218160"/>
              <a:chOff x="0" y="655200"/>
              <a:chExt cx="6780960" cy="218160"/>
            </a:xfrm>
          </p:grpSpPr>
          <p:sp>
            <p:nvSpPr>
              <p:cNvPr id="218" name=""/>
              <p:cNvSpPr/>
              <p:nvPr/>
            </p:nvSpPr>
            <p:spPr>
              <a:xfrm>
                <a:off x="0" y="6552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6552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eal( deck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0" y="873720"/>
              <a:ext cx="6780960" cy="218160"/>
              <a:chOff x="0" y="873720"/>
              <a:chExt cx="6780960" cy="218160"/>
            </a:xfrm>
          </p:grpSpPr>
          <p:sp>
            <p:nvSpPr>
              <p:cNvPr id="221" name=""/>
              <p:cNvSpPr/>
              <p:nvPr/>
            </p:nvSpPr>
            <p:spPr>
              <a:xfrm>
                <a:off x="0" y="8737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8737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0" y="1091880"/>
              <a:ext cx="6780960" cy="218160"/>
              <a:chOff x="0" y="1091880"/>
              <a:chExt cx="6780960" cy="218160"/>
            </a:xfrm>
          </p:grpSpPr>
          <p:sp>
            <p:nvSpPr>
              <p:cNvPr id="224" name=""/>
              <p:cNvSpPr/>
              <p:nvPr/>
            </p:nvSpPr>
            <p:spPr>
              <a:xfrm>
                <a:off x="0" y="10918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10918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0" y="1310400"/>
              <a:ext cx="6780960" cy="218520"/>
              <a:chOff x="0" y="1310400"/>
              <a:chExt cx="6780960" cy="218520"/>
            </a:xfrm>
          </p:grpSpPr>
          <p:sp>
            <p:nvSpPr>
              <p:cNvPr id="227" name=""/>
              <p:cNvSpPr/>
              <p:nvPr/>
            </p:nvSpPr>
            <p:spPr>
              <a:xfrm>
                <a:off x="0" y="131040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31040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0" y="1528920"/>
              <a:ext cx="6780960" cy="218160"/>
              <a:chOff x="0" y="1528920"/>
              <a:chExt cx="6780960" cy="218160"/>
            </a:xfrm>
          </p:grpSpPr>
          <p:sp>
            <p:nvSpPr>
              <p:cNvPr id="230" name=""/>
              <p:cNvSpPr/>
              <p:nvPr/>
            </p:nvSpPr>
            <p:spPr>
              <a:xfrm>
                <a:off x="0" y="15289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5289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illDeck( Card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Deck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wFace[]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0" y="1747440"/>
              <a:ext cx="6780960" cy="218160"/>
              <a:chOff x="0" y="1747440"/>
              <a:chExt cx="6780960" cy="218160"/>
            </a:xfrm>
          </p:grpSpPr>
          <p:sp>
            <p:nvSpPr>
              <p:cNvPr id="233" name=""/>
              <p:cNvSpPr/>
              <p:nvPr/>
            </p:nvSpPr>
            <p:spPr>
              <a:xfrm>
                <a:off x="0" y="17474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17474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wSuit[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0" y="1965960"/>
              <a:ext cx="6780960" cy="218160"/>
              <a:chOff x="0" y="1965960"/>
              <a:chExt cx="6780960" cy="218160"/>
            </a:xfrm>
          </p:grpSpPr>
          <p:sp>
            <p:nvSpPr>
              <p:cNvPr id="236" name=""/>
              <p:cNvSpPr/>
              <p:nvPr/>
            </p:nvSpPr>
            <p:spPr>
              <a:xfrm>
                <a:off x="0" y="19659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19659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0" y="2184120"/>
              <a:ext cx="6780960" cy="218520"/>
              <a:chOff x="0" y="2184120"/>
              <a:chExt cx="6780960" cy="218520"/>
            </a:xfrm>
          </p:grpSpPr>
          <p:sp>
            <p:nvSpPr>
              <p:cNvPr id="239" name=""/>
              <p:cNvSpPr/>
              <p:nvPr/>
            </p:nvSpPr>
            <p:spPr>
              <a:xfrm>
                <a:off x="0" y="218412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218412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0" y="2402640"/>
              <a:ext cx="6780960" cy="218160"/>
              <a:chOff x="0" y="2402640"/>
              <a:chExt cx="6780960" cy="218160"/>
            </a:xfrm>
          </p:grpSpPr>
          <p:sp>
            <p:nvSpPr>
              <p:cNvPr id="242" name=""/>
              <p:cNvSpPr/>
              <p:nvPr/>
            </p:nvSpPr>
            <p:spPr>
              <a:xfrm>
                <a:off x="0" y="24026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24026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0" y="2621160"/>
              <a:ext cx="6780960" cy="218160"/>
              <a:chOff x="0" y="2621160"/>
              <a:chExt cx="6780960" cy="218160"/>
            </a:xfrm>
          </p:grpSpPr>
          <p:sp>
            <p:nvSpPr>
              <p:cNvPr id="245" name=""/>
              <p:cNvSpPr/>
              <p:nvPr/>
            </p:nvSpPr>
            <p:spPr>
              <a:xfrm>
                <a:off x="0" y="26211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26211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i &lt;= 51; i++ )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0" y="2839680"/>
              <a:ext cx="6780960" cy="218160"/>
              <a:chOff x="0" y="2839680"/>
              <a:chExt cx="6780960" cy="21816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28396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28396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wDeck[ i ].face = wFace[ i % 13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0" y="3057840"/>
              <a:ext cx="6780960" cy="218520"/>
              <a:chOff x="0" y="3057840"/>
              <a:chExt cx="6780960" cy="218520"/>
            </a:xfrm>
          </p:grpSpPr>
          <p:sp>
            <p:nvSpPr>
              <p:cNvPr id="251" name=""/>
              <p:cNvSpPr/>
              <p:nvPr/>
            </p:nvSpPr>
            <p:spPr>
              <a:xfrm>
                <a:off x="0" y="305784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305784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wDeck[ i ].suit = wSuit[ i / 13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0" y="3276720"/>
              <a:ext cx="6780960" cy="218160"/>
              <a:chOff x="0" y="3276720"/>
              <a:chExt cx="6780960" cy="218160"/>
            </a:xfrm>
          </p:grpSpPr>
          <p:sp>
            <p:nvSpPr>
              <p:cNvPr id="254" name=""/>
              <p:cNvSpPr/>
              <p:nvPr/>
            </p:nvSpPr>
            <p:spPr>
              <a:xfrm>
                <a:off x="0" y="32767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32767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0" y="3494880"/>
              <a:ext cx="6780960" cy="218160"/>
              <a:chOff x="0" y="3494880"/>
              <a:chExt cx="6780960" cy="218160"/>
            </a:xfrm>
          </p:grpSpPr>
          <p:sp>
            <p:nvSpPr>
              <p:cNvPr id="257" name=""/>
              <p:cNvSpPr/>
              <p:nvPr/>
            </p:nvSpPr>
            <p:spPr>
              <a:xfrm>
                <a:off x="0" y="34948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0" y="34948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0" y="3713400"/>
              <a:ext cx="6780960" cy="218160"/>
              <a:chOff x="0" y="3713400"/>
              <a:chExt cx="6780960" cy="218160"/>
            </a:xfrm>
          </p:grpSpPr>
          <p:sp>
            <p:nvSpPr>
              <p:cNvPr id="260" name=""/>
              <p:cNvSpPr/>
              <p:nvPr/>
            </p:nvSpPr>
            <p:spPr>
              <a:xfrm>
                <a:off x="0" y="37134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0" y="37134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0" y="3931920"/>
              <a:ext cx="6780960" cy="218160"/>
              <a:chOff x="0" y="3931920"/>
              <a:chExt cx="6780960" cy="218160"/>
            </a:xfrm>
          </p:grpSpPr>
          <p:sp>
            <p:nvSpPr>
              <p:cNvPr id="263" name=""/>
              <p:cNvSpPr/>
              <p:nvPr/>
            </p:nvSpPr>
            <p:spPr>
              <a:xfrm>
                <a:off x="0" y="39319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39319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huffle( Card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Deck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0" y="4150080"/>
              <a:ext cx="6780960" cy="218520"/>
              <a:chOff x="0" y="4150080"/>
              <a:chExt cx="6780960" cy="218520"/>
            </a:xfrm>
          </p:grpSpPr>
          <p:sp>
            <p:nvSpPr>
              <p:cNvPr id="266" name=""/>
              <p:cNvSpPr/>
              <p:nvPr/>
            </p:nvSpPr>
            <p:spPr>
              <a:xfrm>
                <a:off x="0" y="41500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0" y="41500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0" y="4368600"/>
              <a:ext cx="6780960" cy="218160"/>
              <a:chOff x="0" y="4368600"/>
              <a:chExt cx="6780960" cy="218160"/>
            </a:xfrm>
          </p:grpSpPr>
          <p:sp>
            <p:nvSpPr>
              <p:cNvPr id="269" name=""/>
              <p:cNvSpPr/>
              <p:nvPr/>
            </p:nvSpPr>
            <p:spPr>
              <a:xfrm>
                <a:off x="0" y="43686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0" y="43686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, j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0" y="4587120"/>
              <a:ext cx="6780960" cy="218160"/>
              <a:chOff x="0" y="4587120"/>
              <a:chExt cx="6780960" cy="218160"/>
            </a:xfrm>
          </p:grpSpPr>
          <p:sp>
            <p:nvSpPr>
              <p:cNvPr id="272" name=""/>
              <p:cNvSpPr/>
              <p:nvPr/>
            </p:nvSpPr>
            <p:spPr>
              <a:xfrm>
                <a:off x="0" y="45871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0" y="45871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ard temp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4805640"/>
              <a:ext cx="6780960" cy="218160"/>
              <a:chOff x="0" y="4805640"/>
              <a:chExt cx="6780960" cy="21816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48056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0" y="48056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0" y="5023800"/>
              <a:ext cx="6780960" cy="218520"/>
              <a:chOff x="0" y="5023800"/>
              <a:chExt cx="6780960" cy="218520"/>
            </a:xfrm>
          </p:grpSpPr>
          <p:sp>
            <p:nvSpPr>
              <p:cNvPr id="278" name=""/>
              <p:cNvSpPr/>
              <p:nvPr/>
            </p:nvSpPr>
            <p:spPr>
              <a:xfrm>
                <a:off x="0" y="502380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0" y="502380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i &lt;= 51; i++ )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0" y="5242680"/>
              <a:ext cx="6780960" cy="218160"/>
              <a:chOff x="0" y="5242680"/>
              <a:chExt cx="6780960" cy="218160"/>
            </a:xfrm>
          </p:grpSpPr>
          <p:sp>
            <p:nvSpPr>
              <p:cNvPr id="281" name=""/>
              <p:cNvSpPr/>
              <p:nvPr/>
            </p:nvSpPr>
            <p:spPr>
              <a:xfrm>
                <a:off x="0" y="52426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0" y="52426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j = rand() % 52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0" y="5460840"/>
              <a:ext cx="6780960" cy="218160"/>
              <a:chOff x="0" y="5460840"/>
              <a:chExt cx="6780960" cy="218160"/>
            </a:xfrm>
          </p:grpSpPr>
          <p:sp>
            <p:nvSpPr>
              <p:cNvPr id="284" name=""/>
              <p:cNvSpPr/>
              <p:nvPr/>
            </p:nvSpPr>
            <p:spPr>
              <a:xfrm>
                <a:off x="0" y="54608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54608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temp = wDeck[ i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0" y="5679360"/>
              <a:ext cx="6780960" cy="218160"/>
              <a:chOff x="0" y="5679360"/>
              <a:chExt cx="6780960" cy="218160"/>
            </a:xfrm>
          </p:grpSpPr>
          <p:sp>
            <p:nvSpPr>
              <p:cNvPr id="287" name=""/>
              <p:cNvSpPr/>
              <p:nvPr/>
            </p:nvSpPr>
            <p:spPr>
              <a:xfrm>
                <a:off x="0" y="56793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56793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wDeck[ i ] = wDeck[ j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0" y="5897880"/>
              <a:ext cx="6780960" cy="218520"/>
              <a:chOff x="0" y="5897880"/>
              <a:chExt cx="6780960" cy="218520"/>
            </a:xfrm>
          </p:grpSpPr>
          <p:sp>
            <p:nvSpPr>
              <p:cNvPr id="290" name=""/>
              <p:cNvSpPr/>
              <p:nvPr/>
            </p:nvSpPr>
            <p:spPr>
              <a:xfrm>
                <a:off x="0" y="58978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0" y="58978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wDeck[ j ] = temp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0" y="6116400"/>
              <a:ext cx="6780960" cy="218160"/>
              <a:chOff x="0" y="6116400"/>
              <a:chExt cx="6780960" cy="218160"/>
            </a:xfrm>
          </p:grpSpPr>
          <p:sp>
            <p:nvSpPr>
              <p:cNvPr id="293" name=""/>
              <p:cNvSpPr/>
              <p:nvPr/>
            </p:nvSpPr>
            <p:spPr>
              <a:xfrm>
                <a:off x="0" y="61164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0" y="61164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0" y="6334560"/>
              <a:ext cx="6780960" cy="218160"/>
              <a:chOff x="0" y="6334560"/>
              <a:chExt cx="6780960" cy="218160"/>
            </a:xfrm>
          </p:grpSpPr>
          <p:sp>
            <p:nvSpPr>
              <p:cNvPr id="296" name=""/>
              <p:cNvSpPr/>
              <p:nvPr/>
            </p:nvSpPr>
            <p:spPr>
              <a:xfrm>
                <a:off x="0" y="63345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0" y="63345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3657240" y="1908000"/>
            <a:ext cx="4038840" cy="911520"/>
            <a:chOff x="3657240" y="1908000"/>
            <a:chExt cx="4038840" cy="911520"/>
          </a:xfrm>
        </p:grpSpPr>
        <p:sp>
          <p:nvSpPr>
            <p:cNvPr id="299" name=""/>
            <p:cNvSpPr/>
            <p:nvPr/>
          </p:nvSpPr>
          <p:spPr>
            <a:xfrm>
              <a:off x="4800600" y="190800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t all 52 cards in the deck.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u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termined by remainder (modulus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3657240" y="236232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590920" y="5333760"/>
            <a:ext cx="5104800" cy="676440"/>
            <a:chOff x="2590920" y="5333760"/>
            <a:chExt cx="5104800" cy="676440"/>
          </a:xfrm>
        </p:grpSpPr>
        <p:sp>
          <p:nvSpPr>
            <p:cNvPr id="302" name=""/>
            <p:cNvSpPr/>
            <p:nvPr/>
          </p:nvSpPr>
          <p:spPr>
            <a:xfrm>
              <a:off x="3809880" y="5429520"/>
              <a:ext cx="38858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lect random number betwe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5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 Swap eleme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that el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2590920" y="5333760"/>
              <a:ext cx="1218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535E9-501D-4E5C-8A14-80206EF716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0" y="0"/>
            <a:ext cx="6780960" cy="2590560"/>
            <a:chOff x="0" y="0"/>
            <a:chExt cx="6780960" cy="2590560"/>
          </a:xfrm>
        </p:grpSpPr>
        <p:grpSp>
          <p:nvGrpSpPr>
            <p:cNvPr id="306" name=""/>
            <p:cNvGrpSpPr/>
            <p:nvPr/>
          </p:nvGrpSpPr>
          <p:grpSpPr>
            <a:xfrm>
              <a:off x="0" y="0"/>
              <a:ext cx="6780960" cy="258840"/>
              <a:chOff x="0" y="0"/>
              <a:chExt cx="6780960" cy="258840"/>
            </a:xfrm>
          </p:grpSpPr>
          <p:sp>
            <p:nvSpPr>
              <p:cNvPr id="307" name=""/>
              <p:cNvSpPr/>
              <p:nvPr/>
            </p:nvSpPr>
            <p:spPr>
              <a:xfrm>
                <a:off x="0" y="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0" y="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0" y="258840"/>
              <a:ext cx="6780960" cy="258840"/>
              <a:chOff x="0" y="258840"/>
              <a:chExt cx="6780960" cy="258840"/>
            </a:xfrm>
          </p:grpSpPr>
          <p:sp>
            <p:nvSpPr>
              <p:cNvPr id="310" name=""/>
              <p:cNvSpPr/>
              <p:nvPr/>
            </p:nvSpPr>
            <p:spPr>
              <a:xfrm>
                <a:off x="0" y="25884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0" y="25884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al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ard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Deck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0" y="518040"/>
              <a:ext cx="6780960" cy="259200"/>
              <a:chOff x="0" y="518040"/>
              <a:chExt cx="6780960" cy="259200"/>
            </a:xfrm>
          </p:grpSpPr>
          <p:sp>
            <p:nvSpPr>
              <p:cNvPr id="313" name=""/>
              <p:cNvSpPr/>
              <p:nvPr/>
            </p:nvSpPr>
            <p:spPr>
              <a:xfrm>
                <a:off x="0" y="518040"/>
                <a:ext cx="678096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0" y="518040"/>
                <a:ext cx="678096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777240"/>
              <a:ext cx="6780960" cy="258840"/>
              <a:chOff x="0" y="777240"/>
              <a:chExt cx="6780960" cy="25884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77724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0" y="77724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0" y="1036440"/>
              <a:ext cx="6780960" cy="258840"/>
              <a:chOff x="0" y="1036440"/>
              <a:chExt cx="6780960" cy="258840"/>
            </a:xfrm>
          </p:grpSpPr>
          <p:sp>
            <p:nvSpPr>
              <p:cNvPr id="319" name=""/>
              <p:cNvSpPr/>
              <p:nvPr/>
            </p:nvSpPr>
            <p:spPr>
              <a:xfrm>
                <a:off x="0" y="103644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0" y="103644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0" y="1295280"/>
              <a:ext cx="6780960" cy="258840"/>
              <a:chOff x="0" y="1295280"/>
              <a:chExt cx="6780960" cy="258840"/>
            </a:xfrm>
          </p:grpSpPr>
          <p:sp>
            <p:nvSpPr>
              <p:cNvPr id="322" name=""/>
              <p:cNvSpPr/>
              <p:nvPr/>
            </p:nvSpPr>
            <p:spPr>
              <a:xfrm>
                <a:off x="0" y="129528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0" y="129528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i &lt;= 51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0" y="1554480"/>
              <a:ext cx="6780960" cy="259200"/>
              <a:chOff x="0" y="1554480"/>
              <a:chExt cx="6780960" cy="259200"/>
            </a:xfrm>
          </p:grpSpPr>
          <p:sp>
            <p:nvSpPr>
              <p:cNvPr id="325" name=""/>
              <p:cNvSpPr/>
              <p:nvPr/>
            </p:nvSpPr>
            <p:spPr>
              <a:xfrm>
                <a:off x="0" y="1554480"/>
                <a:ext cx="678096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1554480"/>
                <a:ext cx="6780960" cy="259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5s of %-8s%c", wDeck[ i ].face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0" y="1813680"/>
              <a:ext cx="6780960" cy="258840"/>
              <a:chOff x="0" y="1813680"/>
              <a:chExt cx="6780960" cy="258840"/>
            </a:xfrm>
          </p:grpSpPr>
          <p:sp>
            <p:nvSpPr>
              <p:cNvPr id="328" name=""/>
              <p:cNvSpPr/>
              <p:nvPr/>
            </p:nvSpPr>
            <p:spPr>
              <a:xfrm>
                <a:off x="0" y="181368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0" y="181368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wDeck[ i ].suit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0" y="2072880"/>
              <a:ext cx="6780960" cy="258840"/>
              <a:chOff x="0" y="2072880"/>
              <a:chExt cx="6780960" cy="258840"/>
            </a:xfrm>
          </p:grpSpPr>
          <p:sp>
            <p:nvSpPr>
              <p:cNvPr id="331" name=""/>
              <p:cNvSpPr/>
              <p:nvPr/>
            </p:nvSpPr>
            <p:spPr>
              <a:xfrm>
                <a:off x="0" y="207288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0" y="207288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( i + 1 ) % 2 ? '\t' : '\n'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0" y="2331720"/>
              <a:ext cx="6780960" cy="258840"/>
              <a:chOff x="0" y="2331720"/>
              <a:chExt cx="6780960" cy="258840"/>
            </a:xfrm>
          </p:grpSpPr>
          <p:sp>
            <p:nvSpPr>
              <p:cNvPr id="334" name=""/>
              <p:cNvSpPr/>
              <p:nvPr/>
            </p:nvSpPr>
            <p:spPr>
              <a:xfrm>
                <a:off x="0" y="233172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0" y="2331720"/>
                <a:ext cx="6780960" cy="258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6" name=""/>
          <p:cNvGrpSpPr/>
          <p:nvPr/>
        </p:nvGrpSpPr>
        <p:grpSpPr>
          <a:xfrm>
            <a:off x="4724280" y="781200"/>
            <a:ext cx="4114440" cy="1428120"/>
            <a:chOff x="4724280" y="781200"/>
            <a:chExt cx="4114440" cy="1428120"/>
          </a:xfrm>
        </p:grpSpPr>
        <p:sp>
          <p:nvSpPr>
            <p:cNvPr id="337" name=""/>
            <p:cNvSpPr/>
            <p:nvPr/>
          </p:nvSpPr>
          <p:spPr>
            <a:xfrm>
              <a:off x="6049080" y="781200"/>
              <a:ext cx="27896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ycle through array and print out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5212440" y="1142640"/>
              <a:ext cx="83664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724280" y="1142640"/>
              <a:ext cx="1324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FD051-A00B-49EC-98AC-71A42B0150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6781680" cy="502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ight of Diamonds         Ace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ight of Clubs           Five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ven of Hearts         Deuce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e of Clubs            Ten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uce of Spades           Six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ven of Spades         Deuce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ck of Clubs            Ten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ing of Hearts          Jack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ee of Hearts         Three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ee of Clubs           Nine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n of Hearts         Deuce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n of Clubs          Seven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x of Clubs          Queen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x of Hearts         Three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ine of Diamonds         Ace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ck of Spades          Five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ing of Diamonds       Seven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ine of Spades          Four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x of Spades         Eight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een of Diamonds        Five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e of Spades          Nine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ing of Clubs           Five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ing of Spades          Four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een of Hearts         Eight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r of Spades          Jack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r of Clubs          Queen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7557F-7342-4FA7-851D-ABBC4A2D8C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8   Un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ory that contains a variety of objects over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contains one data member at a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s of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n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hare sp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erves stor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the last data member defined can be acces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n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cla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as stru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on Numbe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on Number val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A5C41-9FCD-4F26-9FBD-557DB2D478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8   Un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n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ment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n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same type: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ing address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ing union members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ing members using pointers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71D46-6D4C-4875-AAFE-16E9CD4E33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Define un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Set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0" y="0"/>
            <a:ext cx="6780960" cy="6553080"/>
            <a:chOff x="0" y="0"/>
            <a:chExt cx="6780960" cy="6553080"/>
          </a:xfrm>
        </p:grpSpPr>
        <p:grpSp>
          <p:nvGrpSpPr>
            <p:cNvPr id="348" name=""/>
            <p:cNvGrpSpPr/>
            <p:nvPr/>
          </p:nvGrpSpPr>
          <p:grpSpPr>
            <a:xfrm>
              <a:off x="0" y="0"/>
              <a:ext cx="6780960" cy="234000"/>
              <a:chOff x="0" y="0"/>
              <a:chExt cx="6780960" cy="234000"/>
            </a:xfrm>
          </p:grpSpPr>
          <p:sp>
            <p:nvSpPr>
              <p:cNvPr id="349" name=""/>
              <p:cNvSpPr/>
              <p:nvPr/>
            </p:nvSpPr>
            <p:spPr>
              <a:xfrm>
                <a:off x="0" y="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0" y="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8000"/>
                    </a:solidFill>
                    <a:latin typeface="Courier New"/>
                    <a:ea typeface="Times New Roman"/>
                  </a:rPr>
                  <a:t>/* Fig. 10.5: fig10_05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0" y="234000"/>
              <a:ext cx="6780960" cy="234000"/>
              <a:chOff x="0" y="234000"/>
              <a:chExt cx="6780960" cy="234000"/>
            </a:xfrm>
          </p:grpSpPr>
          <p:sp>
            <p:nvSpPr>
              <p:cNvPr id="352" name=""/>
              <p:cNvSpPr/>
              <p:nvPr/>
            </p:nvSpPr>
            <p:spPr>
              <a:xfrm>
                <a:off x="0" y="234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0" y="234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8000"/>
                    </a:solidFill>
                    <a:latin typeface="Courier New"/>
                    <a:ea typeface="Times New Roman"/>
                  </a:rPr>
                  <a:t>   An example of a union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0" y="468000"/>
              <a:ext cx="6780960" cy="234000"/>
              <a:chOff x="0" y="468000"/>
              <a:chExt cx="6780960" cy="234000"/>
            </a:xfrm>
          </p:grpSpPr>
          <p:sp>
            <p:nvSpPr>
              <p:cNvPr id="355" name=""/>
              <p:cNvSpPr/>
              <p:nvPr/>
            </p:nvSpPr>
            <p:spPr>
              <a:xfrm>
                <a:off x="0" y="468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0" y="468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0" y="702000"/>
              <a:ext cx="6780960" cy="234000"/>
              <a:chOff x="0" y="702000"/>
              <a:chExt cx="6780960" cy="234000"/>
            </a:xfrm>
          </p:grpSpPr>
          <p:sp>
            <p:nvSpPr>
              <p:cNvPr id="358" name=""/>
              <p:cNvSpPr/>
              <p:nvPr/>
            </p:nvSpPr>
            <p:spPr>
              <a:xfrm>
                <a:off x="0" y="702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702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0" y="936000"/>
              <a:ext cx="6780960" cy="234000"/>
              <a:chOff x="0" y="936000"/>
              <a:chExt cx="6780960" cy="234000"/>
            </a:xfrm>
          </p:grpSpPr>
          <p:sp>
            <p:nvSpPr>
              <p:cNvPr id="361" name=""/>
              <p:cNvSpPr/>
              <p:nvPr/>
            </p:nvSpPr>
            <p:spPr>
              <a:xfrm>
                <a:off x="0" y="936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936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nio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umber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0" y="1170000"/>
              <a:ext cx="6780960" cy="234000"/>
              <a:chOff x="0" y="1170000"/>
              <a:chExt cx="6780960" cy="234000"/>
            </a:xfrm>
          </p:grpSpPr>
          <p:sp>
            <p:nvSpPr>
              <p:cNvPr id="364" name=""/>
              <p:cNvSpPr/>
              <p:nvPr/>
            </p:nvSpPr>
            <p:spPr>
              <a:xfrm>
                <a:off x="0" y="1170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1170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0" y="1404000"/>
              <a:ext cx="6780960" cy="234000"/>
              <a:chOff x="0" y="1404000"/>
              <a:chExt cx="6780960" cy="234000"/>
            </a:xfrm>
          </p:grpSpPr>
          <p:sp>
            <p:nvSpPr>
              <p:cNvPr id="367" name=""/>
              <p:cNvSpPr/>
              <p:nvPr/>
            </p:nvSpPr>
            <p:spPr>
              <a:xfrm>
                <a:off x="0" y="1404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140400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0" y="1638360"/>
              <a:ext cx="6780960" cy="234000"/>
              <a:chOff x="0" y="1638360"/>
              <a:chExt cx="6780960" cy="234000"/>
            </a:xfrm>
          </p:grpSpPr>
          <p:sp>
            <p:nvSpPr>
              <p:cNvPr id="370" name=""/>
              <p:cNvSpPr/>
              <p:nvPr/>
            </p:nvSpPr>
            <p:spPr>
              <a:xfrm>
                <a:off x="0" y="1638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1638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0" y="1872360"/>
              <a:ext cx="6780960" cy="234000"/>
              <a:chOff x="0" y="1872360"/>
              <a:chExt cx="6780960" cy="23400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1872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1872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0" y="2106360"/>
              <a:ext cx="6780960" cy="234000"/>
              <a:chOff x="0" y="2106360"/>
              <a:chExt cx="6780960" cy="234000"/>
            </a:xfrm>
          </p:grpSpPr>
          <p:sp>
            <p:nvSpPr>
              <p:cNvPr id="376" name=""/>
              <p:cNvSpPr/>
              <p:nvPr/>
            </p:nvSpPr>
            <p:spPr>
              <a:xfrm>
                <a:off x="0" y="2106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2106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0" y="2340360"/>
              <a:ext cx="6780960" cy="234000"/>
              <a:chOff x="0" y="2340360"/>
              <a:chExt cx="6780960" cy="234000"/>
            </a:xfrm>
          </p:grpSpPr>
          <p:sp>
            <p:nvSpPr>
              <p:cNvPr id="379" name=""/>
              <p:cNvSpPr/>
              <p:nvPr/>
            </p:nvSpPr>
            <p:spPr>
              <a:xfrm>
                <a:off x="0" y="2340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2340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0" y="2574360"/>
              <a:ext cx="6780960" cy="234000"/>
              <a:chOff x="0" y="2574360"/>
              <a:chExt cx="6780960" cy="234000"/>
            </a:xfrm>
          </p:grpSpPr>
          <p:sp>
            <p:nvSpPr>
              <p:cNvPr id="382" name=""/>
              <p:cNvSpPr/>
              <p:nvPr/>
            </p:nvSpPr>
            <p:spPr>
              <a:xfrm>
                <a:off x="0" y="2574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0" y="2574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nio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umber valu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0" y="2808360"/>
              <a:ext cx="6780960" cy="234000"/>
              <a:chOff x="0" y="2808360"/>
              <a:chExt cx="6780960" cy="234000"/>
            </a:xfrm>
          </p:grpSpPr>
          <p:sp>
            <p:nvSpPr>
              <p:cNvPr id="385" name=""/>
              <p:cNvSpPr/>
              <p:nvPr/>
            </p:nvSpPr>
            <p:spPr>
              <a:xfrm>
                <a:off x="0" y="2808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0" y="2808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0" y="3042360"/>
              <a:ext cx="6780960" cy="234000"/>
              <a:chOff x="0" y="3042360"/>
              <a:chExt cx="6780960" cy="234000"/>
            </a:xfrm>
          </p:grpSpPr>
          <p:sp>
            <p:nvSpPr>
              <p:cNvPr id="388" name=""/>
              <p:cNvSpPr/>
              <p:nvPr/>
            </p:nvSpPr>
            <p:spPr>
              <a:xfrm>
                <a:off x="0" y="3042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0" y="3042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alue.x = 10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0" y="3276360"/>
              <a:ext cx="6780960" cy="234000"/>
              <a:chOff x="0" y="3276360"/>
              <a:chExt cx="6780960" cy="234000"/>
            </a:xfrm>
          </p:grpSpPr>
          <p:sp>
            <p:nvSpPr>
              <p:cNvPr id="391" name=""/>
              <p:cNvSpPr/>
              <p:nvPr/>
            </p:nvSpPr>
            <p:spPr>
              <a:xfrm>
                <a:off x="0" y="3276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327636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%s\n%s\n%s%d\n%s%f\n\n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0" y="3510720"/>
              <a:ext cx="6780960" cy="234000"/>
              <a:chOff x="0" y="3510720"/>
              <a:chExt cx="6780960" cy="234000"/>
            </a:xfrm>
          </p:grpSpPr>
          <p:sp>
            <p:nvSpPr>
              <p:cNvPr id="394" name=""/>
              <p:cNvSpPr/>
              <p:nvPr/>
            </p:nvSpPr>
            <p:spPr>
              <a:xfrm>
                <a:off x="0" y="3510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0" y="3510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"Put a value in the integer member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0" y="3744720"/>
              <a:ext cx="6780960" cy="234000"/>
              <a:chOff x="0" y="3744720"/>
              <a:chExt cx="6780960" cy="234000"/>
            </a:xfrm>
          </p:grpSpPr>
          <p:sp>
            <p:nvSpPr>
              <p:cNvPr id="397" name=""/>
              <p:cNvSpPr/>
              <p:nvPr/>
            </p:nvSpPr>
            <p:spPr>
              <a:xfrm>
                <a:off x="0" y="3744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0" y="3744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"and print both members.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0" y="3978720"/>
              <a:ext cx="6780960" cy="234000"/>
              <a:chOff x="0" y="3978720"/>
              <a:chExt cx="6780960" cy="234000"/>
            </a:xfrm>
          </p:grpSpPr>
          <p:sp>
            <p:nvSpPr>
              <p:cNvPr id="400" name=""/>
              <p:cNvSpPr/>
              <p:nvPr/>
            </p:nvSpPr>
            <p:spPr>
              <a:xfrm>
                <a:off x="0" y="3978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0" y="3978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"int:   ", value.x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0" y="4212720"/>
              <a:ext cx="6780960" cy="234000"/>
              <a:chOff x="0" y="4212720"/>
              <a:chExt cx="6780960" cy="234000"/>
            </a:xfrm>
          </p:grpSpPr>
          <p:sp>
            <p:nvSpPr>
              <p:cNvPr id="403" name=""/>
              <p:cNvSpPr/>
              <p:nvPr/>
            </p:nvSpPr>
            <p:spPr>
              <a:xfrm>
                <a:off x="0" y="4212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0" y="4212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"double:\n", value.y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0" y="4446720"/>
              <a:ext cx="6780960" cy="234000"/>
              <a:chOff x="0" y="4446720"/>
              <a:chExt cx="6780960" cy="234000"/>
            </a:xfrm>
          </p:grpSpPr>
          <p:sp>
            <p:nvSpPr>
              <p:cNvPr id="406" name=""/>
              <p:cNvSpPr/>
              <p:nvPr/>
            </p:nvSpPr>
            <p:spPr>
              <a:xfrm>
                <a:off x="0" y="4446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0" y="4446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0" y="4680720"/>
              <a:ext cx="6780960" cy="234000"/>
              <a:chOff x="0" y="4680720"/>
              <a:chExt cx="6780960" cy="234000"/>
            </a:xfrm>
          </p:grpSpPr>
          <p:sp>
            <p:nvSpPr>
              <p:cNvPr id="409" name=""/>
              <p:cNvSpPr/>
              <p:nvPr/>
            </p:nvSpPr>
            <p:spPr>
              <a:xfrm>
                <a:off x="0" y="4680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0" y="4680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value.y = 100.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0" y="4914720"/>
              <a:ext cx="6780960" cy="234000"/>
              <a:chOff x="0" y="4914720"/>
              <a:chExt cx="6780960" cy="234000"/>
            </a:xfrm>
          </p:grpSpPr>
          <p:sp>
            <p:nvSpPr>
              <p:cNvPr id="412" name=""/>
              <p:cNvSpPr/>
              <p:nvPr/>
            </p:nvSpPr>
            <p:spPr>
              <a:xfrm>
                <a:off x="0" y="4914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4914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%s\n%s\n%s%d\n%s%f\n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0" y="5148720"/>
              <a:ext cx="6780960" cy="234000"/>
              <a:chOff x="0" y="5148720"/>
              <a:chExt cx="6780960" cy="234000"/>
            </a:xfrm>
          </p:grpSpPr>
          <p:sp>
            <p:nvSpPr>
              <p:cNvPr id="415" name=""/>
              <p:cNvSpPr/>
              <p:nvPr/>
            </p:nvSpPr>
            <p:spPr>
              <a:xfrm>
                <a:off x="0" y="5148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5148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"Put a value in the floating member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0" y="5382720"/>
              <a:ext cx="6780960" cy="234000"/>
              <a:chOff x="0" y="5382720"/>
              <a:chExt cx="6780960" cy="234000"/>
            </a:xfrm>
          </p:grpSpPr>
          <p:sp>
            <p:nvSpPr>
              <p:cNvPr id="418" name=""/>
              <p:cNvSpPr/>
              <p:nvPr/>
            </p:nvSpPr>
            <p:spPr>
              <a:xfrm>
                <a:off x="0" y="5382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538272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"and print both members.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0" y="5617080"/>
              <a:ext cx="6780960" cy="234000"/>
              <a:chOff x="0" y="5617080"/>
              <a:chExt cx="6780960" cy="234000"/>
            </a:xfrm>
          </p:grpSpPr>
          <p:sp>
            <p:nvSpPr>
              <p:cNvPr id="421" name=""/>
              <p:cNvSpPr/>
              <p:nvPr/>
            </p:nvSpPr>
            <p:spPr>
              <a:xfrm>
                <a:off x="0" y="561708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0" y="561708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"int:   ", value.x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0" y="5851080"/>
              <a:ext cx="6780960" cy="234000"/>
              <a:chOff x="0" y="5851080"/>
              <a:chExt cx="6780960" cy="234000"/>
            </a:xfrm>
          </p:grpSpPr>
          <p:sp>
            <p:nvSpPr>
              <p:cNvPr id="424" name=""/>
              <p:cNvSpPr/>
              <p:nvPr/>
            </p:nvSpPr>
            <p:spPr>
              <a:xfrm>
                <a:off x="0" y="585108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0" y="585108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"double:\n", value.y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0" y="6085080"/>
              <a:ext cx="6780960" cy="234000"/>
              <a:chOff x="0" y="6085080"/>
              <a:chExt cx="6780960" cy="234000"/>
            </a:xfrm>
          </p:grpSpPr>
          <p:sp>
            <p:nvSpPr>
              <p:cNvPr id="427" name=""/>
              <p:cNvSpPr/>
              <p:nvPr/>
            </p:nvSpPr>
            <p:spPr>
              <a:xfrm>
                <a:off x="0" y="608508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608508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0" y="6319080"/>
              <a:ext cx="6780960" cy="234000"/>
              <a:chOff x="0" y="6319080"/>
              <a:chExt cx="6780960" cy="234000"/>
            </a:xfrm>
          </p:grpSpPr>
          <p:sp>
            <p:nvSpPr>
              <p:cNvPr id="430" name=""/>
              <p:cNvSpPr/>
              <p:nvPr/>
            </p:nvSpPr>
            <p:spPr>
              <a:xfrm>
                <a:off x="0" y="631908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0" y="6319080"/>
                <a:ext cx="6780960" cy="234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196DD-147E-47F7-AA64-37D673A0B0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0"/>
            <a:ext cx="6781680" cy="2649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t a value in the integer 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nd print both me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:  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92559592117433136000000000000000000000000000000000000000000000.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t a value in the floating 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nd print both me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: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0.0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EBAA7-7A06-4B42-AFC2-93EB7D4B74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9   Bitwise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data represented internally as sequences of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bit can be eith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quence of 8 bits forms a by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609480" y="2514600"/>
          <a:ext cx="7848720" cy="3500280"/>
        </p:xfrm>
        <a:graphic>
          <a:graphicData uri="http://schemas.openxmlformats.org/drawingml/2006/table">
            <a:tbl>
              <a:tblPr/>
              <a:tblGrid>
                <a:gridCol w="1295640"/>
                <a:gridCol w="2133360"/>
                <a:gridCol w="4419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per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twise 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bits in the result are set to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f the corresponding bits in the two operands are both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twise 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bits in the result are set to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f at least one of the corresponding bits in the two operands i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^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twise exclusive 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bits in the result are set to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f exactly one of the corresponding bits in the two operands i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&l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 shi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ifts the bits of the first operand left by the number of bits specified by the second operand; fill from right with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bit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 shi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ifts the bits of the first operand right by the number of bits specified by the second operand; the method of filling from the left is machine depend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~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’s compl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bits are set to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nd all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bits are set to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8C87F-A210-4039-BBB1-251A71D25D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1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llections of related variables (aggregates) under on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ntain variables of different data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only used to define records to be stored in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bined with pointers, can create linked lists, stacks, queues, and tr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1CE52-80AD-4E10-9604-474BF5E3D6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Function prototyp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0" y="0"/>
            <a:ext cx="6780960" cy="6552720"/>
            <a:chOff x="0" y="0"/>
            <a:chExt cx="6780960" cy="6552720"/>
          </a:xfrm>
        </p:grpSpPr>
        <p:grpSp>
          <p:nvGrpSpPr>
            <p:cNvPr id="439" name=""/>
            <p:cNvGrpSpPr/>
            <p:nvPr/>
          </p:nvGrpSpPr>
          <p:grpSpPr>
            <a:xfrm>
              <a:off x="0" y="0"/>
              <a:ext cx="6780960" cy="218160"/>
              <a:chOff x="0" y="0"/>
              <a:chExt cx="6780960" cy="218160"/>
            </a:xfrm>
          </p:grpSpPr>
          <p:sp>
            <p:nvSpPr>
              <p:cNvPr id="440" name=""/>
              <p:cNvSpPr/>
              <p:nvPr/>
            </p:nvSpPr>
            <p:spPr>
              <a:xfrm>
                <a:off x="0" y="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0" y="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8000"/>
                    </a:solidFill>
                    <a:latin typeface="Courier New"/>
                    <a:ea typeface="Times New Roman"/>
                  </a:rPr>
                  <a:t>/* Fig. 10.9: fig10_09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0" y="218160"/>
              <a:ext cx="6780960" cy="218160"/>
              <a:chOff x="0" y="218160"/>
              <a:chExt cx="6780960" cy="218160"/>
            </a:xfrm>
          </p:grpSpPr>
          <p:sp>
            <p:nvSpPr>
              <p:cNvPr id="443" name=""/>
              <p:cNvSpPr/>
              <p:nvPr/>
            </p:nvSpPr>
            <p:spPr>
              <a:xfrm>
                <a:off x="0" y="2181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2181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8000"/>
                    </a:solidFill>
                    <a:latin typeface="Courier New"/>
                    <a:ea typeface="Times New Roman"/>
                  </a:rPr>
                  <a:t>   Using the bitwise AND, bitwise inclusive OR, bitwi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0" y="436680"/>
              <a:ext cx="6780960" cy="218520"/>
              <a:chOff x="0" y="436680"/>
              <a:chExt cx="6780960" cy="218520"/>
            </a:xfrm>
          </p:grpSpPr>
          <p:sp>
            <p:nvSpPr>
              <p:cNvPr id="446" name=""/>
              <p:cNvSpPr/>
              <p:nvPr/>
            </p:nvSpPr>
            <p:spPr>
              <a:xfrm>
                <a:off x="0" y="4366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0" y="4366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8000"/>
                    </a:solidFill>
                    <a:latin typeface="Courier New"/>
                    <a:ea typeface="Times New Roman"/>
                  </a:rPr>
                  <a:t>   exclusive OR and bitwise complement operators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0" y="655200"/>
              <a:ext cx="6780960" cy="218160"/>
              <a:chOff x="0" y="655200"/>
              <a:chExt cx="6780960" cy="218160"/>
            </a:xfrm>
          </p:grpSpPr>
          <p:sp>
            <p:nvSpPr>
              <p:cNvPr id="449" name=""/>
              <p:cNvSpPr/>
              <p:nvPr/>
            </p:nvSpPr>
            <p:spPr>
              <a:xfrm>
                <a:off x="0" y="6552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0" y="6552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0" y="873720"/>
              <a:ext cx="6780960" cy="218160"/>
              <a:chOff x="0" y="873720"/>
              <a:chExt cx="6780960" cy="218160"/>
            </a:xfrm>
          </p:grpSpPr>
          <p:sp>
            <p:nvSpPr>
              <p:cNvPr id="452" name=""/>
              <p:cNvSpPr/>
              <p:nvPr/>
            </p:nvSpPr>
            <p:spPr>
              <a:xfrm>
                <a:off x="0" y="8737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0" y="8737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0" y="1091880"/>
              <a:ext cx="6780960" cy="218160"/>
              <a:chOff x="0" y="1091880"/>
              <a:chExt cx="6780960" cy="218160"/>
            </a:xfrm>
          </p:grpSpPr>
          <p:sp>
            <p:nvSpPr>
              <p:cNvPr id="455" name=""/>
              <p:cNvSpPr/>
              <p:nvPr/>
            </p:nvSpPr>
            <p:spPr>
              <a:xfrm>
                <a:off x="0" y="10918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0" y="10918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isplayBit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nsigne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0" y="1310400"/>
              <a:ext cx="6780960" cy="218520"/>
              <a:chOff x="0" y="1310400"/>
              <a:chExt cx="6780960" cy="218520"/>
            </a:xfrm>
          </p:grpSpPr>
          <p:sp>
            <p:nvSpPr>
              <p:cNvPr id="458" name=""/>
              <p:cNvSpPr/>
              <p:nvPr/>
            </p:nvSpPr>
            <p:spPr>
              <a:xfrm>
                <a:off x="0" y="131040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131040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0" y="1528920"/>
              <a:ext cx="6780960" cy="218160"/>
              <a:chOff x="0" y="1528920"/>
              <a:chExt cx="6780960" cy="218160"/>
            </a:xfrm>
          </p:grpSpPr>
          <p:sp>
            <p:nvSpPr>
              <p:cNvPr id="461" name=""/>
              <p:cNvSpPr/>
              <p:nvPr/>
            </p:nvSpPr>
            <p:spPr>
              <a:xfrm>
                <a:off x="0" y="15289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0" y="15289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0" y="1747440"/>
              <a:ext cx="6780960" cy="218160"/>
              <a:chOff x="0" y="1747440"/>
              <a:chExt cx="6780960" cy="218160"/>
            </a:xfrm>
          </p:grpSpPr>
          <p:sp>
            <p:nvSpPr>
              <p:cNvPr id="464" name=""/>
              <p:cNvSpPr/>
              <p:nvPr/>
            </p:nvSpPr>
            <p:spPr>
              <a:xfrm>
                <a:off x="0" y="17474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17474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0" y="1965960"/>
              <a:ext cx="6780960" cy="218160"/>
              <a:chOff x="0" y="1965960"/>
              <a:chExt cx="6780960" cy="218160"/>
            </a:xfrm>
          </p:grpSpPr>
          <p:sp>
            <p:nvSpPr>
              <p:cNvPr id="467" name=""/>
              <p:cNvSpPr/>
              <p:nvPr/>
            </p:nvSpPr>
            <p:spPr>
              <a:xfrm>
                <a:off x="0" y="19659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19659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nsigne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umber1, number2, mask, setBits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0" y="2184120"/>
              <a:ext cx="6780960" cy="218520"/>
              <a:chOff x="0" y="2184120"/>
              <a:chExt cx="6780960" cy="218520"/>
            </a:xfrm>
          </p:grpSpPr>
          <p:sp>
            <p:nvSpPr>
              <p:cNvPr id="470" name=""/>
              <p:cNvSpPr/>
              <p:nvPr/>
            </p:nvSpPr>
            <p:spPr>
              <a:xfrm>
                <a:off x="0" y="218412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218412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0" y="2402640"/>
              <a:ext cx="6780960" cy="218160"/>
              <a:chOff x="0" y="2402640"/>
              <a:chExt cx="6780960" cy="218160"/>
            </a:xfrm>
          </p:grpSpPr>
          <p:sp>
            <p:nvSpPr>
              <p:cNvPr id="473" name=""/>
              <p:cNvSpPr/>
              <p:nvPr/>
            </p:nvSpPr>
            <p:spPr>
              <a:xfrm>
                <a:off x="0" y="24026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24026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number1 = 65535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0" y="2621160"/>
              <a:ext cx="6780960" cy="218160"/>
              <a:chOff x="0" y="2621160"/>
              <a:chExt cx="6780960" cy="218160"/>
            </a:xfrm>
          </p:grpSpPr>
          <p:sp>
            <p:nvSpPr>
              <p:cNvPr id="476" name=""/>
              <p:cNvSpPr/>
              <p:nvPr/>
            </p:nvSpPr>
            <p:spPr>
              <a:xfrm>
                <a:off x="0" y="26211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26211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mask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0" y="2839680"/>
              <a:ext cx="6780960" cy="218160"/>
              <a:chOff x="0" y="2839680"/>
              <a:chExt cx="6780960" cy="218160"/>
            </a:xfrm>
          </p:grpSpPr>
          <p:sp>
            <p:nvSpPr>
              <p:cNvPr id="479" name=""/>
              <p:cNvSpPr/>
              <p:nvPr/>
            </p:nvSpPr>
            <p:spPr>
              <a:xfrm>
                <a:off x="0" y="28396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0" y="28396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The result of combining the following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0" y="3057840"/>
              <a:ext cx="6780960" cy="218520"/>
              <a:chOff x="0" y="3057840"/>
              <a:chExt cx="6780960" cy="218520"/>
            </a:xfrm>
          </p:grpSpPr>
          <p:sp>
            <p:nvSpPr>
              <p:cNvPr id="482" name=""/>
              <p:cNvSpPr/>
              <p:nvPr/>
            </p:nvSpPr>
            <p:spPr>
              <a:xfrm>
                <a:off x="0" y="305784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305784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splayBits( number1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0" y="3276720"/>
              <a:ext cx="6780960" cy="218160"/>
              <a:chOff x="0" y="3276720"/>
              <a:chExt cx="6780960" cy="218160"/>
            </a:xfrm>
          </p:grpSpPr>
          <p:sp>
            <p:nvSpPr>
              <p:cNvPr id="485" name=""/>
              <p:cNvSpPr/>
              <p:nvPr/>
            </p:nvSpPr>
            <p:spPr>
              <a:xfrm>
                <a:off x="0" y="32767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0" y="32767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splayBits( mask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0" y="3494880"/>
              <a:ext cx="6780960" cy="218160"/>
              <a:chOff x="0" y="3494880"/>
              <a:chExt cx="6780960" cy="218160"/>
            </a:xfrm>
          </p:grpSpPr>
          <p:sp>
            <p:nvSpPr>
              <p:cNvPr id="488" name=""/>
              <p:cNvSpPr/>
              <p:nvPr/>
            </p:nvSpPr>
            <p:spPr>
              <a:xfrm>
                <a:off x="0" y="34948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0" y="34948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using the bitwise AND operator &amp; is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0" y="3713400"/>
              <a:ext cx="6780960" cy="218160"/>
              <a:chOff x="0" y="3713400"/>
              <a:chExt cx="6780960" cy="218160"/>
            </a:xfrm>
          </p:grpSpPr>
          <p:sp>
            <p:nvSpPr>
              <p:cNvPr id="491" name=""/>
              <p:cNvSpPr/>
              <p:nvPr/>
            </p:nvSpPr>
            <p:spPr>
              <a:xfrm>
                <a:off x="0" y="37134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0" y="37134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splayBits( number1 &amp; mask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0" y="3931920"/>
              <a:ext cx="6780960" cy="218160"/>
              <a:chOff x="0" y="3931920"/>
              <a:chExt cx="6780960" cy="218160"/>
            </a:xfrm>
          </p:grpSpPr>
          <p:sp>
            <p:nvSpPr>
              <p:cNvPr id="494" name=""/>
              <p:cNvSpPr/>
              <p:nvPr/>
            </p:nvSpPr>
            <p:spPr>
              <a:xfrm>
                <a:off x="0" y="39319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0" y="39319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6" name=""/>
            <p:cNvGrpSpPr/>
            <p:nvPr/>
          </p:nvGrpSpPr>
          <p:grpSpPr>
            <a:xfrm>
              <a:off x="0" y="4150080"/>
              <a:ext cx="6780960" cy="218520"/>
              <a:chOff x="0" y="4150080"/>
              <a:chExt cx="6780960" cy="218520"/>
            </a:xfrm>
          </p:grpSpPr>
          <p:sp>
            <p:nvSpPr>
              <p:cNvPr id="497" name=""/>
              <p:cNvSpPr/>
              <p:nvPr/>
            </p:nvSpPr>
            <p:spPr>
              <a:xfrm>
                <a:off x="0" y="41500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0" y="41500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number1 = 15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0" y="4368600"/>
              <a:ext cx="6780960" cy="218160"/>
              <a:chOff x="0" y="4368600"/>
              <a:chExt cx="6780960" cy="218160"/>
            </a:xfrm>
          </p:grpSpPr>
          <p:sp>
            <p:nvSpPr>
              <p:cNvPr id="500" name=""/>
              <p:cNvSpPr/>
              <p:nvPr/>
            </p:nvSpPr>
            <p:spPr>
              <a:xfrm>
                <a:off x="0" y="43686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0" y="43686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etBits = 24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0" y="4587120"/>
              <a:ext cx="6780960" cy="218160"/>
              <a:chOff x="0" y="4587120"/>
              <a:chExt cx="6780960" cy="218160"/>
            </a:xfrm>
          </p:grpSpPr>
          <p:sp>
            <p:nvSpPr>
              <p:cNvPr id="503" name=""/>
              <p:cNvSpPr/>
              <p:nvPr/>
            </p:nvSpPr>
            <p:spPr>
              <a:xfrm>
                <a:off x="0" y="45871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0" y="458712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The result of combining the following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0" y="4805640"/>
              <a:ext cx="6780960" cy="218160"/>
              <a:chOff x="0" y="4805640"/>
              <a:chExt cx="6780960" cy="218160"/>
            </a:xfrm>
          </p:grpSpPr>
          <p:sp>
            <p:nvSpPr>
              <p:cNvPr id="506" name=""/>
              <p:cNvSpPr/>
              <p:nvPr/>
            </p:nvSpPr>
            <p:spPr>
              <a:xfrm>
                <a:off x="0" y="48056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0" y="48056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splayBits( number1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0" y="5023800"/>
              <a:ext cx="6780960" cy="218520"/>
              <a:chOff x="0" y="5023800"/>
              <a:chExt cx="6780960" cy="218520"/>
            </a:xfrm>
          </p:grpSpPr>
          <p:sp>
            <p:nvSpPr>
              <p:cNvPr id="509" name=""/>
              <p:cNvSpPr/>
              <p:nvPr/>
            </p:nvSpPr>
            <p:spPr>
              <a:xfrm>
                <a:off x="0" y="502380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0" y="502380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splayBits( setBits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0" y="5242680"/>
              <a:ext cx="6780960" cy="218160"/>
              <a:chOff x="0" y="5242680"/>
              <a:chExt cx="6780960" cy="218160"/>
            </a:xfrm>
          </p:grpSpPr>
          <p:sp>
            <p:nvSpPr>
              <p:cNvPr id="512" name=""/>
              <p:cNvSpPr/>
              <p:nvPr/>
            </p:nvSpPr>
            <p:spPr>
              <a:xfrm>
                <a:off x="0" y="52426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0" y="524268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using the bitwise inclusive OR operator | is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0" y="5460840"/>
              <a:ext cx="6780960" cy="218160"/>
              <a:chOff x="0" y="5460840"/>
              <a:chExt cx="6780960" cy="218160"/>
            </a:xfrm>
          </p:grpSpPr>
          <p:sp>
            <p:nvSpPr>
              <p:cNvPr id="515" name=""/>
              <p:cNvSpPr/>
              <p:nvPr/>
            </p:nvSpPr>
            <p:spPr>
              <a:xfrm>
                <a:off x="0" y="54608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0" y="546084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splayBits( number1 | setBits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0" y="5679360"/>
              <a:ext cx="6780960" cy="218160"/>
              <a:chOff x="0" y="5679360"/>
              <a:chExt cx="6780960" cy="218160"/>
            </a:xfrm>
          </p:grpSpPr>
          <p:sp>
            <p:nvSpPr>
              <p:cNvPr id="518" name=""/>
              <p:cNvSpPr/>
              <p:nvPr/>
            </p:nvSpPr>
            <p:spPr>
              <a:xfrm>
                <a:off x="0" y="56793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0" y="56793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0" y="5897880"/>
              <a:ext cx="6780960" cy="218520"/>
              <a:chOff x="0" y="5897880"/>
              <a:chExt cx="6780960" cy="218520"/>
            </a:xfrm>
          </p:grpSpPr>
          <p:sp>
            <p:nvSpPr>
              <p:cNvPr id="521" name=""/>
              <p:cNvSpPr/>
              <p:nvPr/>
            </p:nvSpPr>
            <p:spPr>
              <a:xfrm>
                <a:off x="0" y="58978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0" y="5897880"/>
                <a:ext cx="6780960" cy="218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number1 = 139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0" y="6116400"/>
              <a:ext cx="6780960" cy="218160"/>
              <a:chOff x="0" y="6116400"/>
              <a:chExt cx="6780960" cy="218160"/>
            </a:xfrm>
          </p:grpSpPr>
          <p:sp>
            <p:nvSpPr>
              <p:cNvPr id="524" name=""/>
              <p:cNvSpPr/>
              <p:nvPr/>
            </p:nvSpPr>
            <p:spPr>
              <a:xfrm>
                <a:off x="0" y="61164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0" y="611640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number2 = 199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0" y="6334560"/>
              <a:ext cx="6780960" cy="218160"/>
              <a:chOff x="0" y="6334560"/>
              <a:chExt cx="6780960" cy="218160"/>
            </a:xfrm>
          </p:grpSpPr>
          <p:sp>
            <p:nvSpPr>
              <p:cNvPr id="527" name=""/>
              <p:cNvSpPr/>
              <p:nvPr/>
            </p:nvSpPr>
            <p:spPr>
              <a:xfrm>
                <a:off x="0" y="63345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0" y="6334560"/>
                <a:ext cx="6780960" cy="218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The result of combining the following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FC025-F5DC-404A-8DA6-80C5C7945B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Function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0" y="0"/>
            <a:ext cx="6780960" cy="6476760"/>
            <a:chOff x="0" y="0"/>
            <a:chExt cx="6780960" cy="6476760"/>
          </a:xfrm>
        </p:grpSpPr>
        <p:grpSp>
          <p:nvGrpSpPr>
            <p:cNvPr id="531" name=""/>
            <p:cNvGrpSpPr/>
            <p:nvPr/>
          </p:nvGrpSpPr>
          <p:grpSpPr>
            <a:xfrm>
              <a:off x="0" y="0"/>
              <a:ext cx="6780960" cy="215640"/>
              <a:chOff x="0" y="0"/>
              <a:chExt cx="6780960" cy="215640"/>
            </a:xfrm>
          </p:grpSpPr>
          <p:sp>
            <p:nvSpPr>
              <p:cNvPr id="532" name=""/>
              <p:cNvSpPr/>
              <p:nvPr/>
            </p:nvSpPr>
            <p:spPr>
              <a:xfrm>
                <a:off x="0" y="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0" y="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splayBits( number1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0" y="215640"/>
              <a:ext cx="6780960" cy="215640"/>
              <a:chOff x="0" y="215640"/>
              <a:chExt cx="6780960" cy="215640"/>
            </a:xfrm>
          </p:grpSpPr>
          <p:sp>
            <p:nvSpPr>
              <p:cNvPr id="535" name=""/>
              <p:cNvSpPr/>
              <p:nvPr/>
            </p:nvSpPr>
            <p:spPr>
              <a:xfrm>
                <a:off x="0" y="21564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0" y="21564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splayBits( number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0" y="431640"/>
              <a:ext cx="6780960" cy="216000"/>
              <a:chOff x="0" y="431640"/>
              <a:chExt cx="6780960" cy="216000"/>
            </a:xfrm>
          </p:grpSpPr>
          <p:sp>
            <p:nvSpPr>
              <p:cNvPr id="538" name=""/>
              <p:cNvSpPr/>
              <p:nvPr/>
            </p:nvSpPr>
            <p:spPr>
              <a:xfrm>
                <a:off x="0" y="431640"/>
                <a:ext cx="678096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0" y="431640"/>
                <a:ext cx="678096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using the bitwise exclusive OR operator ^ is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0" y="647640"/>
              <a:ext cx="6780960" cy="215640"/>
              <a:chOff x="0" y="647640"/>
              <a:chExt cx="6780960" cy="215640"/>
            </a:xfrm>
          </p:grpSpPr>
          <p:sp>
            <p:nvSpPr>
              <p:cNvPr id="541" name=""/>
              <p:cNvSpPr/>
              <p:nvPr/>
            </p:nvSpPr>
            <p:spPr>
              <a:xfrm>
                <a:off x="0" y="64764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0" y="64764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splayBits( number1 ^ number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0" y="863640"/>
              <a:ext cx="6780960" cy="215640"/>
              <a:chOff x="0" y="863640"/>
              <a:chExt cx="6780960" cy="215640"/>
            </a:xfrm>
          </p:grpSpPr>
          <p:sp>
            <p:nvSpPr>
              <p:cNvPr id="544" name=""/>
              <p:cNvSpPr/>
              <p:nvPr/>
            </p:nvSpPr>
            <p:spPr>
              <a:xfrm>
                <a:off x="0" y="86364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0" y="86364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0" y="1079280"/>
              <a:ext cx="6780960" cy="215640"/>
              <a:chOff x="0" y="1079280"/>
              <a:chExt cx="6780960" cy="215640"/>
            </a:xfrm>
          </p:grpSpPr>
          <p:sp>
            <p:nvSpPr>
              <p:cNvPr id="547" name=""/>
              <p:cNvSpPr/>
              <p:nvPr/>
            </p:nvSpPr>
            <p:spPr>
              <a:xfrm>
                <a:off x="0" y="107928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0" y="107928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number1 = 21845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0" y="1295280"/>
              <a:ext cx="6780960" cy="216000"/>
              <a:chOff x="0" y="1295280"/>
              <a:chExt cx="6780960" cy="216000"/>
            </a:xfrm>
          </p:grpSpPr>
          <p:sp>
            <p:nvSpPr>
              <p:cNvPr id="550" name=""/>
              <p:cNvSpPr/>
              <p:nvPr/>
            </p:nvSpPr>
            <p:spPr>
              <a:xfrm>
                <a:off x="0" y="1295280"/>
                <a:ext cx="678096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0" y="1295280"/>
                <a:ext cx="678096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The one's complement of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0" y="1511280"/>
              <a:ext cx="6780960" cy="215640"/>
              <a:chOff x="0" y="1511280"/>
              <a:chExt cx="6780960" cy="215640"/>
            </a:xfrm>
          </p:grpSpPr>
          <p:sp>
            <p:nvSpPr>
              <p:cNvPr id="553" name=""/>
              <p:cNvSpPr/>
              <p:nvPr/>
            </p:nvSpPr>
            <p:spPr>
              <a:xfrm>
                <a:off x="0" y="151128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0" y="151128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splayBits( number1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0" y="1727280"/>
              <a:ext cx="6780960" cy="215640"/>
              <a:chOff x="0" y="1727280"/>
              <a:chExt cx="6780960" cy="215640"/>
            </a:xfrm>
          </p:grpSpPr>
          <p:sp>
            <p:nvSpPr>
              <p:cNvPr id="556" name=""/>
              <p:cNvSpPr/>
              <p:nvPr/>
            </p:nvSpPr>
            <p:spPr>
              <a:xfrm>
                <a:off x="0" y="172728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0" y="172728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is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0" y="1942920"/>
              <a:ext cx="6780960" cy="215640"/>
              <a:chOff x="0" y="1942920"/>
              <a:chExt cx="6780960" cy="215640"/>
            </a:xfrm>
          </p:grpSpPr>
          <p:sp>
            <p:nvSpPr>
              <p:cNvPr id="559" name=""/>
              <p:cNvSpPr/>
              <p:nvPr/>
            </p:nvSpPr>
            <p:spPr>
              <a:xfrm>
                <a:off x="0" y="194292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0" y="194292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isplayBits( ~number1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0" y="2158920"/>
              <a:ext cx="6780960" cy="216000"/>
              <a:chOff x="0" y="2158920"/>
              <a:chExt cx="6780960" cy="216000"/>
            </a:xfrm>
          </p:grpSpPr>
          <p:sp>
            <p:nvSpPr>
              <p:cNvPr id="562" name=""/>
              <p:cNvSpPr/>
              <p:nvPr/>
            </p:nvSpPr>
            <p:spPr>
              <a:xfrm>
                <a:off x="0" y="2158920"/>
                <a:ext cx="678096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0" y="2158920"/>
                <a:ext cx="678096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0" y="2374920"/>
              <a:ext cx="6780960" cy="215640"/>
              <a:chOff x="0" y="2374920"/>
              <a:chExt cx="6780960" cy="215640"/>
            </a:xfrm>
          </p:grpSpPr>
          <p:sp>
            <p:nvSpPr>
              <p:cNvPr id="565" name=""/>
              <p:cNvSpPr/>
              <p:nvPr/>
            </p:nvSpPr>
            <p:spPr>
              <a:xfrm>
                <a:off x="0" y="237492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0" y="237492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0" y="2590920"/>
              <a:ext cx="6780960" cy="215640"/>
              <a:chOff x="0" y="2590920"/>
              <a:chExt cx="6780960" cy="215640"/>
            </a:xfrm>
          </p:grpSpPr>
          <p:sp>
            <p:nvSpPr>
              <p:cNvPr id="568" name=""/>
              <p:cNvSpPr/>
              <p:nvPr/>
            </p:nvSpPr>
            <p:spPr>
              <a:xfrm>
                <a:off x="0" y="259092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0" y="259092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0" y="2806560"/>
              <a:ext cx="6780960" cy="215640"/>
              <a:chOff x="0" y="2806560"/>
              <a:chExt cx="6780960" cy="215640"/>
            </a:xfrm>
          </p:grpSpPr>
          <p:sp>
            <p:nvSpPr>
              <p:cNvPr id="571" name=""/>
              <p:cNvSpPr/>
              <p:nvPr/>
            </p:nvSpPr>
            <p:spPr>
              <a:xfrm>
                <a:off x="0" y="280656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0" y="280656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0" y="3022560"/>
              <a:ext cx="6780960" cy="216000"/>
              <a:chOff x="0" y="3022560"/>
              <a:chExt cx="6780960" cy="216000"/>
            </a:xfrm>
          </p:grpSpPr>
          <p:sp>
            <p:nvSpPr>
              <p:cNvPr id="574" name=""/>
              <p:cNvSpPr/>
              <p:nvPr/>
            </p:nvSpPr>
            <p:spPr>
              <a:xfrm>
                <a:off x="0" y="3022560"/>
                <a:ext cx="678096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0" y="3022560"/>
                <a:ext cx="678096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isplayBits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nsigne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valu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0" y="3238560"/>
              <a:ext cx="6780960" cy="215640"/>
              <a:chOff x="0" y="3238560"/>
              <a:chExt cx="6780960" cy="215640"/>
            </a:xfrm>
          </p:grpSpPr>
          <p:sp>
            <p:nvSpPr>
              <p:cNvPr id="577" name=""/>
              <p:cNvSpPr/>
              <p:nvPr/>
            </p:nvSpPr>
            <p:spPr>
              <a:xfrm>
                <a:off x="0" y="323856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0" y="323856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0" y="3454560"/>
              <a:ext cx="6780960" cy="215640"/>
              <a:chOff x="0" y="3454560"/>
              <a:chExt cx="6780960" cy="215640"/>
            </a:xfrm>
          </p:grpSpPr>
          <p:sp>
            <p:nvSpPr>
              <p:cNvPr id="580" name=""/>
              <p:cNvSpPr/>
              <p:nvPr/>
            </p:nvSpPr>
            <p:spPr>
              <a:xfrm>
                <a:off x="0" y="345456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345456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nsigne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, displayMask = 1 &lt;&lt; 3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0" y="3670200"/>
              <a:ext cx="6780960" cy="215640"/>
              <a:chOff x="0" y="3670200"/>
              <a:chExt cx="6780960" cy="215640"/>
            </a:xfrm>
          </p:grpSpPr>
          <p:sp>
            <p:nvSpPr>
              <p:cNvPr id="583" name=""/>
              <p:cNvSpPr/>
              <p:nvPr/>
            </p:nvSpPr>
            <p:spPr>
              <a:xfrm>
                <a:off x="0" y="367020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0" y="367020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0" y="3886200"/>
              <a:ext cx="6780960" cy="215640"/>
              <a:chOff x="0" y="3886200"/>
              <a:chExt cx="6780960" cy="215640"/>
            </a:xfrm>
          </p:grpSpPr>
          <p:sp>
            <p:nvSpPr>
              <p:cNvPr id="586" name=""/>
              <p:cNvSpPr/>
              <p:nvPr/>
            </p:nvSpPr>
            <p:spPr>
              <a:xfrm>
                <a:off x="0" y="388620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0" y="388620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%7u = ", valu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0" y="4102200"/>
              <a:ext cx="6780960" cy="216000"/>
              <a:chOff x="0" y="4102200"/>
              <a:chExt cx="6780960" cy="216000"/>
            </a:xfrm>
          </p:grpSpPr>
          <p:sp>
            <p:nvSpPr>
              <p:cNvPr id="589" name=""/>
              <p:cNvSpPr/>
              <p:nvPr/>
            </p:nvSpPr>
            <p:spPr>
              <a:xfrm>
                <a:off x="0" y="4102200"/>
                <a:ext cx="678096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0" y="4102200"/>
                <a:ext cx="678096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0" y="4318200"/>
              <a:ext cx="6780960" cy="215640"/>
              <a:chOff x="0" y="4318200"/>
              <a:chExt cx="6780960" cy="215640"/>
            </a:xfrm>
          </p:grpSpPr>
          <p:sp>
            <p:nvSpPr>
              <p:cNvPr id="592" name=""/>
              <p:cNvSpPr/>
              <p:nvPr/>
            </p:nvSpPr>
            <p:spPr>
              <a:xfrm>
                <a:off x="0" y="431820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0" y="431820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 = 1; c &lt;= 32; c++ )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0" y="4533840"/>
              <a:ext cx="6780960" cy="215640"/>
              <a:chOff x="0" y="4533840"/>
              <a:chExt cx="6780960" cy="215640"/>
            </a:xfrm>
          </p:grpSpPr>
          <p:sp>
            <p:nvSpPr>
              <p:cNvPr id="595" name=""/>
              <p:cNvSpPr/>
              <p:nvPr/>
            </p:nvSpPr>
            <p:spPr>
              <a:xfrm>
                <a:off x="0" y="453384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0" y="453384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utchar( value &amp; displayMask ? '1' : '0'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0" y="4749840"/>
              <a:ext cx="6780960" cy="215640"/>
              <a:chOff x="0" y="4749840"/>
              <a:chExt cx="6780960" cy="215640"/>
            </a:xfrm>
          </p:grpSpPr>
          <p:sp>
            <p:nvSpPr>
              <p:cNvPr id="598" name=""/>
              <p:cNvSpPr/>
              <p:nvPr/>
            </p:nvSpPr>
            <p:spPr>
              <a:xfrm>
                <a:off x="0" y="474984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0" y="474984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value &lt;&lt;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0" y="4965840"/>
              <a:ext cx="6780960" cy="216000"/>
              <a:chOff x="0" y="4965840"/>
              <a:chExt cx="6780960" cy="216000"/>
            </a:xfrm>
          </p:grpSpPr>
          <p:sp>
            <p:nvSpPr>
              <p:cNvPr id="601" name=""/>
              <p:cNvSpPr/>
              <p:nvPr/>
            </p:nvSpPr>
            <p:spPr>
              <a:xfrm>
                <a:off x="0" y="4965840"/>
                <a:ext cx="678096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0" y="4965840"/>
                <a:ext cx="678096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0" y="5181840"/>
              <a:ext cx="6780960" cy="215640"/>
              <a:chOff x="0" y="5181840"/>
              <a:chExt cx="6780960" cy="215640"/>
            </a:xfrm>
          </p:grpSpPr>
          <p:sp>
            <p:nvSpPr>
              <p:cNvPr id="604" name=""/>
              <p:cNvSpPr/>
              <p:nvPr/>
            </p:nvSpPr>
            <p:spPr>
              <a:xfrm>
                <a:off x="0" y="518184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0" y="518184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 % 8 == 0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0" y="5397480"/>
              <a:ext cx="6780960" cy="215640"/>
              <a:chOff x="0" y="5397480"/>
              <a:chExt cx="6780960" cy="215640"/>
            </a:xfrm>
          </p:grpSpPr>
          <p:sp>
            <p:nvSpPr>
              <p:cNvPr id="607" name=""/>
              <p:cNvSpPr/>
              <p:nvPr/>
            </p:nvSpPr>
            <p:spPr>
              <a:xfrm>
                <a:off x="0" y="539748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0" y="539748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putchar( ' '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0" y="5613480"/>
              <a:ext cx="6780960" cy="215640"/>
              <a:chOff x="0" y="5613480"/>
              <a:chExt cx="6780960" cy="215640"/>
            </a:xfrm>
          </p:grpSpPr>
          <p:sp>
            <p:nvSpPr>
              <p:cNvPr id="610" name=""/>
              <p:cNvSpPr/>
              <p:nvPr/>
            </p:nvSpPr>
            <p:spPr>
              <a:xfrm>
                <a:off x="0" y="561348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0" y="561348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0" y="5829480"/>
              <a:ext cx="6780960" cy="216000"/>
              <a:chOff x="0" y="5829480"/>
              <a:chExt cx="6780960" cy="216000"/>
            </a:xfrm>
          </p:grpSpPr>
          <p:sp>
            <p:nvSpPr>
              <p:cNvPr id="613" name=""/>
              <p:cNvSpPr/>
              <p:nvPr/>
            </p:nvSpPr>
            <p:spPr>
              <a:xfrm>
                <a:off x="0" y="5829480"/>
                <a:ext cx="678096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0" y="5829480"/>
                <a:ext cx="6780960" cy="21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0" y="6045480"/>
              <a:ext cx="6780960" cy="215640"/>
              <a:chOff x="0" y="6045480"/>
              <a:chExt cx="6780960" cy="215640"/>
            </a:xfrm>
          </p:grpSpPr>
          <p:sp>
            <p:nvSpPr>
              <p:cNvPr id="616" name=""/>
              <p:cNvSpPr/>
              <p:nvPr/>
            </p:nvSpPr>
            <p:spPr>
              <a:xfrm>
                <a:off x="0" y="604548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0" y="604548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utchar( '\n'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0" y="6261120"/>
              <a:ext cx="6780960" cy="215640"/>
              <a:chOff x="0" y="6261120"/>
              <a:chExt cx="6780960" cy="215640"/>
            </a:xfrm>
          </p:grpSpPr>
          <p:sp>
            <p:nvSpPr>
              <p:cNvPr id="619" name=""/>
              <p:cNvSpPr/>
              <p:nvPr/>
            </p:nvSpPr>
            <p:spPr>
              <a:xfrm>
                <a:off x="0" y="626112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0" y="6261120"/>
                <a:ext cx="6780960" cy="2156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1" name=""/>
          <p:cNvGrpSpPr/>
          <p:nvPr/>
        </p:nvGrpSpPr>
        <p:grpSpPr>
          <a:xfrm>
            <a:off x="3885840" y="3352680"/>
            <a:ext cx="5029560" cy="707760"/>
            <a:chOff x="3885840" y="3352680"/>
            <a:chExt cx="5029560" cy="707760"/>
          </a:xfrm>
        </p:grpSpPr>
        <p:sp>
          <p:nvSpPr>
            <p:cNvPr id="622" name=""/>
            <p:cNvSpPr/>
            <p:nvPr/>
          </p:nvSpPr>
          <p:spPr>
            <a:xfrm>
              <a:off x="4876560" y="3352680"/>
              <a:ext cx="4038840" cy="707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S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reated with only one set b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.e.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0000000 00000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3885840" y="35812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2819520" y="4800600"/>
            <a:ext cx="6095520" cy="1564920"/>
            <a:chOff x="2819520" y="4800600"/>
            <a:chExt cx="6095520" cy="1564920"/>
          </a:xfrm>
        </p:grpSpPr>
        <p:sp>
          <p:nvSpPr>
            <p:cNvPr id="625" name=""/>
            <p:cNvSpPr/>
            <p:nvPr/>
          </p:nvSpPr>
          <p:spPr>
            <a:xfrm>
              <a:off x="4876560" y="4800600"/>
              <a:ext cx="4038480" cy="156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S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constantl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d wit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S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nly contains one bit, so i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true it mea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ust have that bit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val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then shifted to test the next b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 flipV="1">
              <a:off x="2819520" y="4876560"/>
              <a:ext cx="20570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591FE-9C11-442D-A189-0C0839561B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28" name=""/>
          <p:cNvSpPr/>
          <p:nvPr/>
        </p:nvSpPr>
        <p:spPr>
          <a:xfrm>
            <a:off x="0" y="0"/>
            <a:ext cx="6781680" cy="4291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result of combining the foll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5535 = 00000000 00000000 11111111 1111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= 00000000 00000000 00000000 00000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the bitwise AND operator &amp;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= 00000000 00000000 00000000 00000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result of combining the foll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5 = 00000000 00000000 00000000 0000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41 = 00000000 00000000 00000000 11110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the bitwise inclusive OR operator |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55 = 00000000 00000000 00000000 1111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result of combining the foll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39 = 00000000 00000000 00000000 10001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9 = 00000000 00000000 00000000 11000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sing the bitwise exclusive OR operator ^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6 = 00000000 00000000 00000000 01001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one's complemen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1845 = 00000000 00000000 01010101 01010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294945450 = 11111111 11111111 10101010 10101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7F026-8535-4C21-B212-842C1AD6AC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10   Bit Fiel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fiel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of a structure whose size (in bits) has been specifi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 better memory utiliza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be declared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nsig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access individual b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ing bit fiel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llow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nsign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with a colon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and an integer constant representing the width of the fie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 BitCard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signed face : 4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signed suit :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signed color :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EF03C-386C-43EE-8B70-B080DBF69E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10  Bit Fiel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named bit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eld used as padding in the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hing may be stored in the b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 Exampl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signed a : 1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signed   : 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signed b : 4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named bit field with zero width aligns next bit field to a new storage unit bound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4E584-4F9D-4649-8FDC-AF085F8820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11   Enumeration Consta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um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 of integer constants represented by identifi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umeration constants are like symbolic constants whose values are automatically s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s start 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are incremented b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s can be set explicitly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unique constant n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um Months { JAN = 1, FEB, MAR, APR, MAY, JUN, JUL, AUG, SEP, OCT, NOV, DEC}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new type enum Months in which the identifiers are set to the integer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to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umeration variables can only assume their enumeration constant values (not the integer representation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17779-1451-4863-944F-2173C4A3450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Define enumera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varia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Loop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0" y="0"/>
            <a:ext cx="6780960" cy="5105520"/>
            <a:chOff x="0" y="0"/>
            <a:chExt cx="6780960" cy="5105520"/>
          </a:xfrm>
        </p:grpSpPr>
        <p:grpSp>
          <p:nvGrpSpPr>
            <p:cNvPr id="637" name=""/>
            <p:cNvGrpSpPr/>
            <p:nvPr/>
          </p:nvGrpSpPr>
          <p:grpSpPr>
            <a:xfrm>
              <a:off x="0" y="0"/>
              <a:ext cx="6780960" cy="243000"/>
              <a:chOff x="0" y="0"/>
              <a:chExt cx="6780960" cy="243000"/>
            </a:xfrm>
          </p:grpSpPr>
          <p:sp>
            <p:nvSpPr>
              <p:cNvPr id="638" name=""/>
              <p:cNvSpPr/>
              <p:nvPr/>
            </p:nvSpPr>
            <p:spPr>
              <a:xfrm>
                <a:off x="0" y="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0" y="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8000"/>
                    </a:solidFill>
                    <a:latin typeface="Courier New"/>
                    <a:ea typeface="Times New Roman"/>
                  </a:rPr>
                  <a:t>/* Fig. 10.18: fig10_18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0" y="243000"/>
              <a:ext cx="6780960" cy="243000"/>
              <a:chOff x="0" y="243000"/>
              <a:chExt cx="6780960" cy="243000"/>
            </a:xfrm>
          </p:grpSpPr>
          <p:sp>
            <p:nvSpPr>
              <p:cNvPr id="641" name=""/>
              <p:cNvSpPr/>
              <p:nvPr/>
            </p:nvSpPr>
            <p:spPr>
              <a:xfrm>
                <a:off x="0" y="24300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0" y="24300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8000"/>
                    </a:solidFill>
                    <a:latin typeface="Courier New"/>
                    <a:ea typeface="Times New Roman"/>
                  </a:rPr>
                  <a:t>   Using an enumeration typ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0" y="486000"/>
              <a:ext cx="6780960" cy="243000"/>
              <a:chOff x="0" y="486000"/>
              <a:chExt cx="6780960" cy="243000"/>
            </a:xfrm>
          </p:grpSpPr>
          <p:sp>
            <p:nvSpPr>
              <p:cNvPr id="644" name=""/>
              <p:cNvSpPr/>
              <p:nvPr/>
            </p:nvSpPr>
            <p:spPr>
              <a:xfrm>
                <a:off x="0" y="48600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0" y="48600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0" y="729360"/>
              <a:ext cx="6780960" cy="243000"/>
              <a:chOff x="0" y="729360"/>
              <a:chExt cx="6780960" cy="243000"/>
            </a:xfrm>
          </p:grpSpPr>
          <p:sp>
            <p:nvSpPr>
              <p:cNvPr id="647" name=""/>
              <p:cNvSpPr/>
              <p:nvPr/>
            </p:nvSpPr>
            <p:spPr>
              <a:xfrm>
                <a:off x="0" y="72936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0" y="72936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0" y="972360"/>
              <a:ext cx="6780960" cy="243000"/>
              <a:chOff x="0" y="972360"/>
              <a:chExt cx="6780960" cy="243000"/>
            </a:xfrm>
          </p:grpSpPr>
          <p:sp>
            <p:nvSpPr>
              <p:cNvPr id="650" name=""/>
              <p:cNvSpPr/>
              <p:nvPr/>
            </p:nvSpPr>
            <p:spPr>
              <a:xfrm>
                <a:off x="0" y="97236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0" y="97236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num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nths { JAN = 1, FEB, MAR, APR, MAY, JUN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0" y="1215360"/>
              <a:ext cx="6780960" cy="243000"/>
              <a:chOff x="0" y="1215360"/>
              <a:chExt cx="6780960" cy="243000"/>
            </a:xfrm>
          </p:grpSpPr>
          <p:sp>
            <p:nvSpPr>
              <p:cNvPr id="653" name=""/>
              <p:cNvSpPr/>
              <p:nvPr/>
            </p:nvSpPr>
            <p:spPr>
              <a:xfrm>
                <a:off x="0" y="121536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0" y="121536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JUL, AUG, SEP, OCT, NOV, DEC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0" y="1458360"/>
              <a:ext cx="6780960" cy="243000"/>
              <a:chOff x="0" y="1458360"/>
              <a:chExt cx="6780960" cy="243000"/>
            </a:xfrm>
          </p:grpSpPr>
          <p:sp>
            <p:nvSpPr>
              <p:cNvPr id="656" name=""/>
              <p:cNvSpPr/>
              <p:nvPr/>
            </p:nvSpPr>
            <p:spPr>
              <a:xfrm>
                <a:off x="0" y="145836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0" y="145836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0" y="1701720"/>
              <a:ext cx="6780960" cy="243000"/>
              <a:chOff x="0" y="1701720"/>
              <a:chExt cx="6780960" cy="243000"/>
            </a:xfrm>
          </p:grpSpPr>
          <p:sp>
            <p:nvSpPr>
              <p:cNvPr id="659" name=""/>
              <p:cNvSpPr/>
              <p:nvPr/>
            </p:nvSpPr>
            <p:spPr>
              <a:xfrm>
                <a:off x="0" y="170172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0" y="170172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"/>
            <p:cNvGrpSpPr/>
            <p:nvPr/>
          </p:nvGrpSpPr>
          <p:grpSpPr>
            <a:xfrm>
              <a:off x="0" y="1944720"/>
              <a:ext cx="6780960" cy="243000"/>
              <a:chOff x="0" y="1944720"/>
              <a:chExt cx="6780960" cy="243000"/>
            </a:xfrm>
          </p:grpSpPr>
          <p:sp>
            <p:nvSpPr>
              <p:cNvPr id="662" name=""/>
              <p:cNvSpPr/>
              <p:nvPr/>
            </p:nvSpPr>
            <p:spPr>
              <a:xfrm>
                <a:off x="0" y="194472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0" y="194472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"/>
            <p:cNvGrpSpPr/>
            <p:nvPr/>
          </p:nvGrpSpPr>
          <p:grpSpPr>
            <a:xfrm>
              <a:off x="0" y="2188080"/>
              <a:ext cx="6780960" cy="243000"/>
              <a:chOff x="0" y="2188080"/>
              <a:chExt cx="6780960" cy="243000"/>
            </a:xfrm>
          </p:grpSpPr>
          <p:sp>
            <p:nvSpPr>
              <p:cNvPr id="665" name=""/>
              <p:cNvSpPr/>
              <p:nvPr/>
            </p:nvSpPr>
            <p:spPr>
              <a:xfrm>
                <a:off x="0" y="218808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0" y="218808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num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onths month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0" y="2431080"/>
              <a:ext cx="6780960" cy="243000"/>
              <a:chOff x="0" y="2431080"/>
              <a:chExt cx="6780960" cy="243000"/>
            </a:xfrm>
          </p:grpSpPr>
          <p:sp>
            <p:nvSpPr>
              <p:cNvPr id="668" name=""/>
              <p:cNvSpPr/>
              <p:nvPr/>
            </p:nvSpPr>
            <p:spPr>
              <a:xfrm>
                <a:off x="0" y="243108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0" y="243108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monthName[] = { "", "January", "February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0" y="2674440"/>
              <a:ext cx="6780960" cy="243000"/>
              <a:chOff x="0" y="2674440"/>
              <a:chExt cx="6780960" cy="243000"/>
            </a:xfrm>
          </p:grpSpPr>
          <p:sp>
            <p:nvSpPr>
              <p:cNvPr id="671" name=""/>
              <p:cNvSpPr/>
              <p:nvPr/>
            </p:nvSpPr>
            <p:spPr>
              <a:xfrm>
                <a:off x="0" y="267444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0" y="267444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   "March", "April", "May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0" y="2917440"/>
              <a:ext cx="6780960" cy="243000"/>
              <a:chOff x="0" y="2917440"/>
              <a:chExt cx="6780960" cy="243000"/>
            </a:xfrm>
          </p:grpSpPr>
          <p:sp>
            <p:nvSpPr>
              <p:cNvPr id="674" name=""/>
              <p:cNvSpPr/>
              <p:nvPr/>
            </p:nvSpPr>
            <p:spPr>
              <a:xfrm>
                <a:off x="0" y="291744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0" y="291744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   "June", "July", "August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0" y="3160440"/>
              <a:ext cx="6780960" cy="243000"/>
              <a:chOff x="0" y="3160440"/>
              <a:chExt cx="6780960" cy="243000"/>
            </a:xfrm>
          </p:grpSpPr>
          <p:sp>
            <p:nvSpPr>
              <p:cNvPr id="677" name=""/>
              <p:cNvSpPr/>
              <p:nvPr/>
            </p:nvSpPr>
            <p:spPr>
              <a:xfrm>
                <a:off x="0" y="316044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0" y="316044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   "September", "October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0" y="3403440"/>
              <a:ext cx="6780960" cy="243000"/>
              <a:chOff x="0" y="3403440"/>
              <a:chExt cx="6780960" cy="243000"/>
            </a:xfrm>
          </p:grpSpPr>
          <p:sp>
            <p:nvSpPr>
              <p:cNvPr id="680" name=""/>
              <p:cNvSpPr/>
              <p:nvPr/>
            </p:nvSpPr>
            <p:spPr>
              <a:xfrm>
                <a:off x="0" y="340344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0" y="340344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   "November", "December"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0" y="3646800"/>
              <a:ext cx="6780960" cy="243000"/>
              <a:chOff x="0" y="3646800"/>
              <a:chExt cx="6780960" cy="243000"/>
            </a:xfrm>
          </p:grpSpPr>
          <p:sp>
            <p:nvSpPr>
              <p:cNvPr id="683" name=""/>
              <p:cNvSpPr/>
              <p:nvPr/>
            </p:nvSpPr>
            <p:spPr>
              <a:xfrm>
                <a:off x="0" y="364680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0" y="364680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0" y="3889800"/>
              <a:ext cx="6780960" cy="243000"/>
              <a:chOff x="0" y="3889800"/>
              <a:chExt cx="6780960" cy="243000"/>
            </a:xfrm>
          </p:grpSpPr>
          <p:sp>
            <p:nvSpPr>
              <p:cNvPr id="686" name=""/>
              <p:cNvSpPr/>
              <p:nvPr/>
            </p:nvSpPr>
            <p:spPr>
              <a:xfrm>
                <a:off x="0" y="388980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0" y="388980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month = JAN; month &lt;= DEC; month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0" y="4133160"/>
              <a:ext cx="6780960" cy="243000"/>
              <a:chOff x="0" y="4133160"/>
              <a:chExt cx="6780960" cy="243000"/>
            </a:xfrm>
          </p:grpSpPr>
          <p:sp>
            <p:nvSpPr>
              <p:cNvPr id="689" name=""/>
              <p:cNvSpPr/>
              <p:nvPr/>
            </p:nvSpPr>
            <p:spPr>
              <a:xfrm>
                <a:off x="0" y="413316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0" y="413316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2d%11s\n", month, monthName[ month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0" y="4376160"/>
              <a:ext cx="6780960" cy="243000"/>
              <a:chOff x="0" y="4376160"/>
              <a:chExt cx="6780960" cy="243000"/>
            </a:xfrm>
          </p:grpSpPr>
          <p:sp>
            <p:nvSpPr>
              <p:cNvPr id="692" name=""/>
              <p:cNvSpPr/>
              <p:nvPr/>
            </p:nvSpPr>
            <p:spPr>
              <a:xfrm>
                <a:off x="0" y="437616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0" y="437616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0" y="4619160"/>
              <a:ext cx="6780960" cy="243000"/>
              <a:chOff x="0" y="4619160"/>
              <a:chExt cx="6780960" cy="243000"/>
            </a:xfrm>
          </p:grpSpPr>
          <p:sp>
            <p:nvSpPr>
              <p:cNvPr id="695" name=""/>
              <p:cNvSpPr/>
              <p:nvPr/>
            </p:nvSpPr>
            <p:spPr>
              <a:xfrm>
                <a:off x="0" y="461916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0" y="461916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0" y="4862520"/>
              <a:ext cx="6780960" cy="243000"/>
              <a:chOff x="0" y="4862520"/>
              <a:chExt cx="6780960" cy="243000"/>
            </a:xfrm>
          </p:grpSpPr>
          <p:sp>
            <p:nvSpPr>
              <p:cNvPr id="698" name=""/>
              <p:cNvSpPr/>
              <p:nvPr/>
            </p:nvSpPr>
            <p:spPr>
              <a:xfrm>
                <a:off x="0" y="486252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0" y="4862520"/>
                <a:ext cx="678096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D56D6-47B6-4F11-8C11-FC2752D7B15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0"/>
            <a:ext cx="6781680" cy="2284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Janu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Febru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     M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      Apr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       M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       J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     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     Aug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  Sept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    Octo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   Nov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Dece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1B63E-00EB-4942-A8B4-DF9EF059196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   Structure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 card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fac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sui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troduces the definition for structure c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r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the structure name and is used to declare variables of the structure typ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r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ntains two members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members a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E010D-6B82-4EBA-B799-E1D3879512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   Structure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not contain an instance of itsel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contain a member that is a pointer to the same structure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structure definition does not reserve space in memor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ead creates a new data type used to declare structur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d like other variabl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d oneCard, deck[ 52 ], *c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use a comma separated lis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 card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fac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su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oneCard, deck[ 52 ], *c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5EE7E-081B-4B67-B215-5208A9B90C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2   Structure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d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ing a structure to a structure of the same typ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ing the address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of a structu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ing the members of a structu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ing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o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perator to determine the size of a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721B7-07CB-494C-8D61-8D1083F1DB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3   Initializing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r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d oneCard = { "Three", "Hearts"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ment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d threeHearts = oneCar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uld also declare and initializ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reeHear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d threeHear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eeHearts.face = “Three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eeHearts.suit = “Hearts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219BE-19BA-4C89-8E70-6B23A339B7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4   Accessing Members of Structur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ing structure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t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used with structure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d myCar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 "%s", myCard.suit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ow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used with pointers to structure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d *myCardPtr = &amp;myCar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 "%s", myCardPtr-&gt;suit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CardPtr-&gt;su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equivalent 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 *myCardPtr ).s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DE81B-A678-4D84-ACAB-14FDBB0423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5   Using Structures With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ing structures to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entire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, pass individua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th pass call by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ass structures call-by-refer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its 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reference to 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ass arrays call-by-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a structure with the array as a memb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the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64252-1D51-488A-A197-CE4FE81DF3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0.6  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ypedef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ypede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synonyms (aliases) for previously defined data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ypede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create shorter type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def struct Card *CardP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s a new type nam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rd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s a synonym for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uct Card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ypede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oes not create a new data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creates an al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F7B8E-9815-419B-9492-9CEE07AC17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5T17:58:37Z</dcterms:created>
  <dc:creator>kalid</dc:creator>
  <dc:description/>
  <dc:language>en-US</dc:language>
  <cp:lastModifiedBy>jason</cp:lastModifiedBy>
  <dcterms:modified xsi:type="dcterms:W3CDTF">2000-12-12T15:08:46Z</dcterms:modified>
  <cp:revision>131</cp:revision>
  <dc:subject/>
  <dc:title>Chapter 10 - Structures, Unions, Bit Manipulations, and Enumerations</dc:title>
</cp:coreProperties>
</file>