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4CAA-E8DB-4B18-AD26-FEBBD16A8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6AB4C-10A3-40E5-A1E4-DF7AD6259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18C2-FFA3-4B41-A9B4-349C36329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59A9-5891-4972-892D-FA654C27D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4FCF1-4C84-447C-99AB-F090301008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B8DD1-82DE-4CBC-8E83-794598A3B1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2949D-87E4-4D39-AA50-3C473E6B00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2AC1A-292B-460D-B8CA-338260EA4B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0C14-D37A-4435-AEEA-186D92E423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43943-026A-4AD5-8813-B8F958D56E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36A5B-8513-46FE-98BB-5149938FB3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5882-4531-464F-9495-E9D392346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09912-6E54-4401-BC63-CB728F43F4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6E7B4-F316-49ED-9DE9-BCC2384CFF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FF9A2-2FAA-4B9A-AE87-F5C3BF5BC8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46248-87B3-437A-B3BF-DBAFD1036E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8F9DF-E41F-4419-A3D1-2A22436E75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BA2F-F754-4231-A75B-42A50C2ACC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8F88-B547-43B2-A87C-FC73833BF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751A-C5D8-41A8-B2EF-9D49CE732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4C88-CF58-4780-80FD-08599606E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89A6-7564-4797-9D8E-A6187B424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9281-CA98-478E-94C0-B8055B2AB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5A83-C670-446C-B58E-26737EC12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BCB0-09CA-4A91-A341-38E53D5A9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39152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9152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D26E-D5AA-4F58-9208-D8DC7D6B7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1 – File Process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74678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vantGarde"/>
              </a:rPr>
              <a:t>Outline</a:t>
            </a:r>
            <a:br>
              <a:rPr sz="20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1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2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The Data Hierarchy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3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Files and Stream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4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reating a Sequential Access File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5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Reading Data from a Sequential Access File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6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Updating Sequential Access File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7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Random Access Files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8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reating a Random Access File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9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Writing Data Randomly to a Random Access File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10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Reading Data Sequentially from a Random Access File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11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ase Study: A Transaction Processing Program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11.12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Input/Output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8A69-559B-4BBA-942C-9C6CC6C080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   Creating a Sequential 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 of file open mo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343160" y="1757520"/>
          <a:ext cx="6429240" cy="314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3160" y="1757520"/>
                    <a:ext cx="6429240" cy="31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2FBC-3640-4D90-842D-EDC97D37D2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point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Link the pointer to a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Write to file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rintf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Close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68" name=""/>
            <p:cNvGrpSpPr/>
            <p:nvPr/>
          </p:nvGrpSpPr>
          <p:grpSpPr>
            <a:xfrm>
              <a:off x="0" y="0"/>
              <a:ext cx="6780960" cy="237600"/>
              <a:chOff x="0" y="0"/>
              <a:chExt cx="6780960" cy="237600"/>
            </a:xfrm>
          </p:grpSpPr>
          <p:sp>
            <p:nvSpPr>
              <p:cNvPr id="169" name=""/>
              <p:cNvSpPr/>
              <p:nvPr/>
            </p:nvSpPr>
            <p:spPr>
              <a:xfrm>
                <a:off x="0" y="0"/>
                <a:ext cx="678096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0"/>
                <a:ext cx="678096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11.3: fig11_03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0" y="237600"/>
              <a:ext cx="6780960" cy="220320"/>
              <a:chOff x="0" y="237600"/>
              <a:chExt cx="6780960" cy="220320"/>
            </a:xfrm>
          </p:grpSpPr>
          <p:sp>
            <p:nvSpPr>
              <p:cNvPr id="172" name=""/>
              <p:cNvSpPr/>
              <p:nvPr/>
            </p:nvSpPr>
            <p:spPr>
              <a:xfrm>
                <a:off x="0" y="2376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2376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Create a sequential fil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0" y="458280"/>
              <a:ext cx="6780960" cy="220680"/>
              <a:chOff x="0" y="458280"/>
              <a:chExt cx="6780960" cy="220680"/>
            </a:xfrm>
          </p:grpSpPr>
          <p:sp>
            <p:nvSpPr>
              <p:cNvPr id="175" name=""/>
              <p:cNvSpPr/>
              <p:nvPr/>
            </p:nvSpPr>
            <p:spPr>
              <a:xfrm>
                <a:off x="0" y="4582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4582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0" y="678960"/>
              <a:ext cx="6780960" cy="220320"/>
              <a:chOff x="0" y="678960"/>
              <a:chExt cx="6780960" cy="22032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6789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6789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0" y="899640"/>
              <a:ext cx="6780960" cy="220320"/>
              <a:chOff x="0" y="899640"/>
              <a:chExt cx="6780960" cy="220320"/>
            </a:xfrm>
          </p:grpSpPr>
          <p:sp>
            <p:nvSpPr>
              <p:cNvPr id="181" name=""/>
              <p:cNvSpPr/>
              <p:nvPr/>
            </p:nvSpPr>
            <p:spPr>
              <a:xfrm>
                <a:off x="0" y="8996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8996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0" y="1120320"/>
              <a:ext cx="6780960" cy="220320"/>
              <a:chOff x="0" y="1120320"/>
              <a:chExt cx="6780960" cy="22032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11203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11203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0" y="1341000"/>
              <a:ext cx="6780960" cy="220680"/>
              <a:chOff x="0" y="1341000"/>
              <a:chExt cx="6780960" cy="22068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13410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13410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cou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0" y="1561680"/>
              <a:ext cx="6780960" cy="220320"/>
              <a:chOff x="0" y="1561680"/>
              <a:chExt cx="6780960" cy="220320"/>
            </a:xfrm>
          </p:grpSpPr>
          <p:sp>
            <p:nvSpPr>
              <p:cNvPr id="190" name=""/>
              <p:cNvSpPr/>
              <p:nvPr/>
            </p:nvSpPr>
            <p:spPr>
              <a:xfrm>
                <a:off x="0" y="15616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15616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ame[ 30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0" y="1782360"/>
              <a:ext cx="6780960" cy="220320"/>
              <a:chOff x="0" y="1782360"/>
              <a:chExt cx="6780960" cy="220320"/>
            </a:xfrm>
          </p:grpSpPr>
          <p:sp>
            <p:nvSpPr>
              <p:cNvPr id="193" name=""/>
              <p:cNvSpPr/>
              <p:nvPr/>
            </p:nvSpPr>
            <p:spPr>
              <a:xfrm>
                <a:off x="0" y="17823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17823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lan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0" y="2003040"/>
              <a:ext cx="6780960" cy="220320"/>
              <a:chOff x="0" y="2003040"/>
              <a:chExt cx="6780960" cy="22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20030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20030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LE *cfPtr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cfPtr = clients.dat file pointer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0" y="2223720"/>
              <a:ext cx="6780960" cy="220320"/>
              <a:chOff x="0" y="2223720"/>
              <a:chExt cx="6780960" cy="220320"/>
            </a:xfrm>
          </p:grpSpPr>
          <p:sp>
            <p:nvSpPr>
              <p:cNvPr id="199" name=""/>
              <p:cNvSpPr/>
              <p:nvPr/>
            </p:nvSpPr>
            <p:spPr>
              <a:xfrm>
                <a:off x="0" y="22237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2237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0" y="2444400"/>
              <a:ext cx="6780960" cy="220680"/>
              <a:chOff x="0" y="2444400"/>
              <a:chExt cx="6780960" cy="220680"/>
            </a:xfrm>
          </p:grpSpPr>
          <p:sp>
            <p:nvSpPr>
              <p:cNvPr id="202" name=""/>
              <p:cNvSpPr/>
              <p:nvPr/>
            </p:nvSpPr>
            <p:spPr>
              <a:xfrm>
                <a:off x="0" y="24444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4444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cfPtr = fopen( "clients.dat", "w" ) ) == NUL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0" y="2665080"/>
              <a:ext cx="6780960" cy="220320"/>
              <a:chOff x="0" y="2665080"/>
              <a:chExt cx="6780960" cy="22032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26650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6650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File could not be opened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0" y="2885760"/>
              <a:ext cx="6780960" cy="220320"/>
              <a:chOff x="0" y="2885760"/>
              <a:chExt cx="6780960" cy="22032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28857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8857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0" y="3106440"/>
              <a:ext cx="6780960" cy="220320"/>
              <a:chOff x="0" y="3106440"/>
              <a:chExt cx="6780960" cy="22032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31064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31064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Enter the account, name, and balance.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3327120"/>
              <a:ext cx="6780960" cy="220680"/>
              <a:chOff x="0" y="3327120"/>
              <a:chExt cx="6780960" cy="22068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33271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33271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Enter EOF to end input.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3547800"/>
              <a:ext cx="6780960" cy="220320"/>
              <a:chOff x="0" y="3547800"/>
              <a:chExt cx="6780960" cy="22032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35478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35478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?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3768480"/>
              <a:ext cx="6780960" cy="220320"/>
              <a:chOff x="0" y="3768480"/>
              <a:chExt cx="6780960" cy="22032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37684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37684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canf( "%d%s%lf", &amp;account, name, &amp;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3989160"/>
              <a:ext cx="6780960" cy="220320"/>
              <a:chOff x="0" y="3989160"/>
              <a:chExt cx="6780960" cy="22032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39891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398916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4209840"/>
              <a:ext cx="6780960" cy="220680"/>
              <a:chOff x="0" y="4209840"/>
              <a:chExt cx="6780960" cy="22068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42098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42098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!feof( stdin )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0" y="4430520"/>
              <a:ext cx="6780960" cy="220320"/>
              <a:chOff x="0" y="4430520"/>
              <a:chExt cx="6780960" cy="220320"/>
            </a:xfrm>
          </p:grpSpPr>
          <p:sp>
            <p:nvSpPr>
              <p:cNvPr id="229" name=""/>
              <p:cNvSpPr/>
              <p:nvPr/>
            </p:nvSpPr>
            <p:spPr>
              <a:xfrm>
                <a:off x="0" y="44305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44305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printf( cfPtr, "%d %s %.2f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0" y="4651200"/>
              <a:ext cx="6780960" cy="220320"/>
              <a:chOff x="0" y="4651200"/>
              <a:chExt cx="6780960" cy="22032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46512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46512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account, name, 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4871880"/>
              <a:ext cx="6780960" cy="220320"/>
              <a:chOff x="0" y="4871880"/>
              <a:chExt cx="6780960" cy="22032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48718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718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?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5092560"/>
              <a:ext cx="6780960" cy="220680"/>
              <a:chOff x="0" y="5092560"/>
              <a:chExt cx="6780960" cy="22068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5092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092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scanf( "%d%s%lf", &amp;account, name, &amp;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5313240"/>
              <a:ext cx="6780960" cy="220320"/>
              <a:chOff x="0" y="5313240"/>
              <a:chExt cx="6780960" cy="22032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53132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53132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5533920"/>
              <a:ext cx="6780960" cy="220320"/>
              <a:chOff x="0" y="5533920"/>
              <a:chExt cx="6780960" cy="22032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55339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55339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5754600"/>
              <a:ext cx="6780960" cy="220320"/>
              <a:chOff x="0" y="5754600"/>
              <a:chExt cx="6780960" cy="22032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57546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575460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close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5975280"/>
              <a:ext cx="6780960" cy="220320"/>
              <a:chOff x="0" y="5975280"/>
              <a:chExt cx="6780960" cy="22032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59752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97528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6195960"/>
              <a:ext cx="6780960" cy="220680"/>
              <a:chOff x="0" y="6195960"/>
              <a:chExt cx="6780960" cy="22068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61959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1959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6416640"/>
              <a:ext cx="6780960" cy="220320"/>
              <a:chOff x="0" y="6416640"/>
              <a:chExt cx="6780960" cy="22032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64166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641664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6637320"/>
              <a:ext cx="6780960" cy="220320"/>
              <a:chOff x="0" y="6637320"/>
              <a:chExt cx="6780960" cy="22032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66373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6637320"/>
                <a:ext cx="678096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02902-9F50-49AA-96AF-7514C701A8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6781680" cy="1919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the account, name, and bal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EOF to end in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100 Jones 24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200 Doe 345.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300 White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400 Stone -42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500 Rich 224.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9A242-43F9-4893-8CB3-CAE84F6915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5   Reading Data from a Sequential 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 sequential access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, link it to the file to r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Ptr = fopen( "myFile.dat", "r"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scan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read from the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xcept first argument i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scanf( myPtr, "%d%s%f", &amp;myInt, &amp;myString, &amp;myFloat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read from beginning to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position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number of next byte to be read / 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really a pointer, but an integer value (specifies byte lo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called byte 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wind( myPtr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sitions file position pointer to beginning of file (by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A1F33-32A8-4469-8021-F16618B32C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Link pointer to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Read data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scanf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Close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0" y="0"/>
            <a:ext cx="6780960" cy="5410080"/>
            <a:chOff x="0" y="0"/>
            <a:chExt cx="6780960" cy="5410080"/>
          </a:xfrm>
        </p:grpSpPr>
        <p:grpSp>
          <p:nvGrpSpPr>
            <p:cNvPr id="267" name=""/>
            <p:cNvGrpSpPr/>
            <p:nvPr/>
          </p:nvGrpSpPr>
          <p:grpSpPr>
            <a:xfrm>
              <a:off x="0" y="0"/>
              <a:ext cx="6780960" cy="200160"/>
              <a:chOff x="0" y="0"/>
              <a:chExt cx="6780960" cy="20016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11.7: fig11_07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0" y="200160"/>
              <a:ext cx="6780960" cy="200160"/>
              <a:chOff x="0" y="200160"/>
              <a:chExt cx="6780960" cy="200160"/>
            </a:xfrm>
          </p:grpSpPr>
          <p:sp>
            <p:nvSpPr>
              <p:cNvPr id="271" name=""/>
              <p:cNvSpPr/>
              <p:nvPr/>
            </p:nvSpPr>
            <p:spPr>
              <a:xfrm>
                <a:off x="0" y="200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200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Reading and printing a sequential fil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0" y="400680"/>
              <a:ext cx="6780960" cy="200160"/>
              <a:chOff x="0" y="400680"/>
              <a:chExt cx="6780960" cy="200160"/>
            </a:xfrm>
          </p:grpSpPr>
          <p:sp>
            <p:nvSpPr>
              <p:cNvPr id="274" name=""/>
              <p:cNvSpPr/>
              <p:nvPr/>
            </p:nvSpPr>
            <p:spPr>
              <a:xfrm>
                <a:off x="0" y="4006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0" y="4006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0" y="600840"/>
              <a:ext cx="6780960" cy="200160"/>
              <a:chOff x="0" y="600840"/>
              <a:chExt cx="6780960" cy="200160"/>
            </a:xfrm>
          </p:grpSpPr>
          <p:sp>
            <p:nvSpPr>
              <p:cNvPr id="277" name=""/>
              <p:cNvSpPr/>
              <p:nvPr/>
            </p:nvSpPr>
            <p:spPr>
              <a:xfrm>
                <a:off x="0" y="600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600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0" y="801360"/>
              <a:ext cx="6780960" cy="200160"/>
              <a:chOff x="0" y="801360"/>
              <a:chExt cx="6780960" cy="200160"/>
            </a:xfrm>
          </p:grpSpPr>
          <p:sp>
            <p:nvSpPr>
              <p:cNvPr id="280" name=""/>
              <p:cNvSpPr/>
              <p:nvPr/>
            </p:nvSpPr>
            <p:spPr>
              <a:xfrm>
                <a:off x="0" y="8013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8013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0" y="1001880"/>
              <a:ext cx="6780960" cy="200160"/>
              <a:chOff x="0" y="1001880"/>
              <a:chExt cx="6780960" cy="20016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10018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10018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0" y="1202040"/>
              <a:ext cx="6780960" cy="200160"/>
              <a:chOff x="0" y="1202040"/>
              <a:chExt cx="6780960" cy="20016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1202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202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cou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0" y="1402560"/>
              <a:ext cx="6780960" cy="200160"/>
              <a:chOff x="0" y="1402560"/>
              <a:chExt cx="6780960" cy="200160"/>
            </a:xfrm>
          </p:grpSpPr>
          <p:sp>
            <p:nvSpPr>
              <p:cNvPr id="289" name=""/>
              <p:cNvSpPr/>
              <p:nvPr/>
            </p:nvSpPr>
            <p:spPr>
              <a:xfrm>
                <a:off x="0" y="14025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4025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ame[ 30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0" y="1603080"/>
              <a:ext cx="6780960" cy="200160"/>
              <a:chOff x="0" y="1603080"/>
              <a:chExt cx="6780960" cy="200160"/>
            </a:xfrm>
          </p:grpSpPr>
          <p:sp>
            <p:nvSpPr>
              <p:cNvPr id="292" name=""/>
              <p:cNvSpPr/>
              <p:nvPr/>
            </p:nvSpPr>
            <p:spPr>
              <a:xfrm>
                <a:off x="0" y="16030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160308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lan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0" y="1803240"/>
              <a:ext cx="6780960" cy="200160"/>
              <a:chOff x="0" y="1803240"/>
              <a:chExt cx="6780960" cy="200160"/>
            </a:xfrm>
          </p:grpSpPr>
          <p:sp>
            <p:nvSpPr>
              <p:cNvPr id="295" name=""/>
              <p:cNvSpPr/>
              <p:nvPr/>
            </p:nvSpPr>
            <p:spPr>
              <a:xfrm>
                <a:off x="0" y="1803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1803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LE *cfPtr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cfPtr = clients.dat file pointer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0" y="2003760"/>
              <a:ext cx="6780960" cy="200160"/>
              <a:chOff x="0" y="2003760"/>
              <a:chExt cx="6780960" cy="200160"/>
            </a:xfrm>
          </p:grpSpPr>
          <p:sp>
            <p:nvSpPr>
              <p:cNvPr id="298" name=""/>
              <p:cNvSpPr/>
              <p:nvPr/>
            </p:nvSpPr>
            <p:spPr>
              <a:xfrm>
                <a:off x="0" y="20037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20037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0" y="2203920"/>
              <a:ext cx="6780960" cy="200160"/>
              <a:chOff x="0" y="2203920"/>
              <a:chExt cx="6780960" cy="20016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2203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2203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cfPtr = fopen( "clients.dat", "r" ) ) == NUL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0" y="2404440"/>
              <a:ext cx="6780960" cy="200160"/>
              <a:chOff x="0" y="2404440"/>
              <a:chExt cx="6780960" cy="20016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24044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4044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File could not be opened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0" y="2604960"/>
              <a:ext cx="6780960" cy="200160"/>
              <a:chOff x="0" y="2604960"/>
              <a:chExt cx="6780960" cy="200160"/>
            </a:xfrm>
          </p:grpSpPr>
          <p:sp>
            <p:nvSpPr>
              <p:cNvPr id="307" name=""/>
              <p:cNvSpPr/>
              <p:nvPr/>
            </p:nvSpPr>
            <p:spPr>
              <a:xfrm>
                <a:off x="0" y="26049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26049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0" y="2805120"/>
              <a:ext cx="6780960" cy="200160"/>
              <a:chOff x="0" y="2805120"/>
              <a:chExt cx="6780960" cy="200160"/>
            </a:xfrm>
          </p:grpSpPr>
          <p:sp>
            <p:nvSpPr>
              <p:cNvPr id="310" name=""/>
              <p:cNvSpPr/>
              <p:nvPr/>
            </p:nvSpPr>
            <p:spPr>
              <a:xfrm>
                <a:off x="0" y="28051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28051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-10s%-13s%s\n", "Account", "Name", "Balance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0" y="3005640"/>
              <a:ext cx="6780960" cy="200160"/>
              <a:chOff x="0" y="3005640"/>
              <a:chExt cx="6780960" cy="200160"/>
            </a:xfrm>
          </p:grpSpPr>
          <p:sp>
            <p:nvSpPr>
              <p:cNvPr id="313" name=""/>
              <p:cNvSpPr/>
              <p:nvPr/>
            </p:nvSpPr>
            <p:spPr>
              <a:xfrm>
                <a:off x="0" y="30056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30056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scanf( cfPtr, "%d%s%lf", &amp;account, name, &amp;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3206160"/>
              <a:ext cx="6780960" cy="200160"/>
              <a:chOff x="0" y="3206160"/>
              <a:chExt cx="6780960" cy="20016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3206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320616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0" y="3406320"/>
              <a:ext cx="6780960" cy="200160"/>
              <a:chOff x="0" y="3406320"/>
              <a:chExt cx="6780960" cy="200160"/>
            </a:xfrm>
          </p:grpSpPr>
          <p:sp>
            <p:nvSpPr>
              <p:cNvPr id="319" name=""/>
              <p:cNvSpPr/>
              <p:nvPr/>
            </p:nvSpPr>
            <p:spPr>
              <a:xfrm>
                <a:off x="0" y="34063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34063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!feof( cfPtr )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0" y="3606840"/>
              <a:ext cx="6780960" cy="200160"/>
              <a:chOff x="0" y="3606840"/>
              <a:chExt cx="6780960" cy="200160"/>
            </a:xfrm>
          </p:grpSpPr>
          <p:sp>
            <p:nvSpPr>
              <p:cNvPr id="322" name=""/>
              <p:cNvSpPr/>
              <p:nvPr/>
            </p:nvSpPr>
            <p:spPr>
              <a:xfrm>
                <a:off x="0" y="3606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36068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%-10d%-13s%7.2f\n", account, name, 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0" y="3807000"/>
              <a:ext cx="6780960" cy="200160"/>
              <a:chOff x="0" y="3807000"/>
              <a:chExt cx="6780960" cy="20016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38070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38070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scanf( cfPtr, "%d%s%lf", &amp;account, name, &amp;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0" y="4007520"/>
              <a:ext cx="6780960" cy="200160"/>
              <a:chOff x="0" y="4007520"/>
              <a:chExt cx="6780960" cy="20016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40075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40075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0" y="4208040"/>
              <a:ext cx="6780960" cy="200160"/>
              <a:chOff x="0" y="4208040"/>
              <a:chExt cx="6780960" cy="200160"/>
            </a:xfrm>
          </p:grpSpPr>
          <p:sp>
            <p:nvSpPr>
              <p:cNvPr id="331" name=""/>
              <p:cNvSpPr/>
              <p:nvPr/>
            </p:nvSpPr>
            <p:spPr>
              <a:xfrm>
                <a:off x="0" y="4208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42080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0" y="4408200"/>
              <a:ext cx="6780960" cy="200160"/>
              <a:chOff x="0" y="4408200"/>
              <a:chExt cx="6780960" cy="200160"/>
            </a:xfrm>
          </p:grpSpPr>
          <p:sp>
            <p:nvSpPr>
              <p:cNvPr id="334" name=""/>
              <p:cNvSpPr/>
              <p:nvPr/>
            </p:nvSpPr>
            <p:spPr>
              <a:xfrm>
                <a:off x="0" y="44082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44082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close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0" y="4608720"/>
              <a:ext cx="6780960" cy="200160"/>
              <a:chOff x="0" y="4608720"/>
              <a:chExt cx="6780960" cy="200160"/>
            </a:xfrm>
          </p:grpSpPr>
          <p:sp>
            <p:nvSpPr>
              <p:cNvPr id="337" name=""/>
              <p:cNvSpPr/>
              <p:nvPr/>
            </p:nvSpPr>
            <p:spPr>
              <a:xfrm>
                <a:off x="0" y="46087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0" y="46087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0" y="4809240"/>
              <a:ext cx="6780960" cy="200160"/>
              <a:chOff x="0" y="4809240"/>
              <a:chExt cx="6780960" cy="200160"/>
            </a:xfrm>
          </p:grpSpPr>
          <p:sp>
            <p:nvSpPr>
              <p:cNvPr id="340" name=""/>
              <p:cNvSpPr/>
              <p:nvPr/>
            </p:nvSpPr>
            <p:spPr>
              <a:xfrm>
                <a:off x="0" y="4809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480924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0" y="5009400"/>
              <a:ext cx="6780960" cy="200160"/>
              <a:chOff x="0" y="5009400"/>
              <a:chExt cx="6780960" cy="20016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50094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500940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0" y="5209920"/>
              <a:ext cx="6780960" cy="200160"/>
              <a:chOff x="0" y="5209920"/>
              <a:chExt cx="6780960" cy="200160"/>
            </a:xfrm>
          </p:grpSpPr>
          <p:sp>
            <p:nvSpPr>
              <p:cNvPr id="346" name=""/>
              <p:cNvSpPr/>
              <p:nvPr/>
            </p:nvSpPr>
            <p:spPr>
              <a:xfrm>
                <a:off x="0" y="5209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5209920"/>
                <a:ext cx="6780960" cy="200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8" name=""/>
          <p:cNvSpPr/>
          <p:nvPr/>
        </p:nvSpPr>
        <p:spPr>
          <a:xfrm>
            <a:off x="0" y="541008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ount   Name        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       Jones          24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0       Doe           345.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00       White      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00       Stone         -42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Rich          224.6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9690D-E15B-49F6-ABE9-13B472854B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Open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Input choi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Scan fi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51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35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11.8: fig11_08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35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Credit inquiry program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36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36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37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quest, accou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lan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37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ame[ 30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37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LE *cf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cfPtr = fopen( "clients.dat", "r" ) ) == NUL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File could not be opened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Enter request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" 1 - List accounts with zero balances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" 2 - List accounts with credit balances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" 3 - List accounts with debit balances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" 4 - End of run\n?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canf( "%d", &amp;reque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equest != 4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scanf( cfPtr, "%d%s%lf", &amp;account, nam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&amp;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witch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request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1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printf( "\nAccounts with zero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"balances: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44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!feof( cfPtr )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89013-D22F-4E2C-9562-760F00104F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Scan fi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49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450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balance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453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printf( "%-10d%-13s%7.2f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456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account, name, 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462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fscanf( cfPtr, "%d%s%lf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465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&amp;account, name, &amp;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468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471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2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480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printf( "\nAccounts with credit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483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"balances: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486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!feof( cfPtr )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492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495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balance &lt;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498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printf( "%-10d%-13s%7.2f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501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account, name, 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504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507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fscanf( cfPtr, "%d%s%lf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510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&amp;account, name, &amp;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513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516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519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522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525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printf( "\nAccounts with debit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528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"balances: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531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534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!feof( cfPtr )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537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540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balance &gt;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543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printf( "%-10d%-13s%7.2f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0F1FA-E7E1-4D73-A84F-FE76CA3699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Close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0" y="0"/>
            <a:ext cx="6780960" cy="4419720"/>
            <a:chOff x="0" y="0"/>
            <a:chExt cx="6780960" cy="4419720"/>
          </a:xfrm>
        </p:grpSpPr>
        <p:grpSp>
          <p:nvGrpSpPr>
            <p:cNvPr id="547" name=""/>
            <p:cNvGrpSpPr/>
            <p:nvPr/>
          </p:nvGrpSpPr>
          <p:grpSpPr>
            <a:xfrm>
              <a:off x="0" y="0"/>
              <a:ext cx="6780960" cy="220680"/>
              <a:chOff x="0" y="0"/>
              <a:chExt cx="6780960" cy="22068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account, name, 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0" y="220680"/>
              <a:ext cx="6780960" cy="220680"/>
              <a:chOff x="0" y="220680"/>
              <a:chExt cx="6780960" cy="220680"/>
            </a:xfrm>
          </p:grpSpPr>
          <p:sp>
            <p:nvSpPr>
              <p:cNvPr id="551" name=""/>
              <p:cNvSpPr/>
              <p:nvPr/>
            </p:nvSpPr>
            <p:spPr>
              <a:xfrm>
                <a:off x="0" y="220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0" y="220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0" y="441720"/>
              <a:ext cx="6780960" cy="221040"/>
              <a:chOff x="0" y="441720"/>
              <a:chExt cx="6780960" cy="221040"/>
            </a:xfrm>
          </p:grpSpPr>
          <p:sp>
            <p:nvSpPr>
              <p:cNvPr id="554" name=""/>
              <p:cNvSpPr/>
              <p:nvPr/>
            </p:nvSpPr>
            <p:spPr>
              <a:xfrm>
                <a:off x="0" y="44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0" y="44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fscanf( cfPtr, "%d%s%lf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0" y="662760"/>
              <a:ext cx="6780960" cy="220680"/>
              <a:chOff x="0" y="662760"/>
              <a:chExt cx="6780960" cy="220680"/>
            </a:xfrm>
          </p:grpSpPr>
          <p:sp>
            <p:nvSpPr>
              <p:cNvPr id="557" name=""/>
              <p:cNvSpPr/>
              <p:nvPr/>
            </p:nvSpPr>
            <p:spPr>
              <a:xfrm>
                <a:off x="0" y="662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0" y="662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&amp;account, name, &amp;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0" y="883800"/>
              <a:ext cx="6780960" cy="220680"/>
              <a:chOff x="0" y="883800"/>
              <a:chExt cx="6780960" cy="220680"/>
            </a:xfrm>
          </p:grpSpPr>
          <p:sp>
            <p:nvSpPr>
              <p:cNvPr id="560" name=""/>
              <p:cNvSpPr/>
              <p:nvPr/>
            </p:nvSpPr>
            <p:spPr>
              <a:xfrm>
                <a:off x="0" y="883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0" y="883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0" y="1104840"/>
              <a:ext cx="6780960" cy="220680"/>
              <a:chOff x="0" y="1104840"/>
              <a:chExt cx="6780960" cy="220680"/>
            </a:xfrm>
          </p:grpSpPr>
          <p:sp>
            <p:nvSpPr>
              <p:cNvPr id="563" name=""/>
              <p:cNvSpPr/>
              <p:nvPr/>
            </p:nvSpPr>
            <p:spPr>
              <a:xfrm>
                <a:off x="0" y="11048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11048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0" y="1325880"/>
              <a:ext cx="6780960" cy="221040"/>
              <a:chOff x="0" y="1325880"/>
              <a:chExt cx="6780960" cy="221040"/>
            </a:xfrm>
          </p:grpSpPr>
          <p:sp>
            <p:nvSpPr>
              <p:cNvPr id="566" name=""/>
              <p:cNvSpPr/>
              <p:nvPr/>
            </p:nvSpPr>
            <p:spPr>
              <a:xfrm>
                <a:off x="0" y="1325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0" y="1325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0" y="1546920"/>
              <a:ext cx="6780960" cy="220680"/>
              <a:chOff x="0" y="1546920"/>
              <a:chExt cx="6780960" cy="220680"/>
            </a:xfrm>
          </p:grpSpPr>
          <p:sp>
            <p:nvSpPr>
              <p:cNvPr id="569" name=""/>
              <p:cNvSpPr/>
              <p:nvPr/>
            </p:nvSpPr>
            <p:spPr>
              <a:xfrm>
                <a:off x="0" y="15469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15469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}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0" y="1767960"/>
              <a:ext cx="6780960" cy="220680"/>
              <a:chOff x="0" y="1767960"/>
              <a:chExt cx="6780960" cy="220680"/>
            </a:xfrm>
          </p:grpSpPr>
          <p:sp>
            <p:nvSpPr>
              <p:cNvPr id="572" name=""/>
              <p:cNvSpPr/>
              <p:nvPr/>
            </p:nvSpPr>
            <p:spPr>
              <a:xfrm>
                <a:off x="0" y="17679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17679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0" y="1988640"/>
              <a:ext cx="6780960" cy="220680"/>
              <a:chOff x="0" y="1988640"/>
              <a:chExt cx="6780960" cy="220680"/>
            </a:xfrm>
          </p:grpSpPr>
          <p:sp>
            <p:nvSpPr>
              <p:cNvPr id="575" name=""/>
              <p:cNvSpPr/>
              <p:nvPr/>
            </p:nvSpPr>
            <p:spPr>
              <a:xfrm>
                <a:off x="0" y="1988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0" y="1988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rewind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0" y="2209680"/>
              <a:ext cx="6780960" cy="221040"/>
              <a:chOff x="0" y="2209680"/>
              <a:chExt cx="6780960" cy="221040"/>
            </a:xfrm>
          </p:grpSpPr>
          <p:sp>
            <p:nvSpPr>
              <p:cNvPr id="578" name=""/>
              <p:cNvSpPr/>
              <p:nvPr/>
            </p:nvSpPr>
            <p:spPr>
              <a:xfrm>
                <a:off x="0" y="2209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0" y="2209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\n?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0" y="2430720"/>
              <a:ext cx="6780960" cy="220680"/>
              <a:chOff x="0" y="2430720"/>
              <a:chExt cx="6780960" cy="220680"/>
            </a:xfrm>
          </p:grpSpPr>
          <p:sp>
            <p:nvSpPr>
              <p:cNvPr id="581" name=""/>
              <p:cNvSpPr/>
              <p:nvPr/>
            </p:nvSpPr>
            <p:spPr>
              <a:xfrm>
                <a:off x="0" y="2430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2430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scanf( "%d", &amp;reques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0" y="2651760"/>
              <a:ext cx="6780960" cy="220680"/>
              <a:chOff x="0" y="2651760"/>
              <a:chExt cx="6780960" cy="220680"/>
            </a:xfrm>
          </p:grpSpPr>
          <p:sp>
            <p:nvSpPr>
              <p:cNvPr id="584" name=""/>
              <p:cNvSpPr/>
              <p:nvPr/>
            </p:nvSpPr>
            <p:spPr>
              <a:xfrm>
                <a:off x="0" y="2651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0" y="2651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0" y="2872800"/>
              <a:ext cx="6780960" cy="220680"/>
              <a:chOff x="0" y="2872800"/>
              <a:chExt cx="6780960" cy="220680"/>
            </a:xfrm>
          </p:grpSpPr>
          <p:sp>
            <p:nvSpPr>
              <p:cNvPr id="587" name=""/>
              <p:cNvSpPr/>
              <p:nvPr/>
            </p:nvSpPr>
            <p:spPr>
              <a:xfrm>
                <a:off x="0" y="2872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0" y="2872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0" y="3093840"/>
              <a:ext cx="6780960" cy="221040"/>
              <a:chOff x="0" y="3093840"/>
              <a:chExt cx="6780960" cy="221040"/>
            </a:xfrm>
          </p:grpSpPr>
          <p:sp>
            <p:nvSpPr>
              <p:cNvPr id="590" name=""/>
              <p:cNvSpPr/>
              <p:nvPr/>
            </p:nvSpPr>
            <p:spPr>
              <a:xfrm>
                <a:off x="0" y="3093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3093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End of run.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0" y="3314880"/>
              <a:ext cx="6780960" cy="220680"/>
              <a:chOff x="0" y="3314880"/>
              <a:chExt cx="6780960" cy="220680"/>
            </a:xfrm>
          </p:grpSpPr>
          <p:sp>
            <p:nvSpPr>
              <p:cNvPr id="593" name=""/>
              <p:cNvSpPr/>
              <p:nvPr/>
            </p:nvSpPr>
            <p:spPr>
              <a:xfrm>
                <a:off x="0" y="33148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0" y="33148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close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0" y="3535920"/>
              <a:ext cx="6780960" cy="220680"/>
              <a:chOff x="0" y="3535920"/>
              <a:chExt cx="6780960" cy="220680"/>
            </a:xfrm>
          </p:grpSpPr>
          <p:sp>
            <p:nvSpPr>
              <p:cNvPr id="596" name=""/>
              <p:cNvSpPr/>
              <p:nvPr/>
            </p:nvSpPr>
            <p:spPr>
              <a:xfrm>
                <a:off x="0" y="35359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0" y="35359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0" y="3756600"/>
              <a:ext cx="6780960" cy="220680"/>
              <a:chOff x="0" y="3756600"/>
              <a:chExt cx="6780960" cy="220680"/>
            </a:xfrm>
          </p:grpSpPr>
          <p:sp>
            <p:nvSpPr>
              <p:cNvPr id="599" name=""/>
              <p:cNvSpPr/>
              <p:nvPr/>
            </p:nvSpPr>
            <p:spPr>
              <a:xfrm>
                <a:off x="0" y="3756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3756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0" y="3977640"/>
              <a:ext cx="6780960" cy="220680"/>
              <a:chOff x="0" y="3977640"/>
              <a:chExt cx="6780960" cy="220680"/>
            </a:xfrm>
          </p:grpSpPr>
          <p:sp>
            <p:nvSpPr>
              <p:cNvPr id="602" name=""/>
              <p:cNvSpPr/>
              <p:nvPr/>
            </p:nvSpPr>
            <p:spPr>
              <a:xfrm>
                <a:off x="0" y="3977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0" y="3977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0" y="4198680"/>
              <a:ext cx="6780960" cy="221040"/>
              <a:chOff x="0" y="4198680"/>
              <a:chExt cx="6780960" cy="221040"/>
            </a:xfrm>
          </p:grpSpPr>
          <p:sp>
            <p:nvSpPr>
              <p:cNvPr id="605" name=""/>
              <p:cNvSpPr/>
              <p:nvPr/>
            </p:nvSpPr>
            <p:spPr>
              <a:xfrm>
                <a:off x="0" y="4198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0" y="4198680"/>
                <a:ext cx="6780600" cy="221040"/>
                <a:chOff x="0" y="4198680"/>
                <a:chExt cx="6780600" cy="22104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0" y="4198680"/>
                  <a:ext cx="6780600" cy="2210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8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0" y="4198680"/>
                  <a:ext cx="6780600" cy="22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F5A87-C900-49D0-9708-B05B8B6EC0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0"/>
            <a:ext cx="6781680" cy="4656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- List accounts with zero 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- List accounts with credit 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- List accounts with debit 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- End of r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ounts with zero bala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00       White      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ounts with credit bala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00       Stone         -42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ounts with debit bala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0       Jones          24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0       Doe           345.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00       Rich          224.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 of r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8530D-089B-4170-9F88-499F9BBF26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5   Reading Data from a Sequential 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 access f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modified without the risk of destroying other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elds can vary in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representation in files and screen than internal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89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, but have different sizes on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194120" y="3581280"/>
            <a:ext cx="6730560" cy="2440800"/>
            <a:chOff x="1194120" y="3581280"/>
            <a:chExt cx="6730560" cy="2440800"/>
          </a:xfrm>
        </p:grpSpPr>
        <p:sp>
          <p:nvSpPr>
            <p:cNvPr id="614" name=""/>
            <p:cNvSpPr/>
            <p:nvPr/>
          </p:nvSpPr>
          <p:spPr>
            <a:xfrm>
              <a:off x="1197000" y="3581280"/>
              <a:ext cx="6400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300 White 0.00 400 Jones 32.87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(old data in fil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we want to change White's name to Worthington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194120" y="4530600"/>
              <a:ext cx="6730560" cy="1491480"/>
              <a:chOff x="1194120" y="4530600"/>
              <a:chExt cx="6730560" cy="1491480"/>
            </a:xfrm>
          </p:grpSpPr>
          <p:sp>
            <p:nvSpPr>
              <p:cNvPr id="616" name=""/>
              <p:cNvSpPr/>
              <p:nvPr/>
            </p:nvSpPr>
            <p:spPr>
              <a:xfrm>
                <a:off x="1194120" y="5064120"/>
                <a:ext cx="338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300 White 0.00 400 Jones 32.8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194120" y="5715000"/>
                <a:ext cx="338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300 Worthington 0.00ones 32.8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8" name=""/>
              <p:cNvGrpSpPr/>
              <p:nvPr/>
            </p:nvGrpSpPr>
            <p:grpSpPr>
              <a:xfrm>
                <a:off x="1200240" y="4530600"/>
                <a:ext cx="2314440" cy="533520"/>
                <a:chOff x="1200240" y="4530600"/>
                <a:chExt cx="2314440" cy="5335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2264040" y="47592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200240" y="4530600"/>
                  <a:ext cx="2314440" cy="307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300 Worthington 0.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1" name=""/>
              <p:cNvSpPr/>
              <p:nvPr/>
            </p:nvSpPr>
            <p:spPr>
              <a:xfrm flipH="1">
                <a:off x="4647600" y="5410080"/>
                <a:ext cx="114300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286000" y="53341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715000" y="5181480"/>
                <a:ext cx="2209680" cy="3373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ata gets overwrit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30D6-2553-4A22-A017-0DEE2007FB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created, updated, and processed by C program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e used for permanent storage of large amounts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 of data in variables and arrays is only 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EACD-4C4F-43DE-8AC0-7ED73D7094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6   Random Access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access fi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individual records without searching through other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ant access to records in a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can be inserted without destroying other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previously stored can be updated or deleted without overwri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using fixed length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tial files do not have fixed length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376280" y="4191120"/>
            <a:ext cx="6350040" cy="2200320"/>
            <a:chOff x="1376280" y="4191120"/>
            <a:chExt cx="6350040" cy="2200320"/>
          </a:xfrm>
        </p:grpSpPr>
        <p:sp>
          <p:nvSpPr>
            <p:cNvPr id="627" name=""/>
            <p:cNvSpPr/>
            <p:nvPr/>
          </p:nvSpPr>
          <p:spPr>
            <a:xfrm>
              <a:off x="1569960" y="5114880"/>
              <a:ext cx="773280" cy="3240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72120" y="5114880"/>
              <a:ext cx="773280" cy="3240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72120" y="5114880"/>
              <a:ext cx="772920" cy="3240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272120" y="5114880"/>
              <a:ext cx="772920" cy="3240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70320" y="5114880"/>
              <a:ext cx="772920" cy="3240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370320" y="5114880"/>
              <a:ext cx="774720" cy="3240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376280" y="5051520"/>
              <a:ext cx="5661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76280" y="5500800"/>
              <a:ext cx="5661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1440" y="4214880"/>
              <a:ext cx="3222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18840" y="41911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12920" y="4214880"/>
              <a:ext cx="773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190680" y="41911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14720" y="4214880"/>
              <a:ext cx="773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092120" y="41911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915080" y="4214880"/>
              <a:ext cx="77292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92480" y="41911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15080" y="4214880"/>
              <a:ext cx="77292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92480" y="41911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2365200" y="4471920"/>
              <a:ext cx="84240" cy="514440"/>
              <a:chOff x="2365200" y="4471920"/>
              <a:chExt cx="84240" cy="514440"/>
            </a:xfrm>
          </p:grpSpPr>
          <p:sp>
            <p:nvSpPr>
              <p:cNvPr id="646" name=""/>
              <p:cNvSpPr/>
              <p:nvPr/>
            </p:nvSpPr>
            <p:spPr>
              <a:xfrm>
                <a:off x="2406600" y="4471920"/>
                <a:ext cx="1800" cy="43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365200" y="4903920"/>
                <a:ext cx="84240" cy="82440"/>
              </a:xfrm>
              <a:custGeom>
                <a:avLst/>
                <a:gdLst/>
                <a:ahLst/>
                <a:rect l="l" t="t" r="r" b="b"/>
                <a:pathLst>
                  <a:path w="106" h="105">
                    <a:moveTo>
                      <a:pt x="0" y="0"/>
                    </a:moveTo>
                    <a:lnTo>
                      <a:pt x="52" y="105"/>
                    </a:lnTo>
                    <a:lnTo>
                      <a:pt x="10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3265560" y="4471920"/>
              <a:ext cx="84240" cy="514440"/>
              <a:chOff x="3265560" y="4471920"/>
              <a:chExt cx="84240" cy="514440"/>
            </a:xfrm>
          </p:grpSpPr>
          <p:sp>
            <p:nvSpPr>
              <p:cNvPr id="649" name=""/>
              <p:cNvSpPr/>
              <p:nvPr/>
            </p:nvSpPr>
            <p:spPr>
              <a:xfrm>
                <a:off x="3306600" y="4471920"/>
                <a:ext cx="1800" cy="43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65560" y="4903920"/>
                <a:ext cx="84240" cy="82440"/>
              </a:xfrm>
              <a:custGeom>
                <a:avLst/>
                <a:gdLst/>
                <a:ahLst/>
                <a:rect l="l" t="t" r="r" b="b"/>
                <a:pathLst>
                  <a:path w="106" h="105">
                    <a:moveTo>
                      <a:pt x="0" y="0"/>
                    </a:moveTo>
                    <a:lnTo>
                      <a:pt x="52" y="105"/>
                    </a:lnTo>
                    <a:lnTo>
                      <a:pt x="10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4165560" y="4471920"/>
              <a:ext cx="84240" cy="514440"/>
              <a:chOff x="4165560" y="4471920"/>
              <a:chExt cx="84240" cy="514440"/>
            </a:xfrm>
          </p:grpSpPr>
          <p:sp>
            <p:nvSpPr>
              <p:cNvPr id="652" name=""/>
              <p:cNvSpPr/>
              <p:nvPr/>
            </p:nvSpPr>
            <p:spPr>
              <a:xfrm>
                <a:off x="4206960" y="4471920"/>
                <a:ext cx="1440" cy="43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165560" y="4903920"/>
                <a:ext cx="84240" cy="82440"/>
              </a:xfrm>
              <a:custGeom>
                <a:avLst/>
                <a:gdLst/>
                <a:ahLst/>
                <a:rect l="l" t="t" r="r" b="b"/>
                <a:pathLst>
                  <a:path w="106" h="105">
                    <a:moveTo>
                      <a:pt x="0" y="0"/>
                    </a:moveTo>
                    <a:lnTo>
                      <a:pt x="52" y="105"/>
                    </a:lnTo>
                    <a:lnTo>
                      <a:pt x="10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5065560" y="4471920"/>
              <a:ext cx="86040" cy="514440"/>
              <a:chOff x="5065560" y="4471920"/>
              <a:chExt cx="86040" cy="514440"/>
            </a:xfrm>
          </p:grpSpPr>
          <p:sp>
            <p:nvSpPr>
              <p:cNvPr id="655" name=""/>
              <p:cNvSpPr/>
              <p:nvPr/>
            </p:nvSpPr>
            <p:spPr>
              <a:xfrm>
                <a:off x="5108400" y="4471920"/>
                <a:ext cx="1800" cy="43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065560" y="4903920"/>
                <a:ext cx="86040" cy="82440"/>
              </a:xfrm>
              <a:custGeom>
                <a:avLst/>
                <a:gdLst/>
                <a:ahLst/>
                <a:rect l="l" t="t" r="r" b="b"/>
                <a:pathLst>
                  <a:path w="106" h="105">
                    <a:moveTo>
                      <a:pt x="0" y="0"/>
                    </a:moveTo>
                    <a:lnTo>
                      <a:pt x="52" y="105"/>
                    </a:lnTo>
                    <a:lnTo>
                      <a:pt x="10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5967360" y="4471920"/>
              <a:ext cx="84240" cy="514440"/>
              <a:chOff x="5967360" y="4471920"/>
              <a:chExt cx="84240" cy="514440"/>
            </a:xfrm>
          </p:grpSpPr>
          <p:sp>
            <p:nvSpPr>
              <p:cNvPr id="658" name=""/>
              <p:cNvSpPr/>
              <p:nvPr/>
            </p:nvSpPr>
            <p:spPr>
              <a:xfrm>
                <a:off x="6008760" y="4471920"/>
                <a:ext cx="1440" cy="43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967360" y="4903920"/>
                <a:ext cx="84240" cy="82440"/>
              </a:xfrm>
              <a:custGeom>
                <a:avLst/>
                <a:gdLst/>
                <a:ahLst/>
                <a:rect l="l" t="t" r="r" b="b"/>
                <a:pathLst>
                  <a:path w="107" h="105">
                    <a:moveTo>
                      <a:pt x="0" y="0"/>
                    </a:moveTo>
                    <a:lnTo>
                      <a:pt x="53" y="105"/>
                    </a:lnTo>
                    <a:lnTo>
                      <a:pt x="10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1528920" y="4471920"/>
              <a:ext cx="83880" cy="514440"/>
              <a:chOff x="1528920" y="4471920"/>
              <a:chExt cx="83880" cy="514440"/>
            </a:xfrm>
          </p:grpSpPr>
          <p:sp>
            <p:nvSpPr>
              <p:cNvPr id="661" name=""/>
              <p:cNvSpPr/>
              <p:nvPr/>
            </p:nvSpPr>
            <p:spPr>
              <a:xfrm>
                <a:off x="1569960" y="4471920"/>
                <a:ext cx="1800" cy="43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528920" y="4903920"/>
                <a:ext cx="83880" cy="82440"/>
              </a:xfrm>
              <a:custGeom>
                <a:avLst/>
                <a:gdLst/>
                <a:ahLst/>
                <a:rect l="l" t="t" r="r" b="b"/>
                <a:pathLst>
                  <a:path w="106" h="105">
                    <a:moveTo>
                      <a:pt x="0" y="0"/>
                    </a:moveTo>
                    <a:lnTo>
                      <a:pt x="52" y="105"/>
                    </a:lnTo>
                    <a:lnTo>
                      <a:pt x="10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6586560" y="4600440"/>
              <a:ext cx="9666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663240" y="4653000"/>
              <a:ext cx="1063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te offs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329520" y="4343400"/>
              <a:ext cx="38736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19960" y="4475160"/>
              <a:ext cx="320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MS Mincho"/>
                  <a:ea typeface="Times New Roman"/>
                </a:rPr>
                <a:t>}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5400000">
              <a:off x="1748160" y="5593320"/>
              <a:ext cx="320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MS Mincho"/>
                  <a:ea typeface="Times New Roman"/>
                </a:rPr>
                <a:t>}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5400000">
              <a:off x="2648160" y="5593320"/>
              <a:ext cx="320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MS Mincho"/>
                  <a:ea typeface="Times New Roman"/>
                </a:rPr>
                <a:t>}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5400000">
              <a:off x="3548160" y="5593320"/>
              <a:ext cx="320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MS Mincho"/>
                  <a:ea typeface="Times New Roman"/>
                </a:rPr>
                <a:t>}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5400000">
              <a:off x="4448520" y="5593320"/>
              <a:ext cx="320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MS Mincho"/>
                  <a:ea typeface="Times New Roman"/>
                </a:rPr>
                <a:t>}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5400000">
              <a:off x="5349960" y="5593320"/>
              <a:ext cx="320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MS Mincho"/>
                  <a:ea typeface="Times New Roman"/>
                </a:rPr>
                <a:t>}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5400000">
              <a:off x="6250320" y="5593320"/>
              <a:ext cx="320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MS Mincho"/>
                  <a:ea typeface="Times New Roman"/>
                </a:rPr>
                <a:t>}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12920" y="4214880"/>
              <a:ext cx="45252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90320" y="41911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762200" y="5888160"/>
              <a:ext cx="4525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675800" y="5791320"/>
              <a:ext cx="483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664000" y="5888160"/>
              <a:ext cx="4507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98840" y="6080040"/>
              <a:ext cx="7095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64000" y="5888160"/>
              <a:ext cx="4525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365800" y="5888160"/>
              <a:ext cx="4507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265800" y="5888160"/>
              <a:ext cx="4510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565000" y="5791320"/>
              <a:ext cx="483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479400" y="5791320"/>
              <a:ext cx="483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393800" y="5791320"/>
              <a:ext cx="483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57440" y="5791320"/>
              <a:ext cx="483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171840" y="5791320"/>
              <a:ext cx="483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B1F5-729D-4BDC-84C5-A87AD99404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   Creating a Random 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n random access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formatted (stored as "raw bytes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data of the same typ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, for example) uses the same amount of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records of the same type have a fixed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not human 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D8A7-BDF2-47CA-AAB2-73013C4CF6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   Creating a Random 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formatted I/O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wr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 bytes from a location in memory to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 bytes from a file to a location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write( &amp;number, sizeof( int ), 1, myPtr 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Location to transfer byte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of( int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Number of bytes to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For arrays, number of elements to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is case, "one element" of an array is being transfer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P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File to transfer to or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9684-A014-4D00-931F-C21908199A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7   Creating a Random 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str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write( &amp;myObject, sizeof (struct myStruct), 1, myPtr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turns size in bytes of object in parenthe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write several array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 to array as first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elements to write as third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8BA8-2BD3-4C64-817F-9124F839F1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stru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stru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Open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Write to file using unformatted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Close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0" y="0"/>
            <a:ext cx="6780960" cy="6629040"/>
            <a:chOff x="0" y="0"/>
            <a:chExt cx="6780960" cy="6629040"/>
          </a:xfrm>
        </p:grpSpPr>
        <p:grpSp>
          <p:nvGrpSpPr>
            <p:cNvPr id="695" name=""/>
            <p:cNvGrpSpPr/>
            <p:nvPr/>
          </p:nvGrpSpPr>
          <p:grpSpPr>
            <a:xfrm>
              <a:off x="0" y="0"/>
              <a:ext cx="6780960" cy="220680"/>
              <a:chOff x="0" y="0"/>
              <a:chExt cx="6780960" cy="220680"/>
            </a:xfrm>
          </p:grpSpPr>
          <p:sp>
            <p:nvSpPr>
              <p:cNvPr id="696" name=""/>
              <p:cNvSpPr/>
              <p:nvPr/>
            </p:nvSpPr>
            <p:spPr>
              <a:xfrm>
                <a:off x="0" y="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0" y="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11.11: fig11_11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0" y="220680"/>
              <a:ext cx="6780960" cy="220680"/>
              <a:chOff x="0" y="220680"/>
              <a:chExt cx="6780960" cy="220680"/>
            </a:xfrm>
          </p:grpSpPr>
          <p:sp>
            <p:nvSpPr>
              <p:cNvPr id="699" name=""/>
              <p:cNvSpPr/>
              <p:nvPr/>
            </p:nvSpPr>
            <p:spPr>
              <a:xfrm>
                <a:off x="0" y="220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0" y="220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Creating a randomly accessed file sequentially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0" y="441720"/>
              <a:ext cx="6780960" cy="221040"/>
              <a:chOff x="0" y="441720"/>
              <a:chExt cx="6780960" cy="221040"/>
            </a:xfrm>
          </p:grpSpPr>
          <p:sp>
            <p:nvSpPr>
              <p:cNvPr id="702" name=""/>
              <p:cNvSpPr/>
              <p:nvPr/>
            </p:nvSpPr>
            <p:spPr>
              <a:xfrm>
                <a:off x="0" y="44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0" y="44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0" y="662760"/>
              <a:ext cx="6780960" cy="220680"/>
              <a:chOff x="0" y="662760"/>
              <a:chExt cx="6780960" cy="220680"/>
            </a:xfrm>
          </p:grpSpPr>
          <p:sp>
            <p:nvSpPr>
              <p:cNvPr id="705" name=""/>
              <p:cNvSpPr/>
              <p:nvPr/>
            </p:nvSpPr>
            <p:spPr>
              <a:xfrm>
                <a:off x="0" y="662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0" y="662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0" y="883800"/>
              <a:ext cx="6780960" cy="220680"/>
              <a:chOff x="0" y="883800"/>
              <a:chExt cx="6780960" cy="220680"/>
            </a:xfrm>
          </p:grpSpPr>
          <p:sp>
            <p:nvSpPr>
              <p:cNvPr id="708" name=""/>
              <p:cNvSpPr/>
              <p:nvPr/>
            </p:nvSpPr>
            <p:spPr>
              <a:xfrm>
                <a:off x="0" y="883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0" y="883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0" y="1104840"/>
              <a:ext cx="6780960" cy="220680"/>
              <a:chOff x="0" y="1104840"/>
              <a:chExt cx="6780960" cy="220680"/>
            </a:xfrm>
          </p:grpSpPr>
          <p:sp>
            <p:nvSpPr>
              <p:cNvPr id="711" name=""/>
              <p:cNvSpPr/>
              <p:nvPr/>
            </p:nvSpPr>
            <p:spPr>
              <a:xfrm>
                <a:off x="0" y="11048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0" y="11048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ctN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0" y="1325520"/>
              <a:ext cx="6780960" cy="221040"/>
              <a:chOff x="0" y="1325520"/>
              <a:chExt cx="6780960" cy="221040"/>
            </a:xfrm>
          </p:grpSpPr>
          <p:sp>
            <p:nvSpPr>
              <p:cNvPr id="714" name=""/>
              <p:cNvSpPr/>
              <p:nvPr/>
            </p:nvSpPr>
            <p:spPr>
              <a:xfrm>
                <a:off x="0" y="1325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0" y="1325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astName[ 15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0" y="1546920"/>
              <a:ext cx="6780960" cy="220680"/>
              <a:chOff x="0" y="1546920"/>
              <a:chExt cx="6780960" cy="220680"/>
            </a:xfrm>
          </p:grpSpPr>
          <p:sp>
            <p:nvSpPr>
              <p:cNvPr id="717" name=""/>
              <p:cNvSpPr/>
              <p:nvPr/>
            </p:nvSpPr>
            <p:spPr>
              <a:xfrm>
                <a:off x="0" y="15469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15469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rstName[ 10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0" y="1767600"/>
              <a:ext cx="6780960" cy="220680"/>
              <a:chOff x="0" y="1767600"/>
              <a:chExt cx="6780960" cy="220680"/>
            </a:xfrm>
          </p:grpSpPr>
          <p:sp>
            <p:nvSpPr>
              <p:cNvPr id="720" name=""/>
              <p:cNvSpPr/>
              <p:nvPr/>
            </p:nvSpPr>
            <p:spPr>
              <a:xfrm>
                <a:off x="0" y="1767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1767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lan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0" y="1988640"/>
              <a:ext cx="6780960" cy="220680"/>
              <a:chOff x="0" y="1988640"/>
              <a:chExt cx="6780960" cy="220680"/>
            </a:xfrm>
          </p:grpSpPr>
          <p:sp>
            <p:nvSpPr>
              <p:cNvPr id="723" name=""/>
              <p:cNvSpPr/>
              <p:nvPr/>
            </p:nvSpPr>
            <p:spPr>
              <a:xfrm>
                <a:off x="0" y="1988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1988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0" y="2209680"/>
              <a:ext cx="6780960" cy="221040"/>
              <a:chOff x="0" y="2209680"/>
              <a:chExt cx="6780960" cy="221040"/>
            </a:xfrm>
          </p:grpSpPr>
          <p:sp>
            <p:nvSpPr>
              <p:cNvPr id="726" name=""/>
              <p:cNvSpPr/>
              <p:nvPr/>
            </p:nvSpPr>
            <p:spPr>
              <a:xfrm>
                <a:off x="0" y="2209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2209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0" y="2430720"/>
              <a:ext cx="6780960" cy="220680"/>
              <a:chOff x="0" y="2430720"/>
              <a:chExt cx="6780960" cy="220680"/>
            </a:xfrm>
          </p:grpSpPr>
          <p:sp>
            <p:nvSpPr>
              <p:cNvPr id="729" name=""/>
              <p:cNvSpPr/>
              <p:nvPr/>
            </p:nvSpPr>
            <p:spPr>
              <a:xfrm>
                <a:off x="0" y="2430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2430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0" y="2651760"/>
              <a:ext cx="6780960" cy="220680"/>
              <a:chOff x="0" y="2651760"/>
              <a:chExt cx="6780960" cy="220680"/>
            </a:xfrm>
          </p:grpSpPr>
          <p:sp>
            <p:nvSpPr>
              <p:cNvPr id="732" name=""/>
              <p:cNvSpPr/>
              <p:nvPr/>
            </p:nvSpPr>
            <p:spPr>
              <a:xfrm>
                <a:off x="0" y="2651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26517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0" y="2872800"/>
              <a:ext cx="6780960" cy="220680"/>
              <a:chOff x="0" y="2872800"/>
              <a:chExt cx="6780960" cy="220680"/>
            </a:xfrm>
          </p:grpSpPr>
          <p:sp>
            <p:nvSpPr>
              <p:cNvPr id="735" name=""/>
              <p:cNvSpPr/>
              <p:nvPr/>
            </p:nvSpPr>
            <p:spPr>
              <a:xfrm>
                <a:off x="0" y="2872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28728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0" y="3093480"/>
              <a:ext cx="6780960" cy="221040"/>
              <a:chOff x="0" y="3093480"/>
              <a:chExt cx="6780960" cy="221040"/>
            </a:xfrm>
          </p:grpSpPr>
          <p:sp>
            <p:nvSpPr>
              <p:cNvPr id="738" name=""/>
              <p:cNvSpPr/>
              <p:nvPr/>
            </p:nvSpPr>
            <p:spPr>
              <a:xfrm>
                <a:off x="0" y="309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309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blankClient = { 0, "", "", 0.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0" y="3314880"/>
              <a:ext cx="6780960" cy="220680"/>
              <a:chOff x="0" y="3314880"/>
              <a:chExt cx="6780960" cy="220680"/>
            </a:xfrm>
          </p:grpSpPr>
          <p:sp>
            <p:nvSpPr>
              <p:cNvPr id="741" name=""/>
              <p:cNvSpPr/>
              <p:nvPr/>
            </p:nvSpPr>
            <p:spPr>
              <a:xfrm>
                <a:off x="0" y="33148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0" y="33148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LE *cf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0" y="3535560"/>
              <a:ext cx="6780960" cy="220680"/>
              <a:chOff x="0" y="3535560"/>
              <a:chExt cx="6780960" cy="220680"/>
            </a:xfrm>
          </p:grpSpPr>
          <p:sp>
            <p:nvSpPr>
              <p:cNvPr id="744" name=""/>
              <p:cNvSpPr/>
              <p:nvPr/>
            </p:nvSpPr>
            <p:spPr>
              <a:xfrm>
                <a:off x="0" y="3535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3535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0" y="3756600"/>
              <a:ext cx="6780960" cy="220680"/>
              <a:chOff x="0" y="3756600"/>
              <a:chExt cx="6780960" cy="220680"/>
            </a:xfrm>
          </p:grpSpPr>
          <p:sp>
            <p:nvSpPr>
              <p:cNvPr id="747" name=""/>
              <p:cNvSpPr/>
              <p:nvPr/>
            </p:nvSpPr>
            <p:spPr>
              <a:xfrm>
                <a:off x="0" y="3756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0" y="3756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cfPtr = fopen( "credit.dat", "w" ) ) == NUL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0" y="3977640"/>
              <a:ext cx="6780960" cy="220680"/>
              <a:chOff x="0" y="3977640"/>
              <a:chExt cx="6780960" cy="220680"/>
            </a:xfrm>
          </p:grpSpPr>
          <p:sp>
            <p:nvSpPr>
              <p:cNvPr id="750" name=""/>
              <p:cNvSpPr/>
              <p:nvPr/>
            </p:nvSpPr>
            <p:spPr>
              <a:xfrm>
                <a:off x="0" y="3977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39776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File could not be opened.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0" y="4198680"/>
              <a:ext cx="6780960" cy="221040"/>
              <a:chOff x="0" y="4198680"/>
              <a:chExt cx="6780960" cy="221040"/>
            </a:xfrm>
          </p:grpSpPr>
          <p:sp>
            <p:nvSpPr>
              <p:cNvPr id="753" name=""/>
              <p:cNvSpPr/>
              <p:nvPr/>
            </p:nvSpPr>
            <p:spPr>
              <a:xfrm>
                <a:off x="0" y="4198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4198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0" y="4419720"/>
              <a:ext cx="6780960" cy="220680"/>
              <a:chOff x="0" y="4419720"/>
              <a:chExt cx="6780960" cy="220680"/>
            </a:xfrm>
          </p:grpSpPr>
          <p:sp>
            <p:nvSpPr>
              <p:cNvPr id="756" name=""/>
              <p:cNvSpPr/>
              <p:nvPr/>
            </p:nvSpPr>
            <p:spPr>
              <a:xfrm>
                <a:off x="0" y="4419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44197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0" y="4640400"/>
              <a:ext cx="6780960" cy="220680"/>
              <a:chOff x="0" y="4640400"/>
              <a:chExt cx="6780960" cy="220680"/>
            </a:xfrm>
          </p:grpSpPr>
          <p:sp>
            <p:nvSpPr>
              <p:cNvPr id="759" name=""/>
              <p:cNvSpPr/>
              <p:nvPr/>
            </p:nvSpPr>
            <p:spPr>
              <a:xfrm>
                <a:off x="0" y="46404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46404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i = 1; i &lt;= 100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0" y="4861440"/>
              <a:ext cx="6780960" cy="220680"/>
              <a:chOff x="0" y="4861440"/>
              <a:chExt cx="6780960" cy="22068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48614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486144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write( &amp;blankClien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0" y="5082480"/>
              <a:ext cx="6780960" cy="221040"/>
              <a:chOff x="0" y="5082480"/>
              <a:chExt cx="6780960" cy="221040"/>
            </a:xfrm>
          </p:grpSpPr>
          <p:sp>
            <p:nvSpPr>
              <p:cNvPr id="765" name=""/>
              <p:cNvSpPr/>
              <p:nvPr/>
            </p:nvSpPr>
            <p:spPr>
              <a:xfrm>
                <a:off x="0" y="5082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5082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1,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0" y="5303520"/>
              <a:ext cx="6780960" cy="220680"/>
              <a:chOff x="0" y="5303520"/>
              <a:chExt cx="6780960" cy="220680"/>
            </a:xfrm>
          </p:grpSpPr>
          <p:sp>
            <p:nvSpPr>
              <p:cNvPr id="768" name=""/>
              <p:cNvSpPr/>
              <p:nvPr/>
            </p:nvSpPr>
            <p:spPr>
              <a:xfrm>
                <a:off x="0" y="53035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530352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0" y="5524560"/>
              <a:ext cx="6780960" cy="220680"/>
              <a:chOff x="0" y="5524560"/>
              <a:chExt cx="6780960" cy="220680"/>
            </a:xfrm>
          </p:grpSpPr>
          <p:sp>
            <p:nvSpPr>
              <p:cNvPr id="771" name=""/>
              <p:cNvSpPr/>
              <p:nvPr/>
            </p:nvSpPr>
            <p:spPr>
              <a:xfrm>
                <a:off x="0" y="5524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55245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close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0" y="5745600"/>
              <a:ext cx="6780960" cy="220680"/>
              <a:chOff x="0" y="5745600"/>
              <a:chExt cx="6780960" cy="22068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5745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574560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0" y="5966280"/>
              <a:ext cx="6780960" cy="221040"/>
              <a:chOff x="0" y="5966280"/>
              <a:chExt cx="6780960" cy="221040"/>
            </a:xfrm>
          </p:grpSpPr>
          <p:sp>
            <p:nvSpPr>
              <p:cNvPr id="777" name=""/>
              <p:cNvSpPr/>
              <p:nvPr/>
            </p:nvSpPr>
            <p:spPr>
              <a:xfrm>
                <a:off x="0" y="5966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0" y="59662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0" y="6187680"/>
              <a:ext cx="6780960" cy="220680"/>
              <a:chOff x="0" y="6187680"/>
              <a:chExt cx="6780960" cy="220680"/>
            </a:xfrm>
          </p:grpSpPr>
          <p:sp>
            <p:nvSpPr>
              <p:cNvPr id="780" name=""/>
              <p:cNvSpPr/>
              <p:nvPr/>
            </p:nvSpPr>
            <p:spPr>
              <a:xfrm>
                <a:off x="0" y="6187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0" y="618768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0" y="6408360"/>
              <a:ext cx="6780960" cy="220680"/>
              <a:chOff x="0" y="6408360"/>
              <a:chExt cx="6780960" cy="220680"/>
            </a:xfrm>
          </p:grpSpPr>
          <p:sp>
            <p:nvSpPr>
              <p:cNvPr id="783" name=""/>
              <p:cNvSpPr/>
              <p:nvPr/>
            </p:nvSpPr>
            <p:spPr>
              <a:xfrm>
                <a:off x="0" y="6408360"/>
                <a:ext cx="678096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4" name=""/>
              <p:cNvGrpSpPr/>
              <p:nvPr/>
            </p:nvGrpSpPr>
            <p:grpSpPr>
              <a:xfrm>
                <a:off x="0" y="6408360"/>
                <a:ext cx="6780600" cy="220680"/>
                <a:chOff x="0" y="6408360"/>
                <a:chExt cx="6780600" cy="22068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0" y="6408360"/>
                  <a:ext cx="6780600" cy="22068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3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0" y="6408360"/>
                  <a:ext cx="6780600" cy="2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21F67-9D31-4E57-A387-2CAC2C1F07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8   Writing Data Randomly to a Random 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se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file position pointer to a specific pos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seek(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inter, offset, symbolic_constan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 to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le position pointer (0 is first lo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mbolic_consta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pecifies where in file we are reading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EK_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ek starts at beginning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EK_C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ek starts at current location in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EK_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ek starts at end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8B06-F015-4134-BBA3-C73B42403A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stru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Open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In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Write to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91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79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11.12: fig11_12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79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Writing to a random access fil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79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80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80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80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ctN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81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astName[ 15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81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rstName[ 10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81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lan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81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82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82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83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LE *cf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83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client = { 0, "", "", 0.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83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84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cfPtr = fopen( "credit.dat", "r+" ) ) == NUL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84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File could not be opened.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84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84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Enter account number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85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" ( 1 to 100, 0 to end input )\n?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85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canf( "%d", &amp;client.acctNu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85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86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lient.acctNum != 0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86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Enter lastname, firstname, balance\n?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86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scanf( stdin, "%s%s%lf", client.lastNam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87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client.firstName, &amp;client.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87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seek( cfPtr, ( client.acctNum - 1 ) *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87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SEEK_SE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87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write( &amp;client, sizeof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1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88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88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printf( "Enter account number\n?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DC663-476B-4BB6-B87A-302B871376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Close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0" y="0"/>
            <a:ext cx="6780960" cy="1828440"/>
            <a:chOff x="0" y="0"/>
            <a:chExt cx="6780960" cy="1828440"/>
          </a:xfrm>
        </p:grpSpPr>
        <p:grpSp>
          <p:nvGrpSpPr>
            <p:cNvPr id="889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890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scanf( "%d", &amp;client.acctNu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893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896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899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close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902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905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0" y="1371600"/>
              <a:ext cx="6780960" cy="228600"/>
              <a:chOff x="0" y="1371600"/>
              <a:chExt cx="6780960" cy="228600"/>
            </a:xfrm>
          </p:grpSpPr>
          <p:sp>
            <p:nvSpPr>
              <p:cNvPr id="908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13716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911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2" name=""/>
              <p:cNvGrpSpPr/>
              <p:nvPr/>
            </p:nvGrpSpPr>
            <p:grpSpPr>
              <a:xfrm>
                <a:off x="0" y="1600200"/>
                <a:ext cx="6780600" cy="228240"/>
                <a:chOff x="0" y="1600200"/>
                <a:chExt cx="6780600" cy="22824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0" y="1600200"/>
                  <a:ext cx="6780600" cy="22824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40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0" y="1600200"/>
                  <a:ext cx="678060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15" name=""/>
          <p:cNvSpPr/>
          <p:nvPr/>
        </p:nvSpPr>
        <p:spPr>
          <a:xfrm>
            <a:off x="0" y="1981080"/>
            <a:ext cx="6781680" cy="24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ccount number (1 to 100, 0 to end inp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lastname, firstname,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Barker Doug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ccoun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lastname, firstname,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Brown Nancy -24.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ccoun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lastname, firstname,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Stone Sam 34.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1222A-D21D-460C-A0F1-2057B7D37C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0"/>
            <a:ext cx="678168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ccoun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lastname, firstname,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Smith Dave 258.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ccoun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lastname, firstname,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Dunn Stacey 314.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ccoun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DCBBE-F390-4A42-AB86-299784D296D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9   Reading Data Sequentially from a Random 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s a specified number of bytes from a file into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ead( &amp;client, sizeof (struct clientData), 1, myPtr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read several fixed-size array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pointer to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 number of elements to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read multiple elements, specify in third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6340B-EAF2-4622-8E53-B1C0B8E232E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   The Data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Hierarch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i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mallest data i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te – 8 bi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store a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mal digits, letters, and special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el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group of characters conveying mean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your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rd – group of related fie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ed by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In a payroll system, a record for a particular employee that contained his/her identification number, name, addres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0725-54F1-41EA-9A90-EAC3077F73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stru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Read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ad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922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923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11.15: fig11_15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926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Reading a random access file sequentially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929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932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935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938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ctN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941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astName[ 15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944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rstName[ 10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947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lan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950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953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956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959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962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LE *cf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965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client = { 0, "", "", 0.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968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971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cfPtr = fopen( "credit.dat", "r" ) ) == NUL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File could not be opened.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977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980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-6s%-16s%-11s%10s\n", "Acct", "Last Name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983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"First Name", "Balance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986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989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!feof( cfPtr )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992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read( &amp;clien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1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995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998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001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lient.acctNum !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004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printf( "%-6d%-16s%-11s%10.2f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007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client.acctNum, client.lastNam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client.firstName, client.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016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355DE-B867-4161-AC7D-587FA4D447E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Close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0" y="0"/>
            <a:ext cx="6780960" cy="1066320"/>
            <a:chOff x="0" y="0"/>
            <a:chExt cx="6780960" cy="1066320"/>
          </a:xfrm>
        </p:grpSpPr>
        <p:grpSp>
          <p:nvGrpSpPr>
            <p:cNvPr id="1020" name=""/>
            <p:cNvGrpSpPr/>
            <p:nvPr/>
          </p:nvGrpSpPr>
          <p:grpSpPr>
            <a:xfrm>
              <a:off x="0" y="0"/>
              <a:ext cx="6780960" cy="213120"/>
              <a:chOff x="0" y="0"/>
              <a:chExt cx="6780960" cy="213120"/>
            </a:xfrm>
          </p:grpSpPr>
          <p:sp>
            <p:nvSpPr>
              <p:cNvPr id="1021" name="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close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0" y="213120"/>
              <a:ext cx="6780960" cy="213120"/>
              <a:chOff x="0" y="213120"/>
              <a:chExt cx="6780960" cy="213120"/>
            </a:xfrm>
          </p:grpSpPr>
          <p:sp>
            <p:nvSpPr>
              <p:cNvPr id="1024" name="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0" y="426600"/>
              <a:ext cx="6780960" cy="213480"/>
              <a:chOff x="0" y="426600"/>
              <a:chExt cx="6780960" cy="213480"/>
            </a:xfrm>
          </p:grpSpPr>
          <p:sp>
            <p:nvSpPr>
              <p:cNvPr id="1027" name="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0" y="640080"/>
              <a:ext cx="6780960" cy="213120"/>
              <a:chOff x="0" y="640080"/>
              <a:chExt cx="6780960" cy="213120"/>
            </a:xfrm>
          </p:grpSpPr>
          <p:sp>
            <p:nvSpPr>
              <p:cNvPr id="1030" name="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0" y="853200"/>
              <a:ext cx="6780960" cy="213120"/>
              <a:chOff x="0" y="853200"/>
              <a:chExt cx="6780960" cy="213120"/>
            </a:xfrm>
          </p:grpSpPr>
          <p:sp>
            <p:nvSpPr>
              <p:cNvPr id="1033" name=""/>
              <p:cNvSpPr/>
              <p:nvPr/>
            </p:nvSpPr>
            <p:spPr>
              <a:xfrm>
                <a:off x="0" y="85320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0" y="85320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5" name=""/>
          <p:cNvSpPr/>
          <p:nvPr/>
        </p:nvSpPr>
        <p:spPr>
          <a:xfrm>
            <a:off x="0" y="129528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t  Last Name       First Name   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9    Brown           Nancy          -24.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3    Dunn            Stacey         314.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7    Barker          Doug        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8    Smith           Dave           258.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Stone           Sam             34.9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4F782-FB06-49AE-A164-39505DFEF5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10   Case Study: A Transaction Processing Progra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onstrates using random access files to achieve instant access processing of a bank’s account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date existing ac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 new ac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lete ac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e a formatted listing of all accounts in a text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C540-33DF-4749-B7FC-9DAD74A87D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Define stru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3 Link pointer and open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 choic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040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11.16: fig11_16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044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This program reads a random access file sequentially,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047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updates data already written to the file, creates 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050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data to be placed in the file, and deletes data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053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already in the file.                                 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056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059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062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ctN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lastName[ 15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firstName[ 10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balan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nterChoi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xtFile( FIL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updateRecord( FIL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ewRecord( FIL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leteRecord( FILE *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101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LE *cf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110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hoi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113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116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cfPtr = fopen( "credit.dat", "r+" ) ) == NUL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119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File could not be opened.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125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128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choice = enterChoice() ) != 5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witch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hoice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1C1FA-9B95-470E-AFC5-01DA4E8F28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Perform ac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Close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38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139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1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142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textFile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145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148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2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151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updateRecord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154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157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3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160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newRecord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163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166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a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4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169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deleteRecord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172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break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175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178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181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184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close( c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187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190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193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196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199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202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extFile( FILE *read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205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208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ILE *write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211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client = { 0, "", "", 0.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214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217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( writePtr = fopen( "accounts.txt", "w" ) ) == NUL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220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File could not be opened.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223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226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rewind( read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229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printf( writePtr, "%-6s%-16s%-11s%10s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232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"Acct", "Last Name", "First Name","Balance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33401-1B0A-4DF4-81B8-BD642294D88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236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237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240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!feof( readPtr )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243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fread( &amp;clien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1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246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read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249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252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lient.acctNum !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255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fprintf( writePtr, "%-6d%-16s%-11s%10.2f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258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client.acctNum, client.lastName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0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261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client.firstName, client.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3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264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267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270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fclo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write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273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276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279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285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updateRecord( FILE *f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288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291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coun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294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transact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297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client = { 0, "", "", 0.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300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303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account to update ( 1 - 100 ):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306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d", &amp;accou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309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seek( fPtr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312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( account - 1 )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4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315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SEEK_SE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318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read( &amp;clien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1, 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321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324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lient.acctNum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327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Acount #%d has no information.\n", accoun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330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81388-9BA9-4B99-B761-28F1B299D2F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334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335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-6d%-16s%-11s%10.2f\n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338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client.acctNum, client.lastNam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341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client.firstName, client.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344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Enter charge ( + ) or payment ( - ):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6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347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canf( "%lf", &amp;transaction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9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350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lient.balance += transactio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353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-6d%-16s%-11s%10.2f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356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client.acctNum, client.lastNam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8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359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client.firstName, client.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362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seek( fPtr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4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365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( account - 1 )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7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368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SEEK_SE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0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371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write( &amp;clien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1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3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374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6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377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380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383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5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386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eleteRecord( FILE *f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8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389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1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392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clien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4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395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blankClient = { 0, "", "", 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7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398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countN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0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1401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1404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account number to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407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delete ( 1 - 100 ):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9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410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can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"%d", &amp;accountNu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2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1413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seek( fPtr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5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1416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( accountNum - 1 )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419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SEEK_SE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422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read( &amp;clien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1, 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D9171-08BF-469D-B810-63F55E76EE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426" name="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427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430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lient.acctNum =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2" name="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433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Account %d does not exist.\n", accountNu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1436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8" name="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1439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seek( fPtr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1" name="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1442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( accountNum - 1 )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1445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SEEK_SE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1448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write( &amp;blankClien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1451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1, 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3" name="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1454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1457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1460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1463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newRecord( FILE *f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1466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1469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client = { 0, "", "", 0.0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1" name="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1472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ccountN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4" name="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1475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new account number ( 1 - 100 ):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7" name="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1478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d", &amp;accountNu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1481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seek( fPtr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1484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( accountNum - 1 )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6" name="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1487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SEEK_SE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9" name="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1490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fread( &amp;clien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1, 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" name="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1493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1496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client.acctNum != 0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1499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Account #%d already contains information.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1502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client.acctNu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4" name="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1505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1508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Enter lastname, firstname, balance\n?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1511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scanf( "%s%s%lf", &amp;client.lastName, &amp;client.firstName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3" name="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1514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&amp;client.bala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7CC72-9122-4CA1-B57C-622FFBF6A5E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518" name=""/>
            <p:cNvGrpSpPr/>
            <p:nvPr/>
          </p:nvGrpSpPr>
          <p:grpSpPr>
            <a:xfrm>
              <a:off x="0" y="0"/>
              <a:ext cx="6780960" cy="311400"/>
              <a:chOff x="0" y="0"/>
              <a:chExt cx="6780960" cy="311400"/>
            </a:xfrm>
          </p:grpSpPr>
          <p:sp>
            <p:nvSpPr>
              <p:cNvPr id="1519" name="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client.acctNum = accountNu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0" y="311400"/>
              <a:ext cx="6780960" cy="311400"/>
              <a:chOff x="0" y="311400"/>
              <a:chExt cx="6780960" cy="311400"/>
            </a:xfrm>
          </p:grpSpPr>
          <p:sp>
            <p:nvSpPr>
              <p:cNvPr id="1522" name="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seek( fPtr, ( client.acctNum - 1 ) *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0" y="623160"/>
              <a:ext cx="6780960" cy="311760"/>
              <a:chOff x="0" y="623160"/>
              <a:chExt cx="6780960" cy="311760"/>
            </a:xfrm>
          </p:grpSpPr>
          <p:sp>
            <p:nvSpPr>
              <p:cNvPr id="1525" name="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SEEK_SET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0" y="934920"/>
              <a:ext cx="6780960" cy="311400"/>
              <a:chOff x="0" y="934920"/>
              <a:chExt cx="6780960" cy="311400"/>
            </a:xfrm>
          </p:grpSpPr>
          <p:sp>
            <p:nvSpPr>
              <p:cNvPr id="1528" name="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fwrite( &amp;client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0" name=""/>
            <p:cNvGrpSpPr/>
            <p:nvPr/>
          </p:nvGrpSpPr>
          <p:grpSpPr>
            <a:xfrm>
              <a:off x="0" y="1246680"/>
              <a:ext cx="6780960" cy="311400"/>
              <a:chOff x="0" y="1246680"/>
              <a:chExt cx="6780960" cy="311400"/>
            </a:xfrm>
          </p:grpSpPr>
          <p:sp>
            <p:nvSpPr>
              <p:cNvPr id="1531" name="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izeo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struc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clientData ), 1, f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0" y="1558440"/>
              <a:ext cx="6780960" cy="311400"/>
              <a:chOff x="0" y="1558440"/>
              <a:chExt cx="6780960" cy="311400"/>
            </a:xfrm>
          </p:grpSpPr>
          <p:sp>
            <p:nvSpPr>
              <p:cNvPr id="1534" name="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0" y="1870200"/>
              <a:ext cx="6780960" cy="311760"/>
              <a:chOff x="0" y="1870200"/>
              <a:chExt cx="6780960" cy="311760"/>
            </a:xfrm>
          </p:grpSpPr>
          <p:sp>
            <p:nvSpPr>
              <p:cNvPr id="1537" name="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0" y="2181960"/>
              <a:ext cx="6780960" cy="311400"/>
              <a:chOff x="0" y="2181960"/>
              <a:chExt cx="6780960" cy="311400"/>
            </a:xfrm>
          </p:grpSpPr>
          <p:sp>
            <p:nvSpPr>
              <p:cNvPr id="1540" name="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0" y="2493720"/>
              <a:ext cx="6780960" cy="311400"/>
              <a:chOff x="0" y="2493720"/>
              <a:chExt cx="6780960" cy="311400"/>
            </a:xfrm>
          </p:grpSpPr>
          <p:sp>
            <p:nvSpPr>
              <p:cNvPr id="1543" name="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enterChoi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0" y="2805480"/>
              <a:ext cx="6780960" cy="311400"/>
              <a:chOff x="0" y="2805480"/>
              <a:chExt cx="6780960" cy="311400"/>
            </a:xfrm>
          </p:grpSpPr>
          <p:sp>
            <p:nvSpPr>
              <p:cNvPr id="1546" name="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8" name=""/>
            <p:cNvGrpSpPr/>
            <p:nvPr/>
          </p:nvGrpSpPr>
          <p:grpSpPr>
            <a:xfrm>
              <a:off x="0" y="3117240"/>
              <a:ext cx="6780960" cy="311760"/>
              <a:chOff x="0" y="3117240"/>
              <a:chExt cx="6780960" cy="311760"/>
            </a:xfrm>
          </p:grpSpPr>
          <p:sp>
            <p:nvSpPr>
              <p:cNvPr id="1549" name="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nuChoi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0" y="3429000"/>
              <a:ext cx="6780960" cy="311400"/>
              <a:chOff x="0" y="3429000"/>
              <a:chExt cx="6780960" cy="311400"/>
            </a:xfrm>
          </p:grpSpPr>
          <p:sp>
            <p:nvSpPr>
              <p:cNvPr id="1552" name="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0" y="3740760"/>
              <a:ext cx="6780960" cy="311400"/>
              <a:chOff x="0" y="3740760"/>
              <a:chExt cx="6780960" cy="311400"/>
            </a:xfrm>
          </p:grpSpPr>
          <p:sp>
            <p:nvSpPr>
              <p:cNvPr id="1555" name="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Enter your choice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0" y="4052520"/>
              <a:ext cx="6780960" cy="311400"/>
              <a:chOff x="0" y="4052520"/>
              <a:chExt cx="6780960" cy="311400"/>
            </a:xfrm>
          </p:grpSpPr>
          <p:sp>
            <p:nvSpPr>
              <p:cNvPr id="1558" name="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"1 - store a formatted text file of acounts called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0" y="4363920"/>
              <a:ext cx="6780960" cy="311760"/>
              <a:chOff x="0" y="4363920"/>
              <a:chExt cx="6780960" cy="311760"/>
            </a:xfrm>
          </p:grpSpPr>
          <p:sp>
            <p:nvSpPr>
              <p:cNvPr id="1561" name="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"    \"accounts.txt\" for printing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0" y="4676040"/>
              <a:ext cx="6780960" cy="311400"/>
              <a:chOff x="0" y="4676040"/>
              <a:chExt cx="6780960" cy="311400"/>
            </a:xfrm>
          </p:grpSpPr>
          <p:sp>
            <p:nvSpPr>
              <p:cNvPr id="1564" name="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"2 - update an account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0" y="4987800"/>
              <a:ext cx="6780960" cy="311400"/>
              <a:chOff x="0" y="4987800"/>
              <a:chExt cx="6780960" cy="311400"/>
            </a:xfrm>
          </p:grpSpPr>
          <p:sp>
            <p:nvSpPr>
              <p:cNvPr id="1567" name="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"3 - add a new account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0" y="5299200"/>
              <a:ext cx="6780960" cy="311400"/>
              <a:chOff x="0" y="5299200"/>
              <a:chExt cx="6780960" cy="311400"/>
            </a:xfrm>
          </p:grpSpPr>
          <p:sp>
            <p:nvSpPr>
              <p:cNvPr id="1570" name="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"4 - delete an account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2" name=""/>
            <p:cNvGrpSpPr/>
            <p:nvPr/>
          </p:nvGrpSpPr>
          <p:grpSpPr>
            <a:xfrm>
              <a:off x="0" y="5610960"/>
              <a:ext cx="6780960" cy="311400"/>
              <a:chOff x="0" y="5610960"/>
              <a:chExt cx="6780960" cy="311400"/>
            </a:xfrm>
          </p:grpSpPr>
          <p:sp>
            <p:nvSpPr>
              <p:cNvPr id="1573" name="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"5 - end program\n?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0" y="5922720"/>
              <a:ext cx="6780960" cy="311760"/>
              <a:chOff x="0" y="5922720"/>
              <a:chExt cx="6780960" cy="311760"/>
            </a:xfrm>
          </p:grpSpPr>
          <p:sp>
            <p:nvSpPr>
              <p:cNvPr id="1576" name="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canf( "%d", &amp;menuChoi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0" y="6234480"/>
              <a:ext cx="6780960" cy="311400"/>
              <a:chOff x="0" y="6234480"/>
              <a:chExt cx="6780960" cy="311400"/>
            </a:xfrm>
          </p:grpSpPr>
          <p:sp>
            <p:nvSpPr>
              <p:cNvPr id="1579" name="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enuChoic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0" y="6546240"/>
              <a:ext cx="6780960" cy="311400"/>
              <a:chOff x="0" y="6546240"/>
              <a:chExt cx="6780960" cy="311400"/>
            </a:xfrm>
          </p:grpSpPr>
          <p:sp>
            <p:nvSpPr>
              <p:cNvPr id="1582" name="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3" name=""/>
              <p:cNvGrpSpPr/>
              <p:nvPr/>
            </p:nvGrpSpPr>
            <p:grpSpPr>
              <a:xfrm>
                <a:off x="0" y="6546240"/>
                <a:ext cx="6780600" cy="311400"/>
                <a:chOff x="0" y="6546240"/>
                <a:chExt cx="6780600" cy="311400"/>
              </a:xfrm>
            </p:grpSpPr>
            <p:sp>
              <p:nvSpPr>
                <p:cNvPr id="1584" name=""/>
                <p:cNvSpPr/>
                <p:nvPr/>
              </p:nvSpPr>
              <p:spPr>
                <a:xfrm>
                  <a:off x="0" y="6546240"/>
                  <a:ext cx="6780600" cy="3114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17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  <a:ea typeface="Times New Roman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Times New Roman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0" y="6546240"/>
                  <a:ext cx="6780600" cy="3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D8D97-B8A3-4446-8B5B-0759DAE23BD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87" name=""/>
          <p:cNvSpPr/>
          <p:nvPr/>
        </p:nvSpPr>
        <p:spPr>
          <a:xfrm>
            <a:off x="0" y="213372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ccount to update (1 - 100):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7    Barker          Doug        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charge (+) or payment (-): +87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7    Barker          Doug            87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0" y="358128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new account number (1 - 100): 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lastname, firstname,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? Johnston Sarah 247.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0" y="0"/>
            <a:ext cx="6781680" cy="1919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fter choosing option 1 accounts.txt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t  Last Name       First Name   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9    Brown           Nancy          -24.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3    Dunn            Stacey         314.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7    Barker          Doug             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8    Smith           Dave           258.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Stone           Sam             34.9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257E2-A8FC-40DD-A4A1-BB0F1B473D2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   The Data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Hierarchy (continu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– group of related reco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payroll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base – group of related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533600" y="3048120"/>
            <a:ext cx="5172120" cy="2895480"/>
            <a:chOff x="1533600" y="3048120"/>
            <a:chExt cx="5172120" cy="2895480"/>
          </a:xfrm>
        </p:grpSpPr>
        <p:sp>
          <p:nvSpPr>
            <p:cNvPr id="103" name=""/>
            <p:cNvSpPr/>
            <p:nvPr/>
          </p:nvSpPr>
          <p:spPr>
            <a:xfrm>
              <a:off x="2116080" y="5627520"/>
              <a:ext cx="1652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90800" y="5280120"/>
              <a:ext cx="10317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01001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8400" y="4927680"/>
              <a:ext cx="90648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Ju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97160" y="4579920"/>
              <a:ext cx="5364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Ju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76480" y="4579920"/>
              <a:ext cx="6588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65400" y="5435640"/>
              <a:ext cx="1440" cy="209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98680" y="5076720"/>
              <a:ext cx="1440" cy="209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08120" y="4756320"/>
              <a:ext cx="360" cy="209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4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74760" y="4583160"/>
              <a:ext cx="74160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6360" y="458316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98840" y="4583160"/>
              <a:ext cx="74160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7600" y="458316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38400" y="3048120"/>
              <a:ext cx="6606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Sal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6920" y="3048120"/>
              <a:ext cx="6588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Bl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6360" y="3051000"/>
              <a:ext cx="741240" cy="140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7600" y="3051000"/>
              <a:ext cx="741240" cy="140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40440" y="3051000"/>
              <a:ext cx="741240" cy="140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98840" y="3051000"/>
              <a:ext cx="741600" cy="1400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38400" y="3257640"/>
              <a:ext cx="4129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06920" y="3257640"/>
              <a:ext cx="5364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B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16360" y="325908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57600" y="325908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40440" y="325908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98840" y="3259080"/>
              <a:ext cx="74160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38400" y="3467160"/>
              <a:ext cx="5367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Ju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06920" y="3467160"/>
              <a:ext cx="6588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16360" y="346860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57600" y="346860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40440" y="346860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98840" y="3468600"/>
              <a:ext cx="74160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38400" y="3675240"/>
              <a:ext cx="53676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r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06920" y="3675240"/>
              <a:ext cx="78264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16360" y="367812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367812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40440" y="3678120"/>
              <a:ext cx="74124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98840" y="3678120"/>
              <a:ext cx="74160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38400" y="3882960"/>
              <a:ext cx="66060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Ran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06920" y="3882960"/>
              <a:ext cx="4125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16360" y="388620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57600" y="388620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40440" y="3886200"/>
              <a:ext cx="74124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98840" y="3886200"/>
              <a:ext cx="741600" cy="1396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17"/>
                  </a:lnTo>
                  <a:lnTo>
                    <a:pt x="0" y="19917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46280" y="3538440"/>
              <a:ext cx="370080" cy="974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4" y="0"/>
                  </a:moveTo>
                  <a:lnTo>
                    <a:pt x="0" y="0"/>
                  </a:lnTo>
                  <a:lnTo>
                    <a:pt x="0" y="1998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68960" y="3467160"/>
              <a:ext cx="5367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81720" y="4583160"/>
              <a:ext cx="78264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Reco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09840" y="4927680"/>
              <a:ext cx="6606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Fie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81160" y="5288040"/>
              <a:ext cx="30067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Byte</a:t>
              </a:r>
              <a:r>
                <a:rPr b="0" sz="1000" spc="-1" strike="noStrike">
                  <a:solidFill>
                    <a:srgbClr val="000000"/>
                  </a:solidFill>
                  <a:latin typeface="Courier New"/>
                </a:rPr>
                <a:t> (ASCII character J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62240" y="5780160"/>
              <a:ext cx="4143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Courier New"/>
                </a:rPr>
                <a:t>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33600" y="5224320"/>
              <a:ext cx="428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DFB6D-03C9-4D75-8C3D-7511546E66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2   The Data Hierarch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ord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a record to facilitate the retrieval of specific records from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quential fi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s typically sorted by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DCF0-B049-4A6C-B514-D24C8C9C74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3   Files and Stre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views each file as a sequence of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ends with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nd-of-file mark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, file ends at a specified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 created when a file is o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communication channel between files and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ning a file returns a pointer to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 file point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standard input (keybo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standard output (sc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er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standard error (sc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descrip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into operating system array called the open fil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Control Block (FC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nd in every array element, system uses it to administer the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D663-4B8A-47B0-92BC-94008DEE28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3   Files and Strea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/Write functions in standard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get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s one character from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 as an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getc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cha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put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one character to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 and a character to write as an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utc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a', std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g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s a line from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pu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a line to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scan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print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processing equivalent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BED3-5E89-4076-81B0-6C8B3F15A0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   Creating a Sequential 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imposes no fil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notion of records in a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 must provide file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ILE *myPt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 call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Ptr = fopen("myFile.dat", openmod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p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 to file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two argumen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le to open and file open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open fails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tur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print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print to 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printf, except first argument i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er (pointer to the file you want to print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AEC1-A7D7-4A8A-ACB7-609F35928D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1.4   Creating a Sequential Access Fi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eof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poi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true if end-of-file indicator (no more data to process) is set for the specified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close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poin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s specified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ed automatically when program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practice to close files explici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may process no files, one file, or many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file must have a unique name and should have its own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78CB-EFE7-4D63-9BD4-96215FC2B9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4:19:48Z</dcterms:created>
  <dc:creator>jason</dc:creator>
  <dc:description/>
  <dc:language>en-US</dc:language>
  <cp:lastModifiedBy>Matty</cp:lastModifiedBy>
  <dcterms:modified xsi:type="dcterms:W3CDTF">2000-12-22T19:34:56Z</dcterms:modified>
  <cp:revision>457</cp:revision>
  <dc:subject/>
  <dc:title>Chapter 14 – File Processing</dc:title>
</cp:coreProperties>
</file>