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702A-C4B1-4140-AD26-EB6FCACB0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4E93-0EF5-49D5-8F3E-A56E64363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31213-E462-490B-BD5E-B74E1C1D5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78F69-CAD9-4721-8A34-48C9A2201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DFF41-4655-45B3-94C6-DF5BAE228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3040-C7BE-421C-9615-AEBCF1C16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2E14-DA07-491B-BAF3-AEB5FC554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55B18-E604-4D18-B35B-E07AE2FBD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DEDB-2F60-4ADD-839A-6AAF8B593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11F94-E21D-4A53-87CB-49D7EFFEFB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BC39-22A8-4A8B-BA95-2B7CCFE025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985B-10A8-451F-AC26-1F71C5FC9A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9029-FEB5-40C8-A563-9A34DDC32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5 - C++ As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"Better C"</a:t>
            </a:r>
            <a:endParaRPr b="0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00200"/>
            <a:ext cx="617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  <a:ea typeface="Times New Roman"/>
              </a:rPr>
              <a:t>Out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 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 and Empty Parameter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79246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ca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use execution-time overhe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Qualifi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function return type "advises" a function to be inl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s copy of function's code in place of function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eds up performance but increases fil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can ignor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qualif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all but the smallest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y writ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 std::cou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we can 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th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applies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end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6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line Function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olean - new data type, can either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1800" y="2133720"/>
          <a:ext cx="7453080" cy="566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2133720"/>
                    <a:ext cx="745308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 alias for arg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change(int &amp;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ariable +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3 to the original variabl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y = &amp;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nge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7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References and Reference Parameter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ngling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sure to assign references to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 function returns a reference to a variable, make sure the variable i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, it is automatic and destroyed after function 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pointers, each reference needs a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 &amp;a, &amp;b, &amp;c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  Function prototyp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1.1  Initializ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1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2 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2.3  Call function and pr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z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  <a:ea typeface="Times New Roman"/>
              </a:rPr>
              <a:t>3.  Function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68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69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5.5: fig15_05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72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omparing call-by-value and call-by-referen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75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with referenc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81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84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87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90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93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Valu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squareByReferenc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99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                            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202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205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x = 2, z = 4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211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214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x = " &lt;&lt; x &lt;&lt; " before squareByValue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Value returned by squareByValue: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220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</a:t>
                </a:r>
                <a:r>
                  <a:rPr b="1" lang="en-US" sz="1200" spc="-1" strike="noStrike">
                    <a:solidFill>
                      <a:srgbClr val="cc3300"/>
                    </a:solidFill>
                    <a:latin typeface="Courier New"/>
                    <a:ea typeface="Times New Roman"/>
                  </a:rPr>
                  <a:t>squareByValue( x )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&lt; end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223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     &lt;&lt; "x = " &lt;&lt; x &lt;&lt; " after squareByValue\n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226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229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before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232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cc3300"/>
                    </a:solidFill>
                    <a:latin typeface="Courier New"/>
                    <a:ea typeface="Times New Roman"/>
                  </a:rPr>
                  <a:t>squareByReference( z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235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out &lt;&lt; "z = " &lt;&lt; z &lt;&lt; " after squareByReference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238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241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244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247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250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cc3300"/>
                    </a:solidFill>
                    <a:latin typeface="Courier New"/>
                    <a:ea typeface="Times New Roman"/>
                  </a:rPr>
                  <a:t>squareByVal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253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a *= a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's argu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259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6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no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4191120" y="5638680"/>
            <a:ext cx="4952160" cy="1219320"/>
            <a:chOff x="4191120" y="5638680"/>
            <a:chExt cx="4952160" cy="1219320"/>
          </a:xfrm>
        </p:grpSpPr>
        <p:grpSp>
          <p:nvGrpSpPr>
            <p:cNvPr id="262" name=""/>
            <p:cNvGrpSpPr/>
            <p:nvPr/>
          </p:nvGrpSpPr>
          <p:grpSpPr>
            <a:xfrm>
              <a:off x="4191120" y="5638680"/>
              <a:ext cx="4952160" cy="243720"/>
              <a:chOff x="4191120" y="5638680"/>
              <a:chExt cx="4952160" cy="243720"/>
            </a:xfrm>
          </p:grpSpPr>
          <p:sp>
            <p:nvSpPr>
              <p:cNvPr id="263" name=""/>
              <p:cNvSpPr/>
              <p:nvPr/>
            </p:nvSpPr>
            <p:spPr>
              <a:xfrm>
                <a:off x="4191120" y="563868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563868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2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4191120" y="5882400"/>
              <a:ext cx="4952160" cy="243720"/>
              <a:chOff x="4191120" y="5882400"/>
              <a:chExt cx="4952160" cy="243720"/>
            </a:xfrm>
          </p:grpSpPr>
          <p:sp>
            <p:nvSpPr>
              <p:cNvPr id="266" name=""/>
              <p:cNvSpPr/>
              <p:nvPr/>
            </p:nvSpPr>
            <p:spPr>
              <a:xfrm>
                <a:off x="4191120" y="588240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91120" y="588240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3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cc3300"/>
                    </a:solidFill>
                    <a:latin typeface="Courier New"/>
                    <a:ea typeface="Times New Roman"/>
                  </a:rPr>
                  <a:t>squareByReferenc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amp;cRef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191120" y="6126120"/>
              <a:ext cx="4952160" cy="243720"/>
              <a:chOff x="4191120" y="6126120"/>
              <a:chExt cx="4952160" cy="243720"/>
            </a:xfrm>
          </p:grpSpPr>
          <p:sp>
            <p:nvSpPr>
              <p:cNvPr id="269" name=""/>
              <p:cNvSpPr/>
              <p:nvPr/>
            </p:nvSpPr>
            <p:spPr>
              <a:xfrm>
                <a:off x="4191120" y="612612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191120" y="612612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4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4191120" y="6370200"/>
              <a:ext cx="4952160" cy="243720"/>
              <a:chOff x="4191120" y="6370200"/>
              <a:chExt cx="4952160" cy="243720"/>
            </a:xfrm>
          </p:grpSpPr>
          <p:sp>
            <p:nvSpPr>
              <p:cNvPr id="272" name=""/>
              <p:cNvSpPr/>
              <p:nvPr/>
            </p:nvSpPr>
            <p:spPr>
              <a:xfrm>
                <a:off x="4191120" y="637020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191120" y="637020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5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cRef *= cRef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caller's argument modifi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4191120" y="6614280"/>
              <a:ext cx="4952160" cy="243720"/>
              <a:chOff x="4191120" y="6614280"/>
              <a:chExt cx="4952160" cy="243720"/>
            </a:xfrm>
          </p:grpSpPr>
          <p:sp>
            <p:nvSpPr>
              <p:cNvPr id="275" name=""/>
              <p:cNvSpPr/>
              <p:nvPr/>
            </p:nvSpPr>
            <p:spPr>
              <a:xfrm>
                <a:off x="4191120" y="661428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91120" y="6614280"/>
                <a:ext cx="4952160" cy="243720"/>
              </a:xfrm>
              <a:prstGeom prst="rect">
                <a:avLst/>
              </a:prstGeom>
              <a:gradFill rotWithShape="0">
                <a:gsLst>
                  <a:gs pos="0">
                    <a:srgbClr val="ffe699"/>
                  </a:gs>
                  <a:gs pos="100000">
                    <a:srgbClr val="fef3d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6</a:t>
                </a:r>
                <a:r>
                  <a:rPr b="0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 and Empty Parameter List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function parameter omitted, gets default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 specified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myFunction( int x = 1, int y = 2, int z = 3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8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Default Arguments and Empty Parameter List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C, empty parameter list means function takes any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++ it means function takes n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declare that a function takes no parameter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nothing in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1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6400800" cy="6248520"/>
          </a:xfrm>
          <a:prstGeom prst="rect">
            <a:avLst/>
          </a:prstGeom>
          <a:gradFill rotWithShape="0">
            <a:gsLst>
              <a:gs pos="0">
                <a:srgbClr val="ffe699"/>
              </a:gs>
              <a:gs pos="100000">
                <a:srgbClr val="fef7e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Fig. 15.8: fig15_08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Using default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#includ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usi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using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xVolume(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 = 1,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= 1,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= 1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cout 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The default box volume is: "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&lt;&lt;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boxVolume(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\n\nThe volume of a box with length 10,\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width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nd height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: "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&lt;&lt;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boxVolume( 10 )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\n\nThe volume of a box with length 10,\n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width 5 and height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s: "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&lt;&lt;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boxVolume( 10, 5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\n\nThe volume of a box with length 10,\n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width 5 and height 2 is: "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&lt;&lt;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boxVolume( 10, 5, 2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&lt;&lt; end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retur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Calculate the volume of a bo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xVolume(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,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,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igh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275aff"/>
                </a:solidFill>
                <a:latin typeface="Courier New"/>
                <a:ea typeface="Times New Roman"/>
              </a:rPr>
              <a:t>retur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ngth * width * heigh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705360" y="685440"/>
            <a:ext cx="2438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ut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Function prototype (notice defaul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 Function cal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se default argu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Function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343400"/>
            <a:ext cx="3429000" cy="22842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eaea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idth 5 and height 2 is: 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9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Unary Scope Resolution Operator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s if a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tatic_cast&lt;newType&gt; (vari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s a copy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ariabl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f typ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ew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manip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change how output is format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etprecisi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set precision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(default 6 digi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etiosflags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- formats out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setwidt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set field wid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in depth in Chapter 2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5943600" cy="6324840"/>
          </a:xfrm>
          <a:prstGeom prst="rect">
            <a:avLst/>
          </a:prstGeom>
          <a:gradFill rotWithShape="0">
            <a:gsLst>
              <a:gs pos="0">
                <a:srgbClr val="ffe699"/>
              </a:gs>
              <a:gs pos="100000">
                <a:srgbClr val="fef6d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Fig. 15.9: fig15_09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Using the unary scope resolution op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io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precisio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iosflag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I = 3.14159265358979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nst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tatic_cast&lt;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::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tpreci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20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  Local float value of PI = "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\nGlobal double value of PI = "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::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tw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28 ) &lt;&lt; "Local float value of PI = "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tiosflags( ios::fixed | ios::showpoint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setpreci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10 )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72200" y="151920"/>
            <a:ext cx="281952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Initialize glob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1 cast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P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a loc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Print local a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lob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values o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1 Vary precision and print loc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267080" y="5715000"/>
            <a:ext cx="4648320" cy="10065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e5e5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cal float value of PI = 3.14159274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14 Chap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p-down program design with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pters 15 to 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portion of bo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based programming (classes, objects, encapsul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 oriented programming (inheritance, polymorphis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ic programming (class and function templa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0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Overloading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Overloaded fun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same nam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loaded functions should perform similar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(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quare(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chooses the right function by signa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Signa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function name and parameter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c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Type safe link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ensures proper overloaded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6705720" cy="5257800"/>
          </a:xfrm>
          <a:prstGeom prst="rect">
            <a:avLst/>
          </a:prstGeom>
          <a:gradFill rotWithShape="0">
            <a:gsLst>
              <a:gs pos="0">
                <a:srgbClr val="ffe699"/>
              </a:gs>
              <a:gs pos="100000">
                <a:srgbClr val="fef6d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Fig. 15.10: fig15_10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Using overloade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#includ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quar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 ) { return x * x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quar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oubl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 ) {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y * y;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The square of integer 7 is "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quare( 7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\nThe square of double 7.5 is "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square( 7.5 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end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retur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934320" y="380520"/>
            <a:ext cx="2209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Define overloaded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Function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29200" y="5257800"/>
            <a:ext cx="3733920" cy="824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dede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ROGRAM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square of double 7.5 is 56.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11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Function Templat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emp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typenam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before every formal type paramete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laced by type parameter in function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ameter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8080" y="2590920"/>
            <a:ext cx="7162920" cy="1465560"/>
          </a:xfrm>
          <a:prstGeom prst="rect">
            <a:avLst/>
          </a:prstGeom>
          <a:gradFill rotWithShape="0">
            <a:gsLst>
              <a:gs pos="0">
                <a:srgbClr val="ffe699"/>
              </a:gs>
              <a:gs pos="100000">
                <a:srgbClr val="fef4d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mplate &lt; class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&g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 or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template&lt; typename T &gt;</a:t>
            </a:r>
            <a:br>
              <a:rPr sz="1800"/>
            </a:br>
            <a:r>
              <a:rPr b="1" lang="en-US" sz="18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quare(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1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1 * value1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38080" y="4572000"/>
            <a:ext cx="7086600" cy="699840"/>
          </a:xfrm>
          <a:prstGeom prst="rect">
            <a:avLst/>
          </a:prstGeom>
          <a:gradFill rotWithShape="0">
            <a:gsLst>
              <a:gs pos="0">
                <a:srgbClr val="ffe699"/>
              </a:gs>
              <a:gs pos="100000">
                <a:srgbClr val="fef5d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y = square(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447560" y="2057400"/>
            <a:ext cx="9903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2438280"/>
            <a:ext cx="2286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3428640" y="2438280"/>
            <a:ext cx="33526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151920" y="228240"/>
            <a:ext cx="3886200" cy="4724280"/>
          </a:xfrm>
          <a:prstGeom prst="rect">
            <a:avLst/>
          </a:prstGeom>
          <a:gradFill rotWithShape="0">
            <a:gsLst>
              <a:gs pos="0">
                <a:srgbClr val="ffe699"/>
              </a:gs>
              <a:gs pos="100000">
                <a:srgbClr val="fef3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Fig. 15.11: fig15_11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66"/>
                </a:solidFill>
                <a:latin typeface="Courier New"/>
                <a:ea typeface="Times New Roman"/>
              </a:rPr>
              <a:t>// Using a function tem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in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emplate &lt; class T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ximum(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1,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2,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x = value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f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 value2 &gt; max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 = value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value3 &gt; max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x = value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67080" y="533520"/>
            <a:ext cx="4648320" cy="5333760"/>
          </a:xfrm>
          <a:prstGeom prst="rect">
            <a:avLst/>
          </a:prstGeom>
          <a:gradFill rotWithShape="0">
            <a:gsLst>
              <a:gs pos="0">
                <a:srgbClr val="ffe699"/>
              </a:gs>
              <a:gs pos="100000">
                <a:srgbClr val="fef4d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1, int2, i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Input three integer values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in 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1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2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t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The maximum integer value is: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maximum( int1, int2, int3 )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, double2, double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\nInput three double values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in 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1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2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double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The maximum double value is: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maximum( double1, double2, double3 )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ar1, char2, char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\nInput three characters: 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in 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ar1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ar2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gt;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har3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cout 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The maximum character value is: 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maximum( char1, char2, char3 )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&lt;&l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end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3333cc"/>
                </a:solidFill>
                <a:latin typeface="Courier New"/>
                <a:ea typeface="Times New Roman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5181480"/>
            <a:ext cx="4038840" cy="13716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eeeefe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three integer values: 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aximum integer value is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Input three double values: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3300"/>
                </a:solidFill>
                <a:latin typeface="Courier New"/>
                <a:ea typeface="Times New Roman"/>
              </a:rPr>
              <a:t>The maximum double value is: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 three characters: A C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aximum character value is: C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2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s on many of C's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object-oriented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s software quality and re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ed by Bjarne Stroustrup at Bell La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"C with classe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++ (increment operator) - enhanced version of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perset of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a C++ compiler to compile C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dually evolve the C programs to 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I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nal version at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ansi.org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ree, older version at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ttp://www.cygnus.com/misc/wp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fil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files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p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which we use)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x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C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uppercas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allows you to "comment out" a line by preceding it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// text to igno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input/output stream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s - all functions must declare their return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es not require it, but C++ do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in C++ can be declared almost anywhe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C, required to declare variables in a block, before any executabl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 (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/Output in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ed with stream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s sent to input/output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standard output stream (connected to scree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insertion operator ("put to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 &lt;&lt; "hi"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hi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ich prints it on the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- standard input object (connected to keyboar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ream extraction operator ("get from"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in &gt;&gt; myVariabl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s stream from keyboard and puts it in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3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 Simple Program: Adding Two Integers (III)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d::en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"end line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am manipulator - prints a newline and flushes output buff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systems do not display output until "there is enough text to be worthwhi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end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ces text to be displa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us to remove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ussed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have multip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perators in a single stat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d::cout &lt;&lt; "Hello " &lt;&lt; "there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4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++ Standard Library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 built 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programmers use librar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parts to learning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rn the language itse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arn the library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your ow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: you know exactly how they 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advantage: time consuming, difficult to maintain efficiency and design we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1. Loa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iostream&gt;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1 Initialize variabl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1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eger2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, and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2 Pr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Enter first integer"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2.1 Get inpu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3 Pr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Enter second integer"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3.1 Get inpu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4 Add variables and put result into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5 Prin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"Sum is"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5.1 Output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um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2.6 exit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0</a:t>
            </a: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0" y="0"/>
            <a:ext cx="6780960" cy="4343040"/>
            <a:chOff x="0" y="0"/>
            <a:chExt cx="6780960" cy="4343040"/>
          </a:xfrm>
        </p:grpSpPr>
        <p:grpSp>
          <p:nvGrpSpPr>
            <p:cNvPr id="102" name=""/>
            <p:cNvGrpSpPr/>
            <p:nvPr/>
          </p:nvGrpSpPr>
          <p:grpSpPr>
            <a:xfrm>
              <a:off x="0" y="0"/>
              <a:ext cx="6780960" cy="255240"/>
              <a:chOff x="0" y="0"/>
              <a:chExt cx="6780960" cy="255240"/>
            </a:xfrm>
          </p:grpSpPr>
          <p:sp>
            <p:nvSpPr>
              <p:cNvPr id="103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Fig. 15.1: fig15_0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0" y="255240"/>
              <a:ext cx="6780960" cy="255240"/>
              <a:chOff x="0" y="255240"/>
              <a:chExt cx="6780960" cy="255240"/>
            </a:xfrm>
          </p:grpSpPr>
          <p:sp>
            <p:nvSpPr>
              <p:cNvPr id="106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2552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Additio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0" y="510840"/>
              <a:ext cx="6780960" cy="255600"/>
              <a:chOff x="0" y="510840"/>
              <a:chExt cx="6780960" cy="255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1084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0" y="766440"/>
              <a:ext cx="6780960" cy="255240"/>
              <a:chOff x="0" y="766440"/>
              <a:chExt cx="6780960" cy="255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76644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0" y="1021680"/>
              <a:ext cx="6780960" cy="255240"/>
              <a:chOff x="0" y="1021680"/>
              <a:chExt cx="6780960" cy="255240"/>
            </a:xfrm>
          </p:grpSpPr>
          <p:sp>
            <p:nvSpPr>
              <p:cNvPr id="115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10216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0" y="1277280"/>
              <a:ext cx="6780960" cy="255240"/>
              <a:chOff x="0" y="1277280"/>
              <a:chExt cx="6780960" cy="25524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2772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0" y="1532880"/>
              <a:ext cx="6780960" cy="255600"/>
              <a:chOff x="0" y="1532880"/>
              <a:chExt cx="6780960" cy="255600"/>
            </a:xfrm>
          </p:grpSpPr>
          <p:sp>
            <p:nvSpPr>
              <p:cNvPr id="121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153288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integer1, integer2, sum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0" y="1788480"/>
              <a:ext cx="6780960" cy="255240"/>
              <a:chOff x="0" y="1788480"/>
              <a:chExt cx="6780960" cy="255240"/>
            </a:xfrm>
          </p:grpSpPr>
          <p:sp>
            <p:nvSpPr>
              <p:cNvPr id="124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78848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0" y="2043720"/>
              <a:ext cx="6780960" cy="255240"/>
              <a:chOff x="0" y="2043720"/>
              <a:chExt cx="6780960" cy="255240"/>
            </a:xfrm>
          </p:grpSpPr>
          <p:sp>
            <p:nvSpPr>
              <p:cNvPr id="127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0437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first integer\n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0" y="2299320"/>
              <a:ext cx="6780960" cy="255240"/>
              <a:chOff x="0" y="2299320"/>
              <a:chExt cx="6780960" cy="255240"/>
            </a:xfrm>
          </p:grpSpPr>
          <p:sp>
            <p:nvSpPr>
              <p:cNvPr id="130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22993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1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0" y="2554920"/>
              <a:ext cx="6780960" cy="255600"/>
              <a:chOff x="0" y="2554920"/>
              <a:chExt cx="6780960" cy="255600"/>
            </a:xfrm>
          </p:grpSpPr>
          <p:sp>
            <p:nvSpPr>
              <p:cNvPr id="133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255492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Enter second integer\n"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omp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0" y="2810520"/>
              <a:ext cx="6780960" cy="255240"/>
              <a:chOff x="0" y="2810520"/>
              <a:chExt cx="6780960" cy="255240"/>
            </a:xfrm>
          </p:grpSpPr>
          <p:sp>
            <p:nvSpPr>
              <p:cNvPr id="136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0" y="281052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in &gt;&gt; integer2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// read an integ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0" y="3065760"/>
              <a:ext cx="6780960" cy="255240"/>
              <a:chOff x="0" y="3065760"/>
              <a:chExt cx="6780960" cy="255240"/>
            </a:xfrm>
          </p:grpSpPr>
          <p:sp>
            <p:nvSpPr>
              <p:cNvPr id="139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0" y="30657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um = integer1 + integer2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      // assignment of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0" y="3321360"/>
              <a:ext cx="6780960" cy="255240"/>
              <a:chOff x="0" y="3321360"/>
              <a:chExt cx="6780960" cy="255240"/>
            </a:xfrm>
          </p:grpSpPr>
          <p:sp>
            <p:nvSpPr>
              <p:cNvPr id="142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213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std::cout &lt;&lt; "Sum is " &lt;&lt; sum &lt;&lt; std::end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print su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0" y="3576960"/>
              <a:ext cx="6780960" cy="255600"/>
              <a:chOff x="0" y="3576960"/>
              <a:chExt cx="6780960" cy="255600"/>
            </a:xfrm>
          </p:grpSpPr>
          <p:sp>
            <p:nvSpPr>
              <p:cNvPr id="145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0" y="3576960"/>
                <a:ext cx="6780960" cy="255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0" y="3832560"/>
              <a:ext cx="6780960" cy="255240"/>
              <a:chOff x="0" y="3832560"/>
              <a:chExt cx="6780960" cy="255240"/>
            </a:xfrm>
          </p:grpSpPr>
          <p:sp>
            <p:nvSpPr>
              <p:cNvPr id="148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383256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Times New Roman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 0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Times New Roman"/>
                  </a:rPr>
                  <a:t>// indicate that program ended successfull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0" y="4087800"/>
              <a:ext cx="6780960" cy="255240"/>
              <a:chOff x="0" y="4087800"/>
              <a:chExt cx="6780960" cy="25524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4087800"/>
                <a:ext cx="6780960" cy="255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  <a:ea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Times New Roman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0" y="5670720"/>
            <a:ext cx="678168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fir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ter second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5.5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Header Files</a:t>
            </a:r>
            <a:endParaRPr b="0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standard library has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 function prototypes, data type definitions, and cons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s ending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.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re "old-style" head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defined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 your own header fi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it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include "myFile.h"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n other files to load your 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7T19:42:36Z</dcterms:created>
  <dc:creator>kalid</dc:creator>
  <dc:description/>
  <dc:language>en-US</dc:language>
  <cp:lastModifiedBy>KD</cp:lastModifiedBy>
  <dcterms:modified xsi:type="dcterms:W3CDTF">2001-04-18T09:00:29Z</dcterms:modified>
  <cp:revision>158</cp:revision>
  <dc:subject/>
  <dc:title>PowerPoint Presentation</dc:title>
</cp:coreProperties>
</file>