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017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017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017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017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017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017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017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017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017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017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017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017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017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017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017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017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017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017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6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1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6: Classes and Data Abstraction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1620720"/>
            <a:ext cx="7162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lementing a Time Abstract Data Type with a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Scope and Accessing Class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parating Interface from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trolling Access to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ccess Functions and Utility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itializing Class Objects: Con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Default Arguments with Con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De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hen Constructors and Destructors Are Ca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Data Members and Member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 Subtle Trap: Returning a Reference to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ivat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ata 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ssignment by Default Memberwise 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1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oftware Reus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3 Class Scope and Accessing Class Members</a:t>
            </a:r>
            <a:r>
              <a:rPr b="1" lang="en-US" sz="3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sco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members and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sco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 defined in member functions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oyed after function comple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ide a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 accessible by all member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d by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3 Class Scope and Accessing Class Member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side a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nd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bject name, a reference to an object or a pointer to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class memb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t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objects and arrow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hou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the hour element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Ptr-&gt;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hour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6248520" cy="6553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fed6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Fig. 16.3: fig16_03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Demonstrating the class member access operators . and 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CAUTION: IN FUTURE EXAMPLES WE AVOID PUBLIC DAT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ing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ing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Simple class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Count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id print() { cout &lt;&lt; x &lt;&lt; endl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cou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               </a:t>
            </a: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create counter 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*counterPt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&amp;counter, </a:t>
            </a: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pointer to cou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&amp;counterR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counter;  </a:t>
            </a: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reference to cou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t &lt;&lt; "Assign 7 to x and print using the object's name: 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counter.x = 7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assign 7 to data membe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er.print();     </a:t>
            </a: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call member function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t &lt;&lt; "Assign 8 to x and print using a reference: 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counterRef.x = 8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assign 8 to data membe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erRef.print(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t &lt;&lt; "Assign 10 to x and print using a pointer: 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counterPtr-&gt;x = 10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assign 10 to data membe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erPtr-&gt;print(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24480" y="914400"/>
            <a:ext cx="2819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utl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Class definition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1 Initialize object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 Print using the dot operato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2  Set new value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3  Print using a 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4  Set new value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5  Print using a pointe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6035760"/>
            <a:ext cx="5029200" cy="824040"/>
          </a:xfrm>
          <a:prstGeom prst="rect">
            <a:avLst/>
          </a:prstGeom>
          <a:gradFill rotWithShape="0">
            <a:gsLst>
              <a:gs pos="0">
                <a:srgbClr val="e5e5fe"/>
              </a:gs>
              <a:gs pos="50000">
                <a:srgbClr val="ccccff"/>
              </a:gs>
              <a:gs pos="100000">
                <a:srgbClr val="e5e5fe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ROGRAM 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ign 7 to x and print using the object's name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ign 8 to x and print using a reference: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ign 10 to x and print using a pointer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4 Separating Interface from Implementation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60680"/>
            <a:ext cx="7772400" cy="44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ing interface from imple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er to modify program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programs can be split i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eader files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class definitions and function proto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urce-code files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member function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Outl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the sam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as before, create a heade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 source cod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the header file to get the class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the member functions of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5 Controlling Access to Members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clients a view of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ass provides (interf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set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e details of how the class accomplishes its tasks (implement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 only accessible through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05360" y="838080"/>
            <a:ext cx="24382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 Load header file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 Create an object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 Attempt to set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variabl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 Attempt to acces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variable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0"/>
            <a:ext cx="6705000" cy="4343400"/>
            <a:chOff x="0" y="0"/>
            <a:chExt cx="6705000" cy="4343400"/>
          </a:xfrm>
        </p:grpSpPr>
        <p:grpSp>
          <p:nvGrpSpPr>
            <p:cNvPr id="140" name=""/>
            <p:cNvGrpSpPr/>
            <p:nvPr/>
          </p:nvGrpSpPr>
          <p:grpSpPr>
            <a:xfrm>
              <a:off x="0" y="0"/>
              <a:ext cx="6705000" cy="206640"/>
              <a:chOff x="0" y="0"/>
              <a:chExt cx="6705000" cy="206640"/>
            </a:xfrm>
          </p:grpSpPr>
          <p:sp>
            <p:nvSpPr>
              <p:cNvPr id="141" name=""/>
              <p:cNvSpPr/>
              <p:nvPr/>
            </p:nvSpPr>
            <p:spPr>
              <a:xfrm>
                <a:off x="0" y="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6.5: fig16_0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0" y="206640"/>
              <a:ext cx="6705000" cy="206640"/>
              <a:chOff x="0" y="206640"/>
              <a:chExt cx="6705000" cy="206640"/>
            </a:xfrm>
          </p:grpSpPr>
          <p:sp>
            <p:nvSpPr>
              <p:cNvPr id="144" name=""/>
              <p:cNvSpPr/>
              <p:nvPr/>
            </p:nvSpPr>
            <p:spPr>
              <a:xfrm>
                <a:off x="0" y="20664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20664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e errors resulting from attemp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0" y="413280"/>
              <a:ext cx="6705000" cy="206640"/>
              <a:chOff x="0" y="413280"/>
              <a:chExt cx="6705000" cy="20664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41328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41328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o access private class membe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0" y="620280"/>
              <a:ext cx="6705000" cy="206640"/>
              <a:chOff x="0" y="620280"/>
              <a:chExt cx="6705000" cy="20664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62028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2028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0" y="827280"/>
              <a:ext cx="6705000" cy="206640"/>
              <a:chOff x="0" y="827280"/>
              <a:chExt cx="6705000" cy="206640"/>
            </a:xfrm>
          </p:grpSpPr>
          <p:sp>
            <p:nvSpPr>
              <p:cNvPr id="153" name=""/>
              <p:cNvSpPr/>
              <p:nvPr/>
            </p:nvSpPr>
            <p:spPr>
              <a:xfrm>
                <a:off x="0" y="82728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82728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0" y="1033920"/>
              <a:ext cx="6705000" cy="206640"/>
              <a:chOff x="0" y="1033920"/>
              <a:chExt cx="6705000" cy="206640"/>
            </a:xfrm>
          </p:grpSpPr>
          <p:sp>
            <p:nvSpPr>
              <p:cNvPr id="156" name=""/>
              <p:cNvSpPr/>
              <p:nvPr/>
            </p:nvSpPr>
            <p:spPr>
              <a:xfrm>
                <a:off x="0" y="103392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103392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0" y="1240920"/>
              <a:ext cx="6705000" cy="206640"/>
              <a:chOff x="0" y="1240920"/>
              <a:chExt cx="6705000" cy="206640"/>
            </a:xfrm>
          </p:grpSpPr>
          <p:sp>
            <p:nvSpPr>
              <p:cNvPr id="159" name=""/>
              <p:cNvSpPr/>
              <p:nvPr/>
            </p:nvSpPr>
            <p:spPr>
              <a:xfrm>
                <a:off x="0" y="124092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124092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0" y="1447920"/>
              <a:ext cx="6705000" cy="206640"/>
              <a:chOff x="0" y="1447920"/>
              <a:chExt cx="6705000" cy="20664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144792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144792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tim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0" y="1654560"/>
              <a:ext cx="6705000" cy="206640"/>
              <a:chOff x="0" y="1654560"/>
              <a:chExt cx="6705000" cy="20664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165456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5456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0" y="1861200"/>
              <a:ext cx="6705000" cy="206640"/>
              <a:chOff x="0" y="1861200"/>
              <a:chExt cx="6705000" cy="20664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186120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186120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0" y="2068200"/>
              <a:ext cx="6705000" cy="206640"/>
              <a:chOff x="0" y="2068200"/>
              <a:chExt cx="6705000" cy="206640"/>
            </a:xfrm>
          </p:grpSpPr>
          <p:sp>
            <p:nvSpPr>
              <p:cNvPr id="171" name=""/>
              <p:cNvSpPr/>
              <p:nvPr/>
            </p:nvSpPr>
            <p:spPr>
              <a:xfrm>
                <a:off x="0" y="206820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206820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0" y="2275200"/>
              <a:ext cx="6705000" cy="206640"/>
              <a:chOff x="0" y="2275200"/>
              <a:chExt cx="6705000" cy="206640"/>
            </a:xfrm>
          </p:grpSpPr>
          <p:sp>
            <p:nvSpPr>
              <p:cNvPr id="174" name=""/>
              <p:cNvSpPr/>
              <p:nvPr/>
            </p:nvSpPr>
            <p:spPr>
              <a:xfrm>
                <a:off x="0" y="227520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227520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0" y="2481840"/>
              <a:ext cx="6705000" cy="206640"/>
              <a:chOff x="0" y="2481840"/>
              <a:chExt cx="6705000" cy="206640"/>
            </a:xfrm>
          </p:grpSpPr>
          <p:sp>
            <p:nvSpPr>
              <p:cNvPr id="177" name=""/>
              <p:cNvSpPr/>
              <p:nvPr/>
            </p:nvSpPr>
            <p:spPr>
              <a:xfrm>
                <a:off x="0" y="248184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248184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0" y="2688840"/>
              <a:ext cx="6705000" cy="206640"/>
              <a:chOff x="0" y="2688840"/>
              <a:chExt cx="6705000" cy="206640"/>
            </a:xfrm>
          </p:grpSpPr>
          <p:sp>
            <p:nvSpPr>
              <p:cNvPr id="180" name=""/>
              <p:cNvSpPr/>
              <p:nvPr/>
            </p:nvSpPr>
            <p:spPr>
              <a:xfrm>
                <a:off x="0" y="268884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268884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Error: 'Time::hour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0" y="2895480"/>
              <a:ext cx="6705000" cy="206640"/>
              <a:chOff x="0" y="2895480"/>
              <a:chExt cx="6705000" cy="20664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289548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289548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hour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0" y="3102480"/>
              <a:ext cx="6705000" cy="206640"/>
              <a:chOff x="0" y="3102480"/>
              <a:chExt cx="6705000" cy="206640"/>
            </a:xfrm>
          </p:grpSpPr>
          <p:sp>
            <p:nvSpPr>
              <p:cNvPr id="186" name=""/>
              <p:cNvSpPr/>
              <p:nvPr/>
            </p:nvSpPr>
            <p:spPr>
              <a:xfrm>
                <a:off x="0" y="310248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310248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0" y="3309120"/>
              <a:ext cx="6705000" cy="206640"/>
              <a:chOff x="0" y="3309120"/>
              <a:chExt cx="6705000" cy="206640"/>
            </a:xfrm>
          </p:grpSpPr>
          <p:sp>
            <p:nvSpPr>
              <p:cNvPr id="189" name=""/>
              <p:cNvSpPr/>
              <p:nvPr/>
            </p:nvSpPr>
            <p:spPr>
              <a:xfrm>
                <a:off x="0" y="330912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30912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Error: 'Time::minute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0" y="3516120"/>
              <a:ext cx="6705000" cy="206640"/>
              <a:chOff x="0" y="3516120"/>
              <a:chExt cx="6705000" cy="206640"/>
            </a:xfrm>
          </p:grpSpPr>
          <p:sp>
            <p:nvSpPr>
              <p:cNvPr id="192" name=""/>
              <p:cNvSpPr/>
              <p:nvPr/>
            </p:nvSpPr>
            <p:spPr>
              <a:xfrm>
                <a:off x="0" y="351612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1612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minute = " &lt;&lt; t.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0" y="3722760"/>
              <a:ext cx="6705000" cy="206640"/>
              <a:chOff x="0" y="3722760"/>
              <a:chExt cx="6705000" cy="206640"/>
            </a:xfrm>
          </p:grpSpPr>
          <p:sp>
            <p:nvSpPr>
              <p:cNvPr id="195" name=""/>
              <p:cNvSpPr/>
              <p:nvPr/>
            </p:nvSpPr>
            <p:spPr>
              <a:xfrm>
                <a:off x="0" y="372276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72276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0" y="3929760"/>
              <a:ext cx="6705000" cy="206640"/>
              <a:chOff x="0" y="3929760"/>
              <a:chExt cx="6705000" cy="20664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392976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92976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0" y="4136760"/>
              <a:ext cx="6705000" cy="206640"/>
              <a:chOff x="0" y="4136760"/>
              <a:chExt cx="6705000" cy="20664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413676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4136760"/>
                <a:ext cx="6705000" cy="2066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0" y="4672080"/>
            <a:ext cx="670572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6_06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06_06.cpp(15) : error C2248: 'hour' : cannot access priv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mber declared in class 'Tim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6_06\time1.h(18) : see declaration of 'hou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06_06.cpp(18) : error C2248: 'minute' : cannot access 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mber declared in class 'Tim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time1.h(19) : see declaration of 'minut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.exe - 2 error(s), 0 warning(s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5791320" cy="63244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fec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Fig. 16.5: fig16_05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Demonstrate errors resulting from attem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to access private class me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ing std::cou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#include "time.h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me 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Error: 'Time::hour' is not acce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t.hour = 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Error: 'Time::minute' is not acce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ut &lt;&lt; "minute = " &lt;&lt; </a:t>
            </a: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t.minu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324480" y="1294920"/>
            <a:ext cx="2819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 header file f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an object of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1 Attempt to set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2  Attempt to access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4738680"/>
            <a:ext cx="6705720" cy="2101680"/>
          </a:xfrm>
          <a:prstGeom prst="rect">
            <a:avLst/>
          </a:prstGeom>
          <a:gradFill rotWithShape="0">
            <a:gsLst>
              <a:gs pos="0">
                <a:srgbClr val="e6e6fe"/>
              </a:gs>
              <a:gs pos="50000">
                <a:srgbClr val="ccccff"/>
              </a:gs>
              <a:gs pos="100000">
                <a:srgbClr val="e6e6fe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6_06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06_06.cpp(15) : error C2248: 'hour' : cannot access priv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mber declared in class 'Tim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6_06\time1.h(18) : see declaration of 'hou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06_06.cpp(18) : error C2248: 'minute' : cannot access 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mber declared in class 'Tim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time1.h(19) : see declaration of 'minut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.exe - 2 error(s), 0 warning(s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6  Access Functions and Utility Functions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y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that support the operation of public fun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intended to be used directly by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fun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that read/display data or check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container, it could call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to take in monthly sales and output the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not shown, only access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05360" y="838080"/>
            <a:ext cx="24382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1.  Load header fil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(compile with file that contains function definitions)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1.1  Create an object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br>
              <a:rPr sz="1400"/>
            </a:br>
            <a:br>
              <a:rPr sz="1400"/>
            </a:b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0"/>
            <a:ext cx="6705000" cy="3124080"/>
            <a:chOff x="0" y="0"/>
            <a:chExt cx="6705000" cy="3124080"/>
          </a:xfrm>
        </p:grpSpPr>
        <p:grpSp>
          <p:nvGrpSpPr>
            <p:cNvPr id="211" name=""/>
            <p:cNvGrpSpPr/>
            <p:nvPr/>
          </p:nvGrpSpPr>
          <p:grpSpPr>
            <a:xfrm>
              <a:off x="0" y="0"/>
              <a:ext cx="6705000" cy="240120"/>
              <a:chOff x="0" y="0"/>
              <a:chExt cx="6705000" cy="24012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6.6: fig16_0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240120"/>
              <a:ext cx="6705000" cy="240120"/>
              <a:chOff x="0" y="240120"/>
              <a:chExt cx="6705000" cy="24012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24012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4012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a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480240"/>
              <a:ext cx="6705000" cy="240120"/>
              <a:chOff x="0" y="480240"/>
              <a:chExt cx="6705000" cy="24012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48024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48024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mpile with salesp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720720"/>
              <a:ext cx="6705000" cy="240120"/>
              <a:chOff x="0" y="720720"/>
              <a:chExt cx="6705000" cy="24012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72072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72072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salesp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961200"/>
              <a:ext cx="6705000" cy="240120"/>
              <a:chOff x="0" y="961200"/>
              <a:chExt cx="6705000" cy="24012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96120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96120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0" y="1201320"/>
              <a:ext cx="6705000" cy="240120"/>
              <a:chOff x="0" y="1201320"/>
              <a:chExt cx="6705000" cy="24012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120132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20132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0" y="1441800"/>
              <a:ext cx="6705000" cy="240120"/>
              <a:chOff x="0" y="1441800"/>
              <a:chExt cx="6705000" cy="24012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144180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44180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0" y="1682280"/>
              <a:ext cx="6705000" cy="240120"/>
              <a:chOff x="0" y="1682280"/>
              <a:chExt cx="6705000" cy="24012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168228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168228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alesPerson s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SalesPerson object 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0" y="1922400"/>
              <a:ext cx="6705000" cy="240120"/>
              <a:chOff x="0" y="1922400"/>
              <a:chExt cx="6705000" cy="240120"/>
            </a:xfrm>
          </p:grpSpPr>
          <p:sp>
            <p:nvSpPr>
              <p:cNvPr id="236" name=""/>
              <p:cNvSpPr/>
              <p:nvPr/>
            </p:nvSpPr>
            <p:spPr>
              <a:xfrm>
                <a:off x="0" y="192240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192240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0" y="2162880"/>
              <a:ext cx="6705000" cy="240120"/>
              <a:chOff x="0" y="2162880"/>
              <a:chExt cx="6705000" cy="240120"/>
            </a:xfrm>
          </p:grpSpPr>
          <p:sp>
            <p:nvSpPr>
              <p:cNvPr id="239" name=""/>
              <p:cNvSpPr/>
              <p:nvPr/>
            </p:nvSpPr>
            <p:spPr>
              <a:xfrm>
                <a:off x="0" y="216288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216288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.getSalesFromUser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te simple sequential c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0" y="2403000"/>
              <a:ext cx="6705000" cy="240120"/>
              <a:chOff x="0" y="2403000"/>
              <a:chExt cx="6705000" cy="240120"/>
            </a:xfrm>
          </p:grpSpPr>
          <p:sp>
            <p:nvSpPr>
              <p:cNvPr id="242" name=""/>
              <p:cNvSpPr/>
              <p:nvPr/>
            </p:nvSpPr>
            <p:spPr>
              <a:xfrm>
                <a:off x="0" y="240300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40300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.printAnnualSales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 control structures in ma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0" y="2643480"/>
              <a:ext cx="6705000" cy="240120"/>
              <a:chOff x="0" y="2643480"/>
              <a:chExt cx="6705000" cy="24012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264348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64348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2883960"/>
              <a:ext cx="6705000" cy="240120"/>
              <a:chOff x="0" y="2883960"/>
              <a:chExt cx="6705000" cy="24012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288396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883960"/>
                <a:ext cx="6705000" cy="240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" name=""/>
          <p:cNvSpPr/>
          <p:nvPr/>
        </p:nvSpPr>
        <p:spPr>
          <a:xfrm>
            <a:off x="0" y="3581280"/>
            <a:ext cx="6705720" cy="3014280"/>
          </a:xfrm>
          <a:prstGeom prst="rect">
            <a:avLst/>
          </a:prstGeom>
          <a:gradFill rotWithShape="0">
            <a:gsLst>
              <a:gs pos="0">
                <a:srgbClr val="e5e5fe"/>
              </a:gs>
              <a:gs pos="50000">
                <a:srgbClr val="ccccff"/>
              </a:gs>
              <a:gs pos="100000">
                <a:srgbClr val="e5e5fe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1: 5314.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2: 4292.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3: 4589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4: 5534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5: 4376.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6: 5698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7: 4439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8: 5893.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9: 4909.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10: 5123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11: 4024.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12: 5923.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total annual sales are: $60120.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7 Initializing Class Objects: Constructors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itialize clas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name as the class, no retur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variables can be initialized by the constructor or set afterw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rs can be provi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rs passed as arguments to the class’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 Introduc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programming (OOP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apsula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(attributes) and functions (behavior) into packages called </a:t>
            </a:r>
            <a:r>
              <a:rPr b="0" i="1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and functions closely 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formation hi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details are hidden within the classes themsel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 of C++ programming: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e 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 is like a blue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reus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s a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reated) from the clas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a house is an instance of a “blueprint clas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grammers concentrate on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7 Initializing Class Objects: Constructors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Object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1, value2, …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 assign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 to its member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enough values specified, rightmost parameters set to their default (specified by programm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Class myObject( 3, 4.0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8 Using Default Arguments with Constructor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p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invoked without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default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argu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in default constructor function prototype (in class defini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set defaults in the function definition, outside of a cla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pleClass( int = 0, float = 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or has same name a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705360" y="838080"/>
            <a:ext cx="24382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fine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nd its default values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0" y="0"/>
            <a:ext cx="6705000" cy="6324120"/>
            <a:chOff x="0" y="0"/>
            <a:chExt cx="6705000" cy="6324120"/>
          </a:xfrm>
        </p:grpSpPr>
        <p:grpSp>
          <p:nvGrpSpPr>
            <p:cNvPr id="259" name=""/>
            <p:cNvGrpSpPr/>
            <p:nvPr/>
          </p:nvGrpSpPr>
          <p:grpSpPr>
            <a:xfrm>
              <a:off x="0" y="0"/>
              <a:ext cx="6705000" cy="274680"/>
              <a:chOff x="0" y="0"/>
              <a:chExt cx="6705000" cy="27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6.7: tim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274680"/>
              <a:ext cx="6705000" cy="274680"/>
              <a:chOff x="0" y="274680"/>
              <a:chExt cx="6705000" cy="27468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27468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27468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549720"/>
              <a:ext cx="6705000" cy="275040"/>
              <a:chOff x="0" y="549720"/>
              <a:chExt cx="6705000" cy="27504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549720"/>
                <a:ext cx="6705000" cy="275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549720"/>
                <a:ext cx="6705000" cy="275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are defined in time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824760"/>
              <a:ext cx="6705000" cy="274680"/>
              <a:chOff x="0" y="824760"/>
              <a:chExt cx="6705000" cy="27468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82476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82476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1099800"/>
              <a:ext cx="6705000" cy="274680"/>
              <a:chOff x="0" y="1099800"/>
              <a:chExt cx="6705000" cy="27468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109980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109980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eprocessor directives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374840"/>
              <a:ext cx="6705000" cy="274680"/>
              <a:chOff x="0" y="1374840"/>
              <a:chExt cx="6705000" cy="27468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37484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137484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0" y="1649520"/>
              <a:ext cx="6705000" cy="275040"/>
              <a:chOff x="0" y="1649520"/>
              <a:chExt cx="6705000" cy="27504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1649520"/>
                <a:ext cx="6705000" cy="275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1649520"/>
                <a:ext cx="6705000" cy="275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fndef TIM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1924920"/>
              <a:ext cx="6705000" cy="274680"/>
              <a:chOff x="0" y="1924920"/>
              <a:chExt cx="6705000" cy="27468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192492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192492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define TIM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2199600"/>
              <a:ext cx="6705000" cy="274680"/>
              <a:chOff x="0" y="2199600"/>
              <a:chExt cx="6705000" cy="27468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219960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219960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2474640"/>
              <a:ext cx="6705000" cy="274680"/>
              <a:chOff x="0" y="2474640"/>
              <a:chExt cx="6705000" cy="27468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247464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247464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abstract data type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2749680"/>
              <a:ext cx="6705000" cy="275040"/>
              <a:chOff x="0" y="2749680"/>
              <a:chExt cx="6705000" cy="27504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2749680"/>
                <a:ext cx="6705000" cy="275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2749680"/>
                <a:ext cx="6705000" cy="275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3024720"/>
              <a:ext cx="6705000" cy="274680"/>
              <a:chOff x="0" y="3024720"/>
              <a:chExt cx="6705000" cy="27468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302472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302472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3299760"/>
              <a:ext cx="6705000" cy="274680"/>
              <a:chOff x="0" y="3299760"/>
              <a:chExt cx="6705000" cy="27468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329976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329976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3574800"/>
              <a:ext cx="6705000" cy="274680"/>
              <a:chOff x="0" y="3574800"/>
              <a:chExt cx="6705000" cy="27468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357480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357480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0" y="3849480"/>
              <a:ext cx="6705000" cy="275040"/>
              <a:chOff x="0" y="3849480"/>
              <a:chExt cx="6705000" cy="275040"/>
            </a:xfrm>
          </p:grpSpPr>
          <p:sp>
            <p:nvSpPr>
              <p:cNvPr id="302" name=""/>
              <p:cNvSpPr/>
              <p:nvPr/>
            </p:nvSpPr>
            <p:spPr>
              <a:xfrm>
                <a:off x="0" y="3849480"/>
                <a:ext cx="6705000" cy="275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3849480"/>
                <a:ext cx="6705000" cy="275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0" y="4124880"/>
              <a:ext cx="6705000" cy="274680"/>
              <a:chOff x="0" y="4124880"/>
              <a:chExt cx="6705000" cy="274680"/>
            </a:xfrm>
          </p:grpSpPr>
          <p:sp>
            <p:nvSpPr>
              <p:cNvPr id="305" name=""/>
              <p:cNvSpPr/>
              <p:nvPr/>
            </p:nvSpPr>
            <p:spPr>
              <a:xfrm>
                <a:off x="0" y="412488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412488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0" y="4399560"/>
              <a:ext cx="6705000" cy="274680"/>
              <a:chOff x="0" y="4399560"/>
              <a:chExt cx="6705000" cy="274680"/>
            </a:xfrm>
          </p:grpSpPr>
          <p:sp>
            <p:nvSpPr>
              <p:cNvPr id="308" name=""/>
              <p:cNvSpPr/>
              <p:nvPr/>
            </p:nvSpPr>
            <p:spPr>
              <a:xfrm>
                <a:off x="0" y="439956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439956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0" y="4674600"/>
              <a:ext cx="6705000" cy="274680"/>
              <a:chOff x="0" y="4674600"/>
              <a:chExt cx="6705000" cy="274680"/>
            </a:xfrm>
          </p:grpSpPr>
          <p:sp>
            <p:nvSpPr>
              <p:cNvPr id="311" name=""/>
              <p:cNvSpPr/>
              <p:nvPr/>
            </p:nvSpPr>
            <p:spPr>
              <a:xfrm>
                <a:off x="0" y="467460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467460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0" y="4949640"/>
              <a:ext cx="6705000" cy="274680"/>
              <a:chOff x="0" y="4949640"/>
              <a:chExt cx="6705000" cy="274680"/>
            </a:xfrm>
          </p:grpSpPr>
          <p:sp>
            <p:nvSpPr>
              <p:cNvPr id="314" name=""/>
              <p:cNvSpPr/>
              <p:nvPr/>
            </p:nvSpPr>
            <p:spPr>
              <a:xfrm>
                <a:off x="0" y="494964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494964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0" y="5224680"/>
              <a:ext cx="6705000" cy="275040"/>
              <a:chOff x="0" y="5224680"/>
              <a:chExt cx="6705000" cy="275040"/>
            </a:xfrm>
          </p:grpSpPr>
          <p:sp>
            <p:nvSpPr>
              <p:cNvPr id="317" name=""/>
              <p:cNvSpPr/>
              <p:nvPr/>
            </p:nvSpPr>
            <p:spPr>
              <a:xfrm>
                <a:off x="0" y="5224680"/>
                <a:ext cx="6705000" cy="275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5224680"/>
                <a:ext cx="6705000" cy="275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5499720"/>
              <a:ext cx="6705000" cy="274680"/>
              <a:chOff x="0" y="5499720"/>
              <a:chExt cx="6705000" cy="27468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549972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549972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5774760"/>
              <a:ext cx="6705000" cy="274680"/>
              <a:chOff x="0" y="5774760"/>
              <a:chExt cx="6705000" cy="274680"/>
            </a:xfrm>
          </p:grpSpPr>
          <p:sp>
            <p:nvSpPr>
              <p:cNvPr id="323" name=""/>
              <p:cNvSpPr/>
              <p:nvPr/>
            </p:nvSpPr>
            <p:spPr>
              <a:xfrm>
                <a:off x="0" y="577476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577476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0" y="6049440"/>
              <a:ext cx="6705000" cy="274680"/>
              <a:chOff x="0" y="6049440"/>
              <a:chExt cx="6705000" cy="274680"/>
            </a:xfrm>
          </p:grpSpPr>
          <p:sp>
            <p:nvSpPr>
              <p:cNvPr id="326" name=""/>
              <p:cNvSpPr/>
              <p:nvPr/>
            </p:nvSpPr>
            <p:spPr>
              <a:xfrm>
                <a:off x="0" y="604944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6049440"/>
                <a:ext cx="6705000" cy="274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329" name=""/>
            <p:cNvGrpSpPr/>
            <p:nvPr/>
          </p:nvGrpSpPr>
          <p:grpSpPr>
            <a:xfrm>
              <a:off x="0" y="0"/>
              <a:ext cx="6705000" cy="207720"/>
              <a:chOff x="0" y="0"/>
              <a:chExt cx="6705000" cy="207720"/>
            </a:xfrm>
          </p:grpSpPr>
          <p:sp>
            <p:nvSpPr>
              <p:cNvPr id="330" name="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6.7: fig16_07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0" y="207720"/>
              <a:ext cx="6705000" cy="207720"/>
              <a:chOff x="0" y="207720"/>
              <a:chExt cx="6705000" cy="207720"/>
            </a:xfrm>
          </p:grpSpPr>
          <p:sp>
            <p:nvSpPr>
              <p:cNvPr id="333" name="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a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0" y="415440"/>
              <a:ext cx="6705000" cy="207720"/>
              <a:chOff x="0" y="415440"/>
              <a:chExt cx="6705000" cy="20772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for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623160"/>
              <a:ext cx="6705000" cy="207720"/>
              <a:chOff x="0" y="623160"/>
              <a:chExt cx="6705000" cy="20772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0" y="831240"/>
              <a:ext cx="6705000" cy="207720"/>
              <a:chOff x="0" y="831240"/>
              <a:chExt cx="6705000" cy="20772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0" y="1038960"/>
              <a:ext cx="6705000" cy="207720"/>
              <a:chOff x="0" y="1038960"/>
              <a:chExt cx="6705000" cy="207720"/>
            </a:xfrm>
          </p:grpSpPr>
          <p:sp>
            <p:nvSpPr>
              <p:cNvPr id="345" name="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1246680"/>
              <a:ext cx="6705000" cy="207720"/>
              <a:chOff x="0" y="1246680"/>
              <a:chExt cx="6705000" cy="20772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1454760"/>
              <a:ext cx="6705000" cy="207720"/>
              <a:chOff x="0" y="1454760"/>
              <a:chExt cx="6705000" cy="20772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1662480"/>
              <a:ext cx="6705000" cy="207720"/>
              <a:chOff x="0" y="1662480"/>
              <a:chExt cx="6705000" cy="20772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tim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1870200"/>
              <a:ext cx="6705000" cy="207720"/>
              <a:chOff x="0" y="1870200"/>
              <a:chExt cx="6705000" cy="2077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2077920"/>
              <a:ext cx="6705000" cy="207720"/>
              <a:chOff x="0" y="2077920"/>
              <a:chExt cx="6705000" cy="20772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2286000"/>
              <a:ext cx="6705000" cy="207720"/>
              <a:chOff x="0" y="2286000"/>
              <a:chExt cx="6705000" cy="20772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2493720"/>
              <a:ext cx="6705000" cy="207720"/>
              <a:chOff x="0" y="2493720"/>
              <a:chExt cx="6705000" cy="20772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t1,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ll arguments defaul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2701440"/>
              <a:ext cx="6705000" cy="207720"/>
              <a:chOff x="0" y="2701440"/>
              <a:chExt cx="6705000" cy="20772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2(2),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inute and second defaul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2909160"/>
              <a:ext cx="6705000" cy="207720"/>
              <a:chOff x="0" y="2909160"/>
              <a:chExt cx="6705000" cy="20772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3(21, 34),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cond defaulte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3117240"/>
              <a:ext cx="6705000" cy="207720"/>
              <a:chOff x="0" y="3117240"/>
              <a:chExt cx="6705000" cy="20772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4(12, 25, 42)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ll values spec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0" y="3324960"/>
              <a:ext cx="6705000" cy="207720"/>
              <a:chOff x="0" y="3324960"/>
              <a:chExt cx="6705000" cy="207720"/>
            </a:xfrm>
          </p:grpSpPr>
          <p:sp>
            <p:nvSpPr>
              <p:cNvPr id="378" name="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5(27, 74, 99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ll bad values spec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0" y="3532680"/>
              <a:ext cx="6705000" cy="207720"/>
              <a:chOff x="0" y="3532680"/>
              <a:chExt cx="6705000" cy="207720"/>
            </a:xfrm>
          </p:grpSpPr>
          <p:sp>
            <p:nvSpPr>
              <p:cNvPr id="381" name="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0" y="3740760"/>
              <a:ext cx="6705000" cy="207720"/>
              <a:chOff x="0" y="3740760"/>
              <a:chExt cx="6705000" cy="207720"/>
            </a:xfrm>
          </p:grpSpPr>
          <p:sp>
            <p:nvSpPr>
              <p:cNvPr id="384" name="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onstructed with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0" y="3948480"/>
              <a:ext cx="6705000" cy="207720"/>
              <a:chOff x="0" y="3948480"/>
              <a:chExt cx="6705000" cy="207720"/>
            </a:xfrm>
          </p:grpSpPr>
          <p:sp>
            <p:nvSpPr>
              <p:cNvPr id="387" name="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all arguments defaulted: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0" y="4156200"/>
              <a:ext cx="6705000" cy="207720"/>
              <a:chOff x="0" y="4156200"/>
              <a:chExt cx="6705000" cy="207720"/>
            </a:xfrm>
          </p:grpSpPr>
          <p:sp>
            <p:nvSpPr>
              <p:cNvPr id="390" name="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1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0" y="4364280"/>
              <a:ext cx="6705000" cy="207720"/>
              <a:chOff x="0" y="4364280"/>
              <a:chExt cx="6705000" cy="207720"/>
            </a:xfrm>
          </p:grpSpPr>
          <p:sp>
            <p:nvSpPr>
              <p:cNvPr id="393" name="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0" y="4572000"/>
              <a:ext cx="6705000" cy="207720"/>
              <a:chOff x="0" y="4572000"/>
              <a:chExt cx="6705000" cy="20772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1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0" y="4779720"/>
              <a:ext cx="6705000" cy="207720"/>
              <a:chOff x="0" y="4779720"/>
              <a:chExt cx="6705000" cy="207720"/>
            </a:xfrm>
          </p:grpSpPr>
          <p:sp>
            <p:nvSpPr>
              <p:cNvPr id="399" name="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0" y="4987800"/>
              <a:ext cx="6705000" cy="207720"/>
              <a:chOff x="0" y="4987800"/>
              <a:chExt cx="6705000" cy="20772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hour specified; minute and second default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0" y="5195520"/>
              <a:ext cx="6705000" cy="207720"/>
              <a:chOff x="0" y="5195520"/>
              <a:chExt cx="6705000" cy="20772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0" y="5403240"/>
              <a:ext cx="6705000" cy="207720"/>
              <a:chOff x="0" y="5403240"/>
              <a:chExt cx="6705000" cy="207720"/>
            </a:xfrm>
          </p:grpSpPr>
          <p:sp>
            <p:nvSpPr>
              <p:cNvPr id="408" name="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2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0" y="5610960"/>
              <a:ext cx="6705000" cy="207720"/>
              <a:chOff x="0" y="5610960"/>
              <a:chExt cx="6705000" cy="207720"/>
            </a:xfrm>
          </p:grpSpPr>
          <p:sp>
            <p:nvSpPr>
              <p:cNvPr id="411" name="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0" y="5819040"/>
              <a:ext cx="6705000" cy="207720"/>
              <a:chOff x="0" y="5819040"/>
              <a:chExt cx="6705000" cy="207720"/>
            </a:xfrm>
          </p:grpSpPr>
          <p:sp>
            <p:nvSpPr>
              <p:cNvPr id="414" name="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2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0" y="6026760"/>
              <a:ext cx="6705000" cy="207720"/>
              <a:chOff x="0" y="6026760"/>
              <a:chExt cx="6705000" cy="207720"/>
            </a:xfrm>
          </p:grpSpPr>
          <p:sp>
            <p:nvSpPr>
              <p:cNvPr id="417" name="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0" y="6234480"/>
              <a:ext cx="6705000" cy="207720"/>
              <a:chOff x="0" y="6234480"/>
              <a:chExt cx="6705000" cy="207720"/>
            </a:xfrm>
          </p:grpSpPr>
          <p:sp>
            <p:nvSpPr>
              <p:cNvPr id="420" name="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hour and minute specified; second default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0" y="6442200"/>
              <a:ext cx="6705000" cy="207720"/>
              <a:chOff x="0" y="6442200"/>
              <a:chExt cx="6705000" cy="207720"/>
            </a:xfrm>
          </p:grpSpPr>
          <p:sp>
            <p:nvSpPr>
              <p:cNvPr id="423" name="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0" y="6650280"/>
              <a:ext cx="6705000" cy="207720"/>
              <a:chOff x="0" y="6650280"/>
              <a:chExt cx="6705000" cy="207720"/>
            </a:xfrm>
          </p:grpSpPr>
          <p:sp>
            <p:nvSpPr>
              <p:cNvPr id="426" name="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3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705360" y="838080"/>
            <a:ext cx="24382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reate objects using default argumen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rint the objects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705360" y="838080"/>
            <a:ext cx="24382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(continued)  Print the objects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52280" y="228600"/>
            <a:ext cx="6400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3844800"/>
            <a:ext cx="6705720" cy="30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ructed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l arguments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specified; minute and second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2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and minute specified; second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: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:34:00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, minute, and second spec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25:42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l invalid values spec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00:00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0" y="0"/>
            <a:ext cx="6705000" cy="3657600"/>
            <a:chOff x="0" y="0"/>
            <a:chExt cx="6705000" cy="3657600"/>
          </a:xfrm>
        </p:grpSpPr>
        <p:grpSp>
          <p:nvGrpSpPr>
            <p:cNvPr id="433" name=""/>
            <p:cNvGrpSpPr/>
            <p:nvPr/>
          </p:nvGrpSpPr>
          <p:grpSpPr>
            <a:xfrm>
              <a:off x="0" y="0"/>
              <a:ext cx="6705000" cy="203040"/>
              <a:chOff x="0" y="0"/>
              <a:chExt cx="6705000" cy="20304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0" y="203040"/>
              <a:ext cx="6705000" cy="203040"/>
              <a:chOff x="0" y="203040"/>
              <a:chExt cx="6705000" cy="203040"/>
            </a:xfrm>
          </p:grpSpPr>
          <p:sp>
            <p:nvSpPr>
              <p:cNvPr id="437" name=""/>
              <p:cNvSpPr/>
              <p:nvPr/>
            </p:nvSpPr>
            <p:spPr>
              <a:xfrm>
                <a:off x="0" y="20304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20304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3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0" y="406080"/>
              <a:ext cx="6705000" cy="203040"/>
              <a:chOff x="0" y="406080"/>
              <a:chExt cx="6705000" cy="203040"/>
            </a:xfrm>
          </p:grpSpPr>
          <p:sp>
            <p:nvSpPr>
              <p:cNvPr id="440" name=""/>
              <p:cNvSpPr/>
              <p:nvPr/>
            </p:nvSpPr>
            <p:spPr>
              <a:xfrm>
                <a:off x="0" y="40608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40608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0" y="609480"/>
              <a:ext cx="6705000" cy="203040"/>
              <a:chOff x="0" y="609480"/>
              <a:chExt cx="6705000" cy="20304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60948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0948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hour, minute, and second specifi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0" y="812520"/>
              <a:ext cx="6705000" cy="203040"/>
              <a:chOff x="0" y="812520"/>
              <a:chExt cx="6705000" cy="203040"/>
            </a:xfrm>
          </p:grpSpPr>
          <p:sp>
            <p:nvSpPr>
              <p:cNvPr id="446" name=""/>
              <p:cNvSpPr/>
              <p:nvPr/>
            </p:nvSpPr>
            <p:spPr>
              <a:xfrm>
                <a:off x="0" y="81252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81252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0" y="1015920"/>
              <a:ext cx="6705000" cy="203040"/>
              <a:chOff x="0" y="1015920"/>
              <a:chExt cx="6705000" cy="203040"/>
            </a:xfrm>
          </p:grpSpPr>
          <p:sp>
            <p:nvSpPr>
              <p:cNvPr id="449" name=""/>
              <p:cNvSpPr/>
              <p:nvPr/>
            </p:nvSpPr>
            <p:spPr>
              <a:xfrm>
                <a:off x="0" y="101592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101592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4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0" y="1218960"/>
              <a:ext cx="6705000" cy="203040"/>
              <a:chOff x="0" y="1218960"/>
              <a:chExt cx="6705000" cy="203040"/>
            </a:xfrm>
          </p:grpSpPr>
          <p:sp>
            <p:nvSpPr>
              <p:cNvPr id="452" name=""/>
              <p:cNvSpPr/>
              <p:nvPr/>
            </p:nvSpPr>
            <p:spPr>
              <a:xfrm>
                <a:off x="0" y="121896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121896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0" y="1422360"/>
              <a:ext cx="6705000" cy="203040"/>
              <a:chOff x="0" y="1422360"/>
              <a:chExt cx="6705000" cy="203040"/>
            </a:xfrm>
          </p:grpSpPr>
          <p:sp>
            <p:nvSpPr>
              <p:cNvPr id="455" name=""/>
              <p:cNvSpPr/>
              <p:nvPr/>
            </p:nvSpPr>
            <p:spPr>
              <a:xfrm>
                <a:off x="0" y="142236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0" y="142236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4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0" y="1625400"/>
              <a:ext cx="6705000" cy="203040"/>
              <a:chOff x="0" y="1625400"/>
              <a:chExt cx="6705000" cy="20304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162540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162540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0" y="1828800"/>
              <a:ext cx="6705000" cy="203040"/>
              <a:chOff x="0" y="1828800"/>
              <a:chExt cx="6705000" cy="203040"/>
            </a:xfrm>
          </p:grpSpPr>
          <p:sp>
            <p:nvSpPr>
              <p:cNvPr id="461" name=""/>
              <p:cNvSpPr/>
              <p:nvPr/>
            </p:nvSpPr>
            <p:spPr>
              <a:xfrm>
                <a:off x="0" y="182880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182880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all invalid values specifi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0" y="2031840"/>
              <a:ext cx="6705000" cy="203040"/>
              <a:chOff x="0" y="2031840"/>
              <a:chExt cx="6705000" cy="203040"/>
            </a:xfrm>
          </p:grpSpPr>
          <p:sp>
            <p:nvSpPr>
              <p:cNvPr id="464" name=""/>
              <p:cNvSpPr/>
              <p:nvPr/>
            </p:nvSpPr>
            <p:spPr>
              <a:xfrm>
                <a:off x="0" y="203184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203184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0" y="2235240"/>
              <a:ext cx="6705000" cy="203040"/>
              <a:chOff x="0" y="2235240"/>
              <a:chExt cx="6705000" cy="203040"/>
            </a:xfrm>
          </p:grpSpPr>
          <p:sp>
            <p:nvSpPr>
              <p:cNvPr id="467" name=""/>
              <p:cNvSpPr/>
              <p:nvPr/>
            </p:nvSpPr>
            <p:spPr>
              <a:xfrm>
                <a:off x="0" y="223524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223524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5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0" y="2438280"/>
              <a:ext cx="6705000" cy="203040"/>
              <a:chOff x="0" y="2438280"/>
              <a:chExt cx="6705000" cy="203040"/>
            </a:xfrm>
          </p:grpSpPr>
          <p:sp>
            <p:nvSpPr>
              <p:cNvPr id="470" name=""/>
              <p:cNvSpPr/>
              <p:nvPr/>
            </p:nvSpPr>
            <p:spPr>
              <a:xfrm>
                <a:off x="0" y="243828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243828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0" y="2641680"/>
              <a:ext cx="6705000" cy="203040"/>
              <a:chOff x="0" y="2641680"/>
              <a:chExt cx="6705000" cy="203040"/>
            </a:xfrm>
          </p:grpSpPr>
          <p:sp>
            <p:nvSpPr>
              <p:cNvPr id="473" name=""/>
              <p:cNvSpPr/>
              <p:nvPr/>
            </p:nvSpPr>
            <p:spPr>
              <a:xfrm>
                <a:off x="0" y="264168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64168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5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0" y="2844720"/>
              <a:ext cx="6705000" cy="203040"/>
              <a:chOff x="0" y="2844720"/>
              <a:chExt cx="6705000" cy="203040"/>
            </a:xfrm>
          </p:grpSpPr>
          <p:sp>
            <p:nvSpPr>
              <p:cNvPr id="476" name=""/>
              <p:cNvSpPr/>
              <p:nvPr/>
            </p:nvSpPr>
            <p:spPr>
              <a:xfrm>
                <a:off x="0" y="284472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84472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0" y="3048120"/>
              <a:ext cx="6705000" cy="203040"/>
              <a:chOff x="0" y="3048120"/>
              <a:chExt cx="6705000" cy="203040"/>
            </a:xfrm>
          </p:grpSpPr>
          <p:sp>
            <p:nvSpPr>
              <p:cNvPr id="479" name=""/>
              <p:cNvSpPr/>
              <p:nvPr/>
            </p:nvSpPr>
            <p:spPr>
              <a:xfrm>
                <a:off x="0" y="304812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304812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0" y="3251160"/>
              <a:ext cx="6705000" cy="203040"/>
              <a:chOff x="0" y="3251160"/>
              <a:chExt cx="6705000" cy="203040"/>
            </a:xfrm>
          </p:grpSpPr>
          <p:sp>
            <p:nvSpPr>
              <p:cNvPr id="482" name=""/>
              <p:cNvSpPr/>
              <p:nvPr/>
            </p:nvSpPr>
            <p:spPr>
              <a:xfrm>
                <a:off x="0" y="325116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325116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0" y="3454560"/>
              <a:ext cx="6705000" cy="203040"/>
              <a:chOff x="0" y="3454560"/>
              <a:chExt cx="6705000" cy="203040"/>
            </a:xfrm>
          </p:grpSpPr>
          <p:sp>
            <p:nvSpPr>
              <p:cNvPr id="485" name=""/>
              <p:cNvSpPr/>
              <p:nvPr/>
            </p:nvSpPr>
            <p:spPr>
              <a:xfrm>
                <a:off x="0" y="345456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3454560"/>
                <a:ext cx="6705000" cy="203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9  Using Destructors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ruc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function of cla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s termination housekeeping before the system reclaims the object’s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 of the construc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i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ld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~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llowed by the class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~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ll that the constructor’s name is the class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s no parameters, returns no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destructor per class - no overloading allow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10  When Constructors and Destructors Are Called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s and destructors called automa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 depends on scope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cope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s called before any other function (inclu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ructors called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rminates (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 called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ructors not called if program terminate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10  When Constructors and Destructors Are Called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 local object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s called when objects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ructors called when objects leave scope (when the block in which they are defined is exi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ructors not called if program ends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s called when execution reaches the point where the objects are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ructors called 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rminates or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 is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ructors not called if the program ends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705360" y="838080"/>
            <a:ext cx="24382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Create header fil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0" y="0"/>
            <a:ext cx="6705000" cy="3886200"/>
            <a:chOff x="0" y="0"/>
            <a:chExt cx="6705000" cy="3886200"/>
          </a:xfrm>
        </p:grpSpPr>
        <p:grpSp>
          <p:nvGrpSpPr>
            <p:cNvPr id="495" name=""/>
            <p:cNvGrpSpPr/>
            <p:nvPr/>
          </p:nvGrpSpPr>
          <p:grpSpPr>
            <a:xfrm>
              <a:off x="0" y="0"/>
              <a:ext cx="6705000" cy="258840"/>
              <a:chOff x="0" y="0"/>
              <a:chExt cx="6705000" cy="258840"/>
            </a:xfrm>
          </p:grpSpPr>
          <p:sp>
            <p:nvSpPr>
              <p:cNvPr id="496" name=""/>
              <p:cNvSpPr/>
              <p:nvPr/>
            </p:nvSpPr>
            <p:spPr>
              <a:xfrm>
                <a:off x="0" y="0"/>
                <a:ext cx="6705000" cy="2588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0" y="0"/>
                <a:ext cx="6705000" cy="2588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6.8: create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0" y="258840"/>
              <a:ext cx="6705000" cy="258840"/>
              <a:chOff x="0" y="258840"/>
              <a:chExt cx="6705000" cy="258840"/>
            </a:xfrm>
          </p:grpSpPr>
          <p:sp>
            <p:nvSpPr>
              <p:cNvPr id="499" name=""/>
              <p:cNvSpPr/>
              <p:nvPr/>
            </p:nvSpPr>
            <p:spPr>
              <a:xfrm>
                <a:off x="0" y="258840"/>
                <a:ext cx="6705000" cy="2588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0" y="258840"/>
                <a:ext cx="6705000" cy="2588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reateAndDestro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0" y="518040"/>
              <a:ext cx="6705000" cy="259200"/>
              <a:chOff x="0" y="518040"/>
              <a:chExt cx="6705000" cy="259200"/>
            </a:xfrm>
          </p:grpSpPr>
          <p:sp>
            <p:nvSpPr>
              <p:cNvPr id="502" name=""/>
              <p:cNvSpPr/>
              <p:nvPr/>
            </p:nvSpPr>
            <p:spPr>
              <a:xfrm>
                <a:off x="0" y="518040"/>
                <a:ext cx="6705000" cy="259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0" y="518040"/>
                <a:ext cx="6705000" cy="259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create.cpp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0" y="777240"/>
              <a:ext cx="6705000" cy="258840"/>
              <a:chOff x="0" y="777240"/>
              <a:chExt cx="6705000" cy="258840"/>
            </a:xfrm>
          </p:grpSpPr>
          <p:sp>
            <p:nvSpPr>
              <p:cNvPr id="505" name=""/>
              <p:cNvSpPr/>
              <p:nvPr/>
            </p:nvSpPr>
            <p:spPr>
              <a:xfrm>
                <a:off x="0" y="777240"/>
                <a:ext cx="6705000" cy="2588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0" y="777240"/>
                <a:ext cx="6705000" cy="2588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fndef CREAT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0" y="1036080"/>
              <a:ext cx="6705000" cy="258840"/>
              <a:chOff x="0" y="1036080"/>
              <a:chExt cx="6705000" cy="258840"/>
            </a:xfrm>
          </p:grpSpPr>
          <p:sp>
            <p:nvSpPr>
              <p:cNvPr id="508" name=""/>
              <p:cNvSpPr/>
              <p:nvPr/>
            </p:nvSpPr>
            <p:spPr>
              <a:xfrm>
                <a:off x="0" y="1036080"/>
                <a:ext cx="6705000" cy="2588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0" y="1036080"/>
                <a:ext cx="6705000" cy="2588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define CREAT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0" y="1295280"/>
              <a:ext cx="6705000" cy="258840"/>
              <a:chOff x="0" y="1295280"/>
              <a:chExt cx="6705000" cy="258840"/>
            </a:xfrm>
          </p:grpSpPr>
          <p:sp>
            <p:nvSpPr>
              <p:cNvPr id="511" name=""/>
              <p:cNvSpPr/>
              <p:nvPr/>
            </p:nvSpPr>
            <p:spPr>
              <a:xfrm>
                <a:off x="0" y="1295280"/>
                <a:ext cx="6705000" cy="2588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0" y="1295280"/>
                <a:ext cx="6705000" cy="2588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0" y="1554120"/>
              <a:ext cx="6705000" cy="259200"/>
              <a:chOff x="0" y="1554120"/>
              <a:chExt cx="6705000" cy="259200"/>
            </a:xfrm>
          </p:grpSpPr>
          <p:sp>
            <p:nvSpPr>
              <p:cNvPr id="514" name=""/>
              <p:cNvSpPr/>
              <p:nvPr/>
            </p:nvSpPr>
            <p:spPr>
              <a:xfrm>
                <a:off x="0" y="1554120"/>
                <a:ext cx="6705000" cy="259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1554120"/>
                <a:ext cx="6705000" cy="259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reateAndDestroy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0" y="1813320"/>
              <a:ext cx="6705000" cy="258840"/>
              <a:chOff x="0" y="1813320"/>
              <a:chExt cx="6705000" cy="258840"/>
            </a:xfrm>
          </p:grpSpPr>
          <p:sp>
            <p:nvSpPr>
              <p:cNvPr id="517" name=""/>
              <p:cNvSpPr/>
              <p:nvPr/>
            </p:nvSpPr>
            <p:spPr>
              <a:xfrm>
                <a:off x="0" y="1813320"/>
                <a:ext cx="6705000" cy="2588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813320"/>
                <a:ext cx="6705000" cy="2588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0" y="2072520"/>
              <a:ext cx="6705000" cy="258840"/>
              <a:chOff x="0" y="2072520"/>
              <a:chExt cx="6705000" cy="258840"/>
            </a:xfrm>
          </p:grpSpPr>
          <p:sp>
            <p:nvSpPr>
              <p:cNvPr id="520" name=""/>
              <p:cNvSpPr/>
              <p:nvPr/>
            </p:nvSpPr>
            <p:spPr>
              <a:xfrm>
                <a:off x="0" y="2072520"/>
                <a:ext cx="6705000" cy="2588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2072520"/>
                <a:ext cx="6705000" cy="2588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( in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0" y="2331720"/>
              <a:ext cx="6705000" cy="258840"/>
              <a:chOff x="0" y="2331720"/>
              <a:chExt cx="6705000" cy="258840"/>
            </a:xfrm>
          </p:grpSpPr>
          <p:sp>
            <p:nvSpPr>
              <p:cNvPr id="523" name=""/>
              <p:cNvSpPr/>
              <p:nvPr/>
            </p:nvSpPr>
            <p:spPr>
              <a:xfrm>
                <a:off x="0" y="2331720"/>
                <a:ext cx="6705000" cy="2588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2331720"/>
                <a:ext cx="6705000" cy="2588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CreateAndDestroy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0" y="2590560"/>
              <a:ext cx="6705000" cy="259200"/>
              <a:chOff x="0" y="2590560"/>
              <a:chExt cx="6705000" cy="259200"/>
            </a:xfrm>
          </p:grpSpPr>
          <p:sp>
            <p:nvSpPr>
              <p:cNvPr id="526" name=""/>
              <p:cNvSpPr/>
              <p:nvPr/>
            </p:nvSpPr>
            <p:spPr>
              <a:xfrm>
                <a:off x="0" y="2590560"/>
                <a:ext cx="6705000" cy="259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2590560"/>
                <a:ext cx="6705000" cy="259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0" y="2849760"/>
              <a:ext cx="6705000" cy="258840"/>
              <a:chOff x="0" y="2849760"/>
              <a:chExt cx="6705000" cy="258840"/>
            </a:xfrm>
          </p:grpSpPr>
          <p:sp>
            <p:nvSpPr>
              <p:cNvPr id="529" name=""/>
              <p:cNvSpPr/>
              <p:nvPr/>
            </p:nvSpPr>
            <p:spPr>
              <a:xfrm>
                <a:off x="0" y="2849760"/>
                <a:ext cx="6705000" cy="2588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2849760"/>
                <a:ext cx="6705000" cy="2588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0" y="3108960"/>
              <a:ext cx="6705000" cy="258840"/>
              <a:chOff x="0" y="3108960"/>
              <a:chExt cx="6705000" cy="258840"/>
            </a:xfrm>
          </p:grpSpPr>
          <p:sp>
            <p:nvSpPr>
              <p:cNvPr id="532" name=""/>
              <p:cNvSpPr/>
              <p:nvPr/>
            </p:nvSpPr>
            <p:spPr>
              <a:xfrm>
                <a:off x="0" y="3108960"/>
                <a:ext cx="6705000" cy="2588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3108960"/>
                <a:ext cx="6705000" cy="2588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0" y="3367800"/>
              <a:ext cx="6705000" cy="258840"/>
              <a:chOff x="0" y="3367800"/>
              <a:chExt cx="6705000" cy="258840"/>
            </a:xfrm>
          </p:grpSpPr>
          <p:sp>
            <p:nvSpPr>
              <p:cNvPr id="535" name=""/>
              <p:cNvSpPr/>
              <p:nvPr/>
            </p:nvSpPr>
            <p:spPr>
              <a:xfrm>
                <a:off x="0" y="3367800"/>
                <a:ext cx="6705000" cy="2588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3367800"/>
                <a:ext cx="6705000" cy="2588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0" y="3627000"/>
              <a:ext cx="6705000" cy="259200"/>
              <a:chOff x="0" y="3627000"/>
              <a:chExt cx="6705000" cy="259200"/>
            </a:xfrm>
          </p:grpSpPr>
          <p:sp>
            <p:nvSpPr>
              <p:cNvPr id="538" name=""/>
              <p:cNvSpPr/>
              <p:nvPr/>
            </p:nvSpPr>
            <p:spPr>
              <a:xfrm>
                <a:off x="0" y="3627000"/>
                <a:ext cx="6705000" cy="259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3627000"/>
                <a:ext cx="6705000" cy="259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705360" y="838080"/>
            <a:ext cx="24382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Load header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0" y="0"/>
            <a:ext cx="6705000" cy="3962520"/>
            <a:chOff x="0" y="0"/>
            <a:chExt cx="6705000" cy="3962520"/>
          </a:xfrm>
        </p:grpSpPr>
        <p:grpSp>
          <p:nvGrpSpPr>
            <p:cNvPr id="542" name=""/>
            <p:cNvGrpSpPr/>
            <p:nvPr/>
          </p:nvGrpSpPr>
          <p:grpSpPr>
            <a:xfrm>
              <a:off x="0" y="0"/>
              <a:ext cx="6705000" cy="232920"/>
              <a:chOff x="0" y="0"/>
              <a:chExt cx="6705000" cy="23292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6.8: create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0" y="232920"/>
              <a:ext cx="6705000" cy="232920"/>
              <a:chOff x="0" y="232920"/>
              <a:chExt cx="6705000" cy="23292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23292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23292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reateAndDestro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0" y="465840"/>
              <a:ext cx="6705000" cy="232920"/>
              <a:chOff x="0" y="465840"/>
              <a:chExt cx="6705000" cy="232920"/>
            </a:xfrm>
          </p:grpSpPr>
          <p:sp>
            <p:nvSpPr>
              <p:cNvPr id="549" name=""/>
              <p:cNvSpPr/>
              <p:nvPr/>
            </p:nvSpPr>
            <p:spPr>
              <a:xfrm>
                <a:off x="0" y="46584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46584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0" y="699120"/>
              <a:ext cx="6705000" cy="232920"/>
              <a:chOff x="0" y="699120"/>
              <a:chExt cx="6705000" cy="232920"/>
            </a:xfrm>
          </p:grpSpPr>
          <p:sp>
            <p:nvSpPr>
              <p:cNvPr id="552" name=""/>
              <p:cNvSpPr/>
              <p:nvPr/>
            </p:nvSpPr>
            <p:spPr>
              <a:xfrm>
                <a:off x="0" y="69912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69912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0" y="932400"/>
              <a:ext cx="6705000" cy="232920"/>
              <a:chOff x="0" y="932400"/>
              <a:chExt cx="6705000" cy="232920"/>
            </a:xfrm>
          </p:grpSpPr>
          <p:sp>
            <p:nvSpPr>
              <p:cNvPr id="555" name=""/>
              <p:cNvSpPr/>
              <p:nvPr/>
            </p:nvSpPr>
            <p:spPr>
              <a:xfrm>
                <a:off x="0" y="93240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93240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0" y="1165320"/>
              <a:ext cx="6705000" cy="232920"/>
              <a:chOff x="0" y="1165320"/>
              <a:chExt cx="6705000" cy="232920"/>
            </a:xfrm>
          </p:grpSpPr>
          <p:sp>
            <p:nvSpPr>
              <p:cNvPr id="558" name=""/>
              <p:cNvSpPr/>
              <p:nvPr/>
            </p:nvSpPr>
            <p:spPr>
              <a:xfrm>
                <a:off x="0" y="116532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116532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0" y="1398240"/>
              <a:ext cx="6705000" cy="232920"/>
              <a:chOff x="0" y="1398240"/>
              <a:chExt cx="6705000" cy="232920"/>
            </a:xfrm>
          </p:grpSpPr>
          <p:sp>
            <p:nvSpPr>
              <p:cNvPr id="561" name=""/>
              <p:cNvSpPr/>
              <p:nvPr/>
            </p:nvSpPr>
            <p:spPr>
              <a:xfrm>
                <a:off x="0" y="139824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0" y="139824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0" y="1631520"/>
              <a:ext cx="6705000" cy="232920"/>
              <a:chOff x="0" y="1631520"/>
              <a:chExt cx="6705000" cy="232920"/>
            </a:xfrm>
          </p:grpSpPr>
          <p:sp>
            <p:nvSpPr>
              <p:cNvPr id="564" name=""/>
              <p:cNvSpPr/>
              <p:nvPr/>
            </p:nvSpPr>
            <p:spPr>
              <a:xfrm>
                <a:off x="0" y="163152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0" y="163152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creat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0" y="1864800"/>
              <a:ext cx="6705000" cy="232920"/>
              <a:chOff x="0" y="1864800"/>
              <a:chExt cx="6705000" cy="232920"/>
            </a:xfrm>
          </p:grpSpPr>
          <p:sp>
            <p:nvSpPr>
              <p:cNvPr id="567" name=""/>
              <p:cNvSpPr/>
              <p:nvPr/>
            </p:nvSpPr>
            <p:spPr>
              <a:xfrm>
                <a:off x="0" y="186480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186480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0" y="2097720"/>
              <a:ext cx="6705000" cy="232920"/>
              <a:chOff x="0" y="2097720"/>
              <a:chExt cx="6705000" cy="232920"/>
            </a:xfrm>
          </p:grpSpPr>
          <p:sp>
            <p:nvSpPr>
              <p:cNvPr id="570" name=""/>
              <p:cNvSpPr/>
              <p:nvPr/>
            </p:nvSpPr>
            <p:spPr>
              <a:xfrm>
                <a:off x="0" y="209772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0" y="209772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reateAndDestroy::CreateAndDestro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0" y="2330640"/>
              <a:ext cx="6705000" cy="232920"/>
              <a:chOff x="0" y="2330640"/>
              <a:chExt cx="6705000" cy="232920"/>
            </a:xfrm>
          </p:grpSpPr>
          <p:sp>
            <p:nvSpPr>
              <p:cNvPr id="573" name=""/>
              <p:cNvSpPr/>
              <p:nvPr/>
            </p:nvSpPr>
            <p:spPr>
              <a:xfrm>
                <a:off x="0" y="233064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233064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0" y="2563920"/>
              <a:ext cx="6705000" cy="232920"/>
              <a:chOff x="0" y="2563920"/>
              <a:chExt cx="6705000" cy="232920"/>
            </a:xfrm>
          </p:grpSpPr>
          <p:sp>
            <p:nvSpPr>
              <p:cNvPr id="576" name=""/>
              <p:cNvSpPr/>
              <p:nvPr/>
            </p:nvSpPr>
            <p:spPr>
              <a:xfrm>
                <a:off x="0" y="256392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256392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a = valu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0" y="2797200"/>
              <a:ext cx="6705000" cy="232920"/>
              <a:chOff x="0" y="2797200"/>
              <a:chExt cx="6705000" cy="23292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279720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279720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Object " &lt;&lt; data &lt;&lt; "   constructor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0" y="3030120"/>
              <a:ext cx="6705000" cy="232920"/>
              <a:chOff x="0" y="3030120"/>
              <a:chExt cx="6705000" cy="232920"/>
            </a:xfrm>
          </p:grpSpPr>
          <p:sp>
            <p:nvSpPr>
              <p:cNvPr id="582" name=""/>
              <p:cNvSpPr/>
              <p:nvPr/>
            </p:nvSpPr>
            <p:spPr>
              <a:xfrm>
                <a:off x="0" y="303012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303012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0" y="3263040"/>
              <a:ext cx="6705000" cy="232920"/>
              <a:chOff x="0" y="3263040"/>
              <a:chExt cx="6705000" cy="232920"/>
            </a:xfrm>
          </p:grpSpPr>
          <p:sp>
            <p:nvSpPr>
              <p:cNvPr id="585" name=""/>
              <p:cNvSpPr/>
              <p:nvPr/>
            </p:nvSpPr>
            <p:spPr>
              <a:xfrm>
                <a:off x="0" y="326304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326304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0" y="3496320"/>
              <a:ext cx="6705000" cy="232920"/>
              <a:chOff x="0" y="3496320"/>
              <a:chExt cx="6705000" cy="232920"/>
            </a:xfrm>
          </p:grpSpPr>
          <p:sp>
            <p:nvSpPr>
              <p:cNvPr id="588" name=""/>
              <p:cNvSpPr/>
              <p:nvPr/>
            </p:nvSpPr>
            <p:spPr>
              <a:xfrm>
                <a:off x="0" y="349632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349632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reateAndDestroy::~CreateAndDestro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0" y="3729600"/>
              <a:ext cx="6705000" cy="232920"/>
              <a:chOff x="0" y="3729600"/>
              <a:chExt cx="6705000" cy="232920"/>
            </a:xfrm>
          </p:grpSpPr>
          <p:sp>
            <p:nvSpPr>
              <p:cNvPr id="591" name=""/>
              <p:cNvSpPr/>
              <p:nvPr/>
            </p:nvSpPr>
            <p:spPr>
              <a:xfrm>
                <a:off x="0" y="372960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3729600"/>
                <a:ext cx="6705000" cy="232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efe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"Object " &lt;&lt; data &lt;&lt; "   destructor " &lt;&lt; end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3352680"/>
            <a:ext cx="3505320" cy="32382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fed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(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tTime( int, int, int );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ntMilitary(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ntStandard(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priv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hour;     // 0 -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inute;   // 0 - 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cond;   // 0 - 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2 Implementing a Time Abstract Data Type with a Clas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1080"/>
            <a:ext cx="777240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objects that hav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tribut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ata membe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ehavio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ember function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en-US" sz="2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metho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using keywor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514600" y="3505320"/>
            <a:ext cx="220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4191120"/>
            <a:ext cx="2133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514240" y="3505320"/>
            <a:ext cx="2133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3448080"/>
            <a:ext cx="76320" cy="12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514240" y="3505320"/>
            <a:ext cx="2057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828800" y="3753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4114800" y="420984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3657600" y="520020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429000"/>
            <a:ext cx="28958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member-access specifi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4133880"/>
            <a:ext cx="3886200" cy="1194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Milita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Standa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method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constru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5410080"/>
            <a:ext cx="26672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u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co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data memb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705360" y="838080"/>
            <a:ext cx="24382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Load header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Initialize object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152280" y="228600"/>
            <a:ext cx="6400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596" name="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6.8: fig16_08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the order in which constructors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s are call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612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0" y="1371240"/>
              <a:ext cx="6705000" cy="228600"/>
              <a:chOff x="0" y="1371240"/>
              <a:chExt cx="6705000" cy="228600"/>
            </a:xfrm>
          </p:grpSpPr>
          <p:sp>
            <p:nvSpPr>
              <p:cNvPr id="615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618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621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creat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624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627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re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630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reateAndDestroy first( 1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lob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639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642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645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global created before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0" y="3886200"/>
              <a:ext cx="6705000" cy="228240"/>
              <a:chOff x="0" y="3886200"/>
              <a:chExt cx="6705000" cy="228240"/>
            </a:xfrm>
          </p:grpSpPr>
          <p:sp>
            <p:nvSpPr>
              <p:cNvPr id="648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0" y="4114800"/>
              <a:ext cx="6705000" cy="228240"/>
              <a:chOff x="0" y="4114800"/>
              <a:chExt cx="6705000" cy="228240"/>
            </a:xfrm>
          </p:grpSpPr>
          <p:sp>
            <p:nvSpPr>
              <p:cNvPr id="651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 second( 2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0" y="4343400"/>
              <a:ext cx="6705000" cy="228600"/>
              <a:chOff x="0" y="4343400"/>
              <a:chExt cx="6705000" cy="228600"/>
            </a:xfrm>
          </p:grpSpPr>
          <p:sp>
            <p:nvSpPr>
              <p:cNvPr id="654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autom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0" y="4572000"/>
              <a:ext cx="6705000" cy="228240"/>
              <a:chOff x="0" y="4572000"/>
              <a:chExt cx="6705000" cy="228240"/>
            </a:xfrm>
          </p:grpSpPr>
          <p:sp>
            <p:nvSpPr>
              <p:cNvPr id="657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0" y="4800600"/>
              <a:ext cx="6705000" cy="228240"/>
              <a:chOff x="0" y="4800600"/>
              <a:chExt cx="6705000" cy="228240"/>
            </a:xfrm>
          </p:grpSpPr>
          <p:sp>
            <p:nvSpPr>
              <p:cNvPr id="660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atic CreateAndDestroy third( 3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0" y="5029200"/>
              <a:ext cx="6705000" cy="228240"/>
              <a:chOff x="0" y="5029200"/>
              <a:chExt cx="6705000" cy="228240"/>
            </a:xfrm>
          </p:grpSpPr>
          <p:sp>
            <p:nvSpPr>
              <p:cNvPr id="663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st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0" y="5257800"/>
              <a:ext cx="6705000" cy="228600"/>
              <a:chOff x="0" y="5257800"/>
              <a:chExt cx="6705000" cy="228600"/>
            </a:xfrm>
          </p:grpSpPr>
          <p:sp>
            <p:nvSpPr>
              <p:cNvPr id="666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0" y="5486400"/>
              <a:ext cx="6705000" cy="228240"/>
              <a:chOff x="0" y="5486400"/>
              <a:chExt cx="6705000" cy="228240"/>
            </a:xfrm>
          </p:grpSpPr>
          <p:sp>
            <p:nvSpPr>
              <p:cNvPr id="669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function to create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0" y="5715000"/>
              <a:ext cx="6705000" cy="228240"/>
              <a:chOff x="0" y="5715000"/>
              <a:chExt cx="6705000" cy="228240"/>
            </a:xfrm>
          </p:grpSpPr>
          <p:sp>
            <p:nvSpPr>
              <p:cNvPr id="672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0" y="5943600"/>
              <a:ext cx="6705000" cy="228240"/>
              <a:chOff x="0" y="5943600"/>
              <a:chExt cx="6705000" cy="228240"/>
            </a:xfrm>
          </p:grpSpPr>
          <p:sp>
            <p:nvSpPr>
              <p:cNvPr id="675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 fourth( 4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0" y="6172200"/>
              <a:ext cx="6705000" cy="228600"/>
              <a:chOff x="0" y="6172200"/>
              <a:chExt cx="6705000" cy="228600"/>
            </a:xfrm>
          </p:grpSpPr>
          <p:sp>
            <p:nvSpPr>
              <p:cNvPr id="678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autom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0" y="6400800"/>
              <a:ext cx="6705000" cy="228240"/>
              <a:chOff x="0" y="6400800"/>
              <a:chExt cx="6705000" cy="228240"/>
            </a:xfrm>
          </p:grpSpPr>
          <p:sp>
            <p:nvSpPr>
              <p:cNvPr id="681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0" y="6629400"/>
              <a:ext cx="6705000" cy="228240"/>
              <a:chOff x="0" y="6629400"/>
              <a:chExt cx="6705000" cy="228240"/>
            </a:xfrm>
          </p:grpSpPr>
          <p:sp>
            <p:nvSpPr>
              <p:cNvPr id="684" name="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4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705360" y="838080"/>
            <a:ext cx="24382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Function definition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0" y="0"/>
            <a:ext cx="6705000" cy="2971440"/>
            <a:chOff x="0" y="0"/>
            <a:chExt cx="6705000" cy="2971440"/>
          </a:xfrm>
        </p:grpSpPr>
        <p:grpSp>
          <p:nvGrpSpPr>
            <p:cNvPr id="688" name="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689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692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to create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695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re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701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 fifth(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704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autom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0" y="1371600"/>
              <a:ext cx="6705000" cy="228600"/>
              <a:chOff x="0" y="1371600"/>
              <a:chExt cx="6705000" cy="228600"/>
            </a:xfrm>
          </p:grpSpPr>
          <p:sp>
            <p:nvSpPr>
              <p:cNvPr id="707" name="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710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atic CreateAndDestroy sixth(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713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st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716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719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 seventh( 7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722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autom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725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0" y="3276720"/>
            <a:ext cx="6705720" cy="283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1   constructor   (global created before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2   constructor   (local autom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3   constructor   (local st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5   constructor   (local autom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6   constructor   (local st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7   constructor   (local autom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7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5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4   constructor   (local autom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4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2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6   de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3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1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11 Using Data Members and Member 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provid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(i.e., write)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.e., read) value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ment of bank balance (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member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nkAc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by member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uteInter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function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ically nam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Interes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function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estR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typically be call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Interes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11 Using Data Members and Member Functions (II)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441440"/>
            <a:ext cx="77724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pabilities effectively make data member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!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er decides what the function can set and what information the function can 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t functions sh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attempts to modify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new value is appropriate for that data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an attemp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day of the month to 37 would be rej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er must include these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12 A Subtle Trap: Returning a Reference to a Private Data Member</a:t>
            </a:r>
            <a:r>
              <a:rPr b="0" lang="en-US" sz="32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0" lang="en-US" sz="32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to an ob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as for the name of the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used on the left side of an assignment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can receive a value, which changes the original object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ay to use this capability (unfortunately!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 of a class return a non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erence 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reference can be modified, which changes the origina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685440" y="380880"/>
            <a:ext cx="3809880" cy="51818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fed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Fig. 16.10: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time4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Declaration of the Time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Member functions defined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time4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ifndef TIME4_H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define TIME4_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Time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( int = 0, int = 0, int = 0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id setTime( int, int, int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getHour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int &amp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dSetHour( int );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DANGEROUS reference 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hou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minu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secon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51818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fedc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Fig. 16.10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time4.c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Member function defini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for Time cla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#include "time4.h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 //other functions omit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POOR PROGRAMMING PRACTI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Returning a reference to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private data memb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int &amp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me::</a:t>
            </a: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badSetHou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 int hh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our = ( hh &gt;= 0 &amp;&amp; hh &lt; 24 ) ? hh :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return hour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DANGEROUS reference 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5943600" cy="63248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fedc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// Fig. 16.10: fig16_10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// Demonstrating a public member functio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// returns a reference to a private data me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// Time class has been trimmed for this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ing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ing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include "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time4.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 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int &amp;hourRef = t.badSetHour( 20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t &lt;&lt; "Hour before modification: " &lt;&lt;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hourRe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hourRef = 30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// modification with invalid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t &lt;&lt; "\nHour after modification: " &lt;&lt;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t.getHour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// Dangerous: Function call that ret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// a reference can be used as an lvalu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t.badSetHour( 12 ) = 74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t &lt;&lt; "\n\n*********************************\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&lt; "POOR PROGRAMMING PRACTICE!!!!!!!!\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&lt; "badSetHour as an lvalue, Hour: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&lt;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t.getHou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&lt; "\n*********************************"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5880" y="1143000"/>
            <a:ext cx="2895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UTLIN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  Declare 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hange data using a 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Pr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562720" y="4952880"/>
            <a:ext cx="3581280" cy="1752840"/>
          </a:xfrm>
          <a:prstGeom prst="rect">
            <a:avLst/>
          </a:prstGeom>
          <a:gradFill rotWithShape="0">
            <a:gsLst>
              <a:gs pos="0">
                <a:srgbClr val="eeeefe"/>
              </a:gs>
              <a:gs pos="50000">
                <a:srgbClr val="ccccff"/>
              </a:gs>
              <a:gs pos="100000">
                <a:srgbClr val="eeeefe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GRAM 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before modification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after modification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OR PROGRAMMING PRACTICE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dSetHour as an lvalue, Hour: 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13 Assignment by Default Memberwise Copy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variables equal, i.e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used to assign an object to another object of the sam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wise cop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by member 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Object1 = myObject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s may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ed as function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ed from functions (call-by-value defaul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ointers for call by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6934320" cy="6553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fed2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date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ing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ing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Simple Dat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Date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default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( int = 1, int = 1, int = 1990 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month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da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yea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Simple Date constructor with no range che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::Date( int m, int d, int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nth = 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y = 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ear = 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Print the Date in the form mm-dd-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id Date::print(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t &lt;&lt; month &lt;&lt; '-' &lt;&lt; day &lt;&lt; '-' &lt;&lt; yea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723920" y="228600"/>
            <a:ext cx="4419720" cy="5562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fec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Fig. 16.11: fig16_11.cp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Class objects can be assigned to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other using default memberwise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ing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ing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#include “date.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Date date1( 7, 4, 1993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Date date2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d2 defaults to 1/1/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t &lt;&lt; "date1 = 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1.prin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t &lt;&lt; "\ndate2 = 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2.prin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date2 = date1;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assignment b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default memberwise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t &lt;&lt; "\n\nAfter default memberwise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py, date2 = 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2.prin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0" y="5834160"/>
            <a:ext cx="4572000" cy="10065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ROGRAM 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1 = 7-4-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2 = 1-1-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default memberwise copy, date2 = 7-4-199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14    Software Reusability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programm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e on implementing useful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mendous opportunity to capture and catalog cla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ed by large segments of the programming commun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librarie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 for this pur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ed from existing, well-defined, carefully tested, portable, widely available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s development of powerful, high-quality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2 Implementing a Time Abstract Data Type with a Class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to that of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r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 delineated with brace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efinition terminates with a semicol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s and data</a:t>
            </a:r>
            <a:br>
              <a:rPr sz="2800"/>
            </a:br>
            <a:r>
              <a:rPr b="1" lang="en-US" sz="20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essible wherever the program has access to an object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essible only to member functions or friends of the class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Protect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t discussed in this course – read it from the boo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2 Implementing a Time Abstract Data Type with a Class (I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member function that initializes data members of a 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s cannot return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name as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class defined, can be used as a data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80880" y="4332240"/>
            <a:ext cx="9372600" cy="2136240"/>
            <a:chOff x="380880" y="4332240"/>
            <a:chExt cx="9372600" cy="2136240"/>
          </a:xfrm>
        </p:grpSpPr>
        <p:sp>
          <p:nvSpPr>
            <p:cNvPr id="115" name=""/>
            <p:cNvSpPr/>
            <p:nvPr/>
          </p:nvSpPr>
          <p:spPr>
            <a:xfrm flipV="1">
              <a:off x="762120" y="464796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4332240"/>
              <a:ext cx="9144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  <a:tab algn="l" pos="4800600"/>
                  <a:tab algn="l" pos="5257800"/>
                  <a:tab algn="l" pos="5715000"/>
                  <a:tab algn="l" pos="61722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 sunset,                  // object of type Tim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arrayOfTimes[ 5 ],       // array of Time object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*pointerToTime,          // pointer to a Time object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&amp;dinnerTime = sunset;    // reference to a Time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  <a:tab algn="l" pos="4800600"/>
                  <a:tab algn="l" pos="5257800"/>
                  <a:tab algn="l" pos="5715000"/>
                  <a:tab algn="l" pos="61722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  <a:tab algn="l" pos="4800600"/>
                  <a:tab algn="l" pos="5257800"/>
                  <a:tab algn="l" pos="5715000"/>
                  <a:tab algn="l" pos="61722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880" y="5551560"/>
              <a:ext cx="2133720" cy="916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 The class name becomes the new type specifie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2 Implementing a Time Abstract Data Type with a Class (IV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scope resolution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which class owns the member fun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lasses can have the same name for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for definition class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Type Class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FunctionName(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2 Implementing a Time Abstract Data Type with a Class (V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member function is defin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 resolution operator and class name are not neede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a function outside a class does not change it be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encourage software r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ance allows new classes to be derived from old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following pro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tructor initializes the data members to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s that the object is in a consistent state when it is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3733920" cy="63248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fee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Fig. 16.4: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time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Declaration of the Time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Methods are defined in time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Prevent multiple inclusion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header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#ifndef TIME_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#define TIME_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Time abstract data type (AD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Time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();         </a:t>
            </a:r>
            <a:r>
              <a:rPr b="1" lang="en-US" sz="1000" spc="-1" strike="noStrike">
                <a:solidFill>
                  <a:srgbClr val="339933"/>
                </a:solidFill>
                <a:latin typeface="Courier New"/>
              </a:rPr>
              <a:t>// constru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setTime(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int, int,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rintMilitary();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rintStandard(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priv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hour;     // 0 -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inute;   // 0 - 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second;   // 0 - 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#end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62520" y="152280"/>
            <a:ext cx="5029200" cy="6553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fed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Fig. 16.4: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time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Method definitions for Time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0" lang="en-US" sz="1200" spc="-1" strike="noStrike">
                <a:solidFill>
                  <a:srgbClr val="339933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0" lang="en-US" sz="1200" spc="-1" strike="noStrike">
                <a:solidFill>
                  <a:srgbClr val="339933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"time.h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Constructor initializes each data me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::Time() { hour = minute = second = 0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Set a new Time value using military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Time::setTime(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h,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,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= ( h &gt;= 0 &amp;&amp; h &lt; 24 ) ? h :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ute = ( m &gt;= 0 &amp;&amp; m &lt; 60 ) ? m :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cond = ( s &gt;= 0 &amp;&amp; s &lt; 60 ) ? s :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Print Time in military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Time::printMilitary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t &lt;&lt; ( hour &lt; 10 ? "0" : "" ) &lt;&lt; hour &lt;&lt; ":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&lt; ( minute &lt; 10 ? "0" : "" ) &lt;&lt; minute &lt;&lt; ":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&lt;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 second &lt; 10 ? "0" : "" 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con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Print Time in standard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Time::printStandar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cout &lt;&lt;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( ( hour == 0 || hour == 12 ) ? 12 : hour%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&lt;&lt;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":"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&lt;&lt;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( minute &lt; 10 ? "0" : "" )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&lt;&lt;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minu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&lt;&lt;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":"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&lt;&lt;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( second &lt; 10 ? "0" : "" )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&lt;&lt;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seco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&lt;&lt;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( hour &lt; 12 ? " AM" : " PM" 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1920" y="96840"/>
            <a:ext cx="6248520" cy="6532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fed6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Fig. 16.4: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fig16_04.cpp</a:t>
            </a: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Driver for Time1 class - Compile with time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0" lang="en-US" sz="1200" spc="-1" strike="noStrike">
                <a:solidFill>
                  <a:srgbClr val="339933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using</a:t>
            </a:r>
            <a:r>
              <a:rPr b="0" lang="en-US" sz="1200" spc="-1" strike="noStrike">
                <a:solidFill>
                  <a:srgbClr val="339933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using</a:t>
            </a:r>
            <a:r>
              <a:rPr b="0" lang="en-US" sz="1200" spc="-1" strike="noStrike">
                <a:solidFill>
                  <a:srgbClr val="339933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0" lang="en-US" sz="1200" spc="-1" strike="noStrike">
                <a:solidFill>
                  <a:srgbClr val="339933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"time.h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Time 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instantiate object t of class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co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"The initial military time is 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t.printMilitary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co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"\nThe initial standard time is 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t.printStandard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t.setTime( 13, 27, 6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co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"\n\nMilitary time after setTime is 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t.printMilitary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co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"\nStandard time after setTime is 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t.printStandard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t.setTime( 99, 99, 99 )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9933"/>
                </a:solidFill>
                <a:latin typeface="Courier New"/>
              </a:rPr>
              <a:t>// attempt invalid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cout 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"\n\nAfter attempting invalid settings: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"\nMilitary time: 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t.printMilitary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cout 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"\nStandard time: 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t.printStandard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cout 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end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76760" y="304560"/>
            <a:ext cx="24382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in(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create an object of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1  Print the initial (default)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2 Set and print the time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3 Attempt to set the time to an invalid hou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4  Print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4748040"/>
            <a:ext cx="3962520" cy="1919160"/>
          </a:xfrm>
          <a:prstGeom prst="rect">
            <a:avLst/>
          </a:prstGeom>
          <a:gradFill rotWithShape="0">
            <a:gsLst>
              <a:gs pos="0">
                <a:srgbClr val="ebebfe"/>
              </a:gs>
              <a:gs pos="50000">
                <a:srgbClr val="ccccff"/>
              </a:gs>
              <a:gs pos="100000">
                <a:srgbClr val="ebeb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ROGRAM 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initial military time is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initial standard time is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litary time after setTime is 13: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ndard time after setTime is 1:27:06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attempting invalid sett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litary time: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ndard time: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4T15:47:53Z</dcterms:created>
  <dc:creator>Llama</dc:creator>
  <dc:description/>
  <dc:language>en-US</dc:language>
  <cp:lastModifiedBy>teaching</cp:lastModifiedBy>
  <dcterms:modified xsi:type="dcterms:W3CDTF">2001-04-25T19:00:24Z</dcterms:modified>
  <cp:revision>1110</cp:revision>
  <dc:subject/>
  <dc:title>Classes and Data Abstraction </dc:title>
</cp:coreProperties>
</file>