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F003-F0DD-452D-B66A-FF81A5B88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19CD-F794-4AFC-BAED-474190052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C160-6D0E-4A45-8601-4DCEB8550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A445-5F04-49AD-938A-442E95F5E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423F-94E0-4475-911B-FB1ED4726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FA0D-15B9-4CBE-A9C1-00D8BD809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7A10-4B1E-4022-9583-4F47E649E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B104-983B-4217-8645-6E84D6E60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EDAD-1E1D-481B-BE06-872A06F3F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49A6-97EB-4A87-9880-94BE33AFB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24BC-C013-4C2E-A384-6B3DD2FF5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ADEE-E34D-447A-BDA7-4FCB924F2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B5F0-E60D-4E62-98C0-F12FA5830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380880"/>
            <a:ext cx="7467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7 - C++ Classes: Part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4479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(Constant) Object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riend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unction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riend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thi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42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7.2: fig17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a member initializer to initializ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ant of a built-in data typ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ddIncrement() { count += increme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497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Incr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ncrement::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increment( i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r for const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count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 = " &lt;&lt;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, increment = " &lt;&lt; increme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0" y="0"/>
            <a:ext cx="6780960" cy="3276720"/>
            <a:chOff x="0" y="0"/>
            <a:chExt cx="6780960" cy="3276720"/>
          </a:xfrm>
        </p:grpSpPr>
        <p:grpSp>
          <p:nvGrpSpPr>
            <p:cNvPr id="543" name=""/>
            <p:cNvGrpSpPr/>
            <p:nvPr/>
          </p:nvGrpSpPr>
          <p:grpSpPr>
            <a:xfrm>
              <a:off x="0" y="0"/>
              <a:ext cx="6780960" cy="252000"/>
              <a:chOff x="0" y="0"/>
              <a:chExt cx="6780960" cy="25200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 value( 10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252000"/>
              <a:ext cx="6780960" cy="252000"/>
              <a:chOff x="0" y="252000"/>
              <a:chExt cx="6780960" cy="25200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504000"/>
              <a:ext cx="6780960" cy="252000"/>
              <a:chOff x="0" y="504000"/>
              <a:chExt cx="6780960" cy="25200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incrementing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756000"/>
              <a:ext cx="6780960" cy="252000"/>
              <a:chOff x="0" y="756000"/>
              <a:chExt cx="6780960" cy="25200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1008000"/>
              <a:ext cx="6780960" cy="252000"/>
              <a:chOff x="0" y="1008000"/>
              <a:chExt cx="6780960" cy="25200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1260000"/>
              <a:ext cx="6780960" cy="252000"/>
              <a:chOff x="0" y="1260000"/>
              <a:chExt cx="6780960" cy="25200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3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1512360"/>
              <a:ext cx="6780960" cy="252000"/>
              <a:chOff x="0" y="1512360"/>
              <a:chExt cx="6780960" cy="25200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add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1764360"/>
              <a:ext cx="6780960" cy="252000"/>
              <a:chOff x="0" y="1764360"/>
              <a:chExt cx="6780960" cy="25200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After increment " &lt;&lt; j + 1 &lt;&lt; "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2016360"/>
              <a:ext cx="6780960" cy="252000"/>
              <a:chOff x="0" y="2016360"/>
              <a:chExt cx="6780960" cy="25200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2268360"/>
              <a:ext cx="6780960" cy="252000"/>
              <a:chOff x="0" y="2268360"/>
              <a:chExt cx="6780960" cy="25200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2520360"/>
              <a:ext cx="6780960" cy="252000"/>
              <a:chOff x="0" y="2520360"/>
              <a:chExt cx="6780960" cy="25200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2772720"/>
              <a:ext cx="6780960" cy="252000"/>
              <a:chOff x="0" y="2772720"/>
              <a:chExt cx="6780960" cy="25200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3024720"/>
              <a:ext cx="6780960" cy="252000"/>
              <a:chOff x="0" y="3024720"/>
              <a:chExt cx="6780960" cy="25200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0" y="358128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incrementing: count = 1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1: count = 1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2: count = 2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3: count = 2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unction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cce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re later) members of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 are not member function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outside of class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hip is granted, not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ymmetric (if B a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, A not necessarily a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transitive (if A a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B, B a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C, A not necessarily a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unction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e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fore function prototype in class that is giving friendshi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 int myFunction( int x 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in the class grant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iend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class grant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nting friendship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T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 class ClassTwo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ass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clare functio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58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7.5: fig17_05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s can access private members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63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63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 modify private data of Count be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64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X is declared as a friend function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65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egal: setX is a friend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65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66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66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66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67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67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instantia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Modify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0" y="0"/>
            <a:ext cx="6705000" cy="1980720"/>
            <a:chOff x="0" y="0"/>
            <a:chExt cx="6705000" cy="1980720"/>
          </a:xfrm>
        </p:grpSpPr>
        <p:grpSp>
          <p:nvGrpSpPr>
            <p:cNvPr id="681" name=""/>
            <p:cNvGrpSpPr/>
            <p:nvPr/>
          </p:nvGrpSpPr>
          <p:grpSpPr>
            <a:xfrm>
              <a:off x="0" y="0"/>
              <a:ext cx="6705000" cy="396000"/>
              <a:chOff x="0" y="0"/>
              <a:chExt cx="6705000" cy="3960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call to setX friend func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396000"/>
              <a:ext cx="6705000" cy="396000"/>
              <a:chOff x="0" y="396000"/>
              <a:chExt cx="6705000" cy="39600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X( counter, 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with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792360"/>
              <a:ext cx="6705000" cy="396360"/>
              <a:chOff x="0" y="792360"/>
              <a:chExt cx="6705000" cy="39636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1188720"/>
              <a:ext cx="6705000" cy="396000"/>
              <a:chOff x="0" y="1188720"/>
              <a:chExt cx="6705000" cy="39600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1584720"/>
              <a:ext cx="6705000" cy="396000"/>
              <a:chOff x="0" y="1584720"/>
              <a:chExt cx="6705000" cy="3960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5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"/>
          <p:cNvSpPr/>
          <p:nvPr/>
        </p:nvSpPr>
        <p:spPr>
          <a:xfrm>
            <a:off x="0" y="2362320"/>
            <a:ext cx="670572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call to setX friend function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revious program with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clared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9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7.6: fig17_0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friend/non-member functions cannot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vate data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74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ries to modify private data of Coun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ut cannot because it is not a friend of Cou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nnot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RROR: 'Count::x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nnotSetX( counter, 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notSetX is not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Fig07_06.cpp(22)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C2248: 'x' : cannot access private member decla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(15) : see declaration of '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cc3300"/>
                </a:solidFill>
                <a:latin typeface="Courier New"/>
                <a:ea typeface="Courier New"/>
              </a:rPr>
              <a:t>this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12952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urier New"/>
                <a:ea typeface="Courier New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objects to access their ow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part of the object it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 first argument on non-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call to the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ly reference member data and fun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clas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on-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s: type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Employe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*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pointer to a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cons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cons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Employe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*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pointer to an constan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this Pointer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returns a reference pointer to the same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{return *this;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functions can operate on tha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do not return references must be called 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1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16-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bas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9-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and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this Pointer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ference to an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.setHour(1).setMinute(2).setSecond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Hour(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th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ference to object), and expression be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Minute(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s reference, and be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Second(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s reference, and be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no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2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(Constant) Objects and const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give objects permissions they need, no m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that an object is not modif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attempt to modify the object is a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time noon( 12, 0, 0 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s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itializes it to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n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2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 (Constant) Objects and const Member Functions (II)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 requ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decla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not modify the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d in function prototype and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Type FunctionName(param1,param2…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Type FunctionName(param1,param2…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…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::getValue()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return privateDataMember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value of a data member, and is appropriately decla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/ Destructors cannot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need to initialize variables (therefore modifying th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6780960" cy="237600"/>
              <a:chOff x="0" y="0"/>
              <a:chExt cx="6780960" cy="237600"/>
            </a:xfrm>
          </p:grpSpPr>
          <p:sp>
            <p:nvSpPr>
              <p:cNvPr id="96" name=""/>
              <p:cNvSpPr/>
              <p:nvPr/>
            </p:nvSpPr>
            <p:spPr>
              <a:xfrm>
                <a:off x="0" y="0"/>
                <a:ext cx="6780960" cy="237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0"/>
                <a:ext cx="6780960" cy="2376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7.1: time5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0" y="237600"/>
              <a:ext cx="6780960" cy="220320"/>
              <a:chOff x="0" y="237600"/>
              <a:chExt cx="6780960" cy="220320"/>
            </a:xfrm>
          </p:grpSpPr>
          <p:sp>
            <p:nvSpPr>
              <p:cNvPr id="99" name=""/>
              <p:cNvSpPr/>
              <p:nvPr/>
            </p:nvSpPr>
            <p:spPr>
              <a:xfrm>
                <a:off x="0" y="23760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3760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0" y="458280"/>
              <a:ext cx="6780960" cy="220680"/>
              <a:chOff x="0" y="458280"/>
              <a:chExt cx="6780960" cy="220680"/>
            </a:xfrm>
          </p:grpSpPr>
          <p:sp>
            <p:nvSpPr>
              <p:cNvPr id="102" name=""/>
              <p:cNvSpPr/>
              <p:nvPr/>
            </p:nvSpPr>
            <p:spPr>
              <a:xfrm>
                <a:off x="0" y="45828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5828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0" y="678960"/>
              <a:ext cx="6780960" cy="220320"/>
              <a:chOff x="0" y="678960"/>
              <a:chExt cx="6780960" cy="220320"/>
            </a:xfrm>
          </p:grpSpPr>
          <p:sp>
            <p:nvSpPr>
              <p:cNvPr id="105" name=""/>
              <p:cNvSpPr/>
              <p:nvPr/>
            </p:nvSpPr>
            <p:spPr>
              <a:xfrm>
                <a:off x="0" y="67896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67896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0" y="899640"/>
              <a:ext cx="6780960" cy="220320"/>
              <a:chOff x="0" y="899640"/>
              <a:chExt cx="6780960" cy="2203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8996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8996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0" y="1120320"/>
              <a:ext cx="6780960" cy="220320"/>
              <a:chOff x="0" y="1120320"/>
              <a:chExt cx="6780960" cy="22032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11203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1203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0" y="1341000"/>
              <a:ext cx="6780960" cy="220680"/>
              <a:chOff x="0" y="1341000"/>
              <a:chExt cx="6780960" cy="22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134100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34100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1561680"/>
              <a:ext cx="6780960" cy="220320"/>
              <a:chOff x="0" y="1561680"/>
              <a:chExt cx="6780960" cy="22032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15616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5616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1782360"/>
              <a:ext cx="6780960" cy="220320"/>
              <a:chOff x="0" y="1782360"/>
              <a:chExt cx="6780960" cy="22032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178236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78236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2003040"/>
              <a:ext cx="6780960" cy="220320"/>
              <a:chOff x="0" y="2003040"/>
              <a:chExt cx="6780960" cy="22032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20030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030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2223720"/>
              <a:ext cx="6780960" cy="220320"/>
              <a:chOff x="0" y="2223720"/>
              <a:chExt cx="6780960" cy="22032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22237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2237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2444400"/>
              <a:ext cx="6780960" cy="220680"/>
              <a:chOff x="0" y="2444400"/>
              <a:chExt cx="6780960" cy="22068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244440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244440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2665080"/>
              <a:ext cx="6780960" cy="220320"/>
              <a:chOff x="0" y="2665080"/>
              <a:chExt cx="6780960" cy="22032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26650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26650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2885760"/>
              <a:ext cx="6780960" cy="220320"/>
              <a:chOff x="0" y="2885760"/>
              <a:chExt cx="6780960" cy="22032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288576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88576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3106440"/>
              <a:ext cx="6780960" cy="220320"/>
              <a:chOff x="0" y="3106440"/>
              <a:chExt cx="6780960" cy="22032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31064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31064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3327120"/>
              <a:ext cx="6780960" cy="220680"/>
              <a:chOff x="0" y="3327120"/>
              <a:chExt cx="6780960" cy="22068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332712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32712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3547800"/>
              <a:ext cx="6780960" cy="220320"/>
              <a:chOff x="0" y="3547800"/>
              <a:chExt cx="6780960" cy="22032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354780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54780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3768480"/>
              <a:ext cx="6780960" cy="220320"/>
              <a:chOff x="0" y="3768480"/>
              <a:chExt cx="6780960" cy="22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37684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37684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3989160"/>
              <a:ext cx="6780960" cy="220320"/>
              <a:chOff x="0" y="3989160"/>
              <a:chExt cx="6780960" cy="2203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398916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398916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4209840"/>
              <a:ext cx="6780960" cy="220680"/>
              <a:chOff x="0" y="4209840"/>
              <a:chExt cx="6780960" cy="2206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420984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420984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4430520"/>
              <a:ext cx="6780960" cy="220320"/>
              <a:chOff x="0" y="4430520"/>
              <a:chExt cx="6780960" cy="22032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44305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44305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4651200"/>
              <a:ext cx="6780960" cy="220320"/>
              <a:chOff x="0" y="4651200"/>
              <a:chExt cx="6780960" cy="22032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465120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465120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4871880"/>
              <a:ext cx="6780960" cy="220320"/>
              <a:chOff x="0" y="4871880"/>
              <a:chExt cx="6780960" cy="22032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48718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48718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5092560"/>
              <a:ext cx="6780960" cy="220680"/>
              <a:chOff x="0" y="5092560"/>
              <a:chExt cx="6780960" cy="22068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09256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09256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5313240"/>
              <a:ext cx="6780960" cy="220320"/>
              <a:chOff x="0" y="5313240"/>
              <a:chExt cx="6780960" cy="22032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53132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132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5533920"/>
              <a:ext cx="6780960" cy="220320"/>
              <a:chOff x="0" y="5533920"/>
              <a:chExt cx="6780960" cy="22032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55339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5339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5754600"/>
              <a:ext cx="6780960" cy="220320"/>
              <a:chOff x="0" y="5754600"/>
              <a:chExt cx="6780960" cy="22032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575460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75460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5975280"/>
              <a:ext cx="6780960" cy="220320"/>
              <a:chOff x="0" y="5975280"/>
              <a:chExt cx="6780960" cy="22032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59752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97528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6195960"/>
              <a:ext cx="6780960" cy="220680"/>
              <a:chOff x="0" y="6195960"/>
              <a:chExt cx="6780960" cy="22068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619596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6195960"/>
                <a:ext cx="6780960" cy="220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6416640"/>
              <a:ext cx="6780960" cy="220320"/>
              <a:chOff x="0" y="6416640"/>
              <a:chExt cx="6780960" cy="22032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64166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641664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6637320"/>
              <a:ext cx="6780960" cy="220320"/>
              <a:chOff x="0" y="6637320"/>
              <a:chExt cx="6780960" cy="22032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66373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6637320"/>
                <a:ext cx="6780960" cy="2203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ource C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9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7.1: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1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econd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our = ( h &gt;= 0 &amp;&amp; h &lt; 24 )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minute = ( m &gt;= 0 &amp;&amp; m &lt; 60 ) ? m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7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cond = ( s &gt;= 0 &amp;&amp; s &lt; 60 )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 Purposely leave 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keyword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89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be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12 ) ? 12 : hour % 12 )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362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efee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efee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Attempt to use non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368" name=""/>
            <p:cNvGrpSpPr/>
            <p:nvPr/>
          </p:nvGrpSpPr>
          <p:grpSpPr>
            <a:xfrm>
              <a:off x="0" y="0"/>
              <a:ext cx="6780960" cy="193680"/>
              <a:chOff x="0" y="0"/>
              <a:chExt cx="6780960" cy="19368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7.1: fig17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193680"/>
              <a:ext cx="6780960" cy="193680"/>
              <a:chOff x="0" y="193680"/>
              <a:chExt cx="6780960" cy="19368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ttempting to access a const objec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387720"/>
              <a:ext cx="6780960" cy="194040"/>
              <a:chOff x="0" y="387720"/>
              <a:chExt cx="6780960" cy="19404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member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581760"/>
              <a:ext cx="6780960" cy="193680"/>
              <a:chOff x="0" y="581760"/>
              <a:chExt cx="6780960" cy="19368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775800"/>
              <a:ext cx="6780960" cy="193680"/>
              <a:chOff x="0" y="775800"/>
              <a:chExt cx="6780960" cy="19368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969480"/>
              <a:ext cx="6780960" cy="193680"/>
              <a:chOff x="0" y="969480"/>
              <a:chExt cx="6780960" cy="19368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1163520"/>
              <a:ext cx="6780960" cy="194040"/>
              <a:chOff x="0" y="1163520"/>
              <a:chExt cx="6780960" cy="19404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1357560"/>
              <a:ext cx="6780960" cy="193680"/>
              <a:chOff x="0" y="1357560"/>
              <a:chExt cx="6780960" cy="19368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wakeUp( 6, 45, 0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1551600"/>
              <a:ext cx="6780960" cy="193680"/>
              <a:chOff x="0" y="1551600"/>
              <a:chExt cx="6780960" cy="19368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nst Time noon( 12, 0,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1745640"/>
              <a:ext cx="6780960" cy="193680"/>
              <a:chOff x="0" y="1745640"/>
              <a:chExt cx="6780960" cy="1936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1939320"/>
              <a:ext cx="6780960" cy="194040"/>
              <a:chOff x="0" y="1939320"/>
              <a:chExt cx="6780960" cy="19404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MEMBER FUNCTION  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2133360"/>
              <a:ext cx="6780960" cy="193680"/>
              <a:chOff x="0" y="2133360"/>
              <a:chExt cx="6780960" cy="1936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setHour( 1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2327400"/>
              <a:ext cx="6780960" cy="193680"/>
              <a:chOff x="0" y="2327400"/>
              <a:chExt cx="6780960" cy="19368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2521440"/>
              <a:ext cx="6780960" cy="193680"/>
              <a:chOff x="0" y="2521440"/>
              <a:chExt cx="6780960" cy="19368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setHour( 12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2715480"/>
              <a:ext cx="6780960" cy="194040"/>
              <a:chOff x="0" y="2715480"/>
              <a:chExt cx="6780960" cy="19404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2909520"/>
              <a:ext cx="6780960" cy="193680"/>
              <a:chOff x="0" y="2909520"/>
              <a:chExt cx="6780960" cy="19368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getHour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3103200"/>
              <a:ext cx="6780960" cy="193680"/>
              <a:chOff x="0" y="3103200"/>
              <a:chExt cx="6780960" cy="19368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3297240"/>
              <a:ext cx="6780960" cy="193680"/>
              <a:chOff x="0" y="3297240"/>
              <a:chExt cx="6780960" cy="19368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getMinute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3491280"/>
              <a:ext cx="6780960" cy="193680"/>
              <a:chOff x="0" y="3491280"/>
              <a:chExt cx="6780960" cy="19368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Military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3685320"/>
              <a:ext cx="6780960" cy="194040"/>
              <a:chOff x="0" y="3685320"/>
              <a:chExt cx="6780960" cy="19404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Standard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3879360"/>
              <a:ext cx="6780960" cy="193680"/>
              <a:chOff x="0" y="3879360"/>
              <a:chExt cx="6780960" cy="19368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4073040"/>
              <a:ext cx="6780960" cy="193680"/>
              <a:chOff x="0" y="4073040"/>
              <a:chExt cx="6780960" cy="19368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4" name=""/>
          <p:cNvSpPr/>
          <p:nvPr/>
        </p:nvSpPr>
        <p:spPr>
          <a:xfrm>
            <a:off x="0" y="439272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fig07_01.cpp(14) : error C2662: 'setHour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7_01.cpp(20) : error C2662: 'printStandard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2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 (Constant) Objects and const Member Functions (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initializer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odified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data member can be initialized using member initializer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and references must be initialized this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member initializ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omma-separated list after the co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2590920"/>
            <a:ext cx="8534160" cy="13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rement::Increment( int c, int i )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increment(i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c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410080" y="29718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69000" y="3962520"/>
            <a:ext cx="399708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r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value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4:29:36Z</dcterms:created>
  <dc:creator>Deitel &amp; Associates, Inc.</dc:creator>
  <dc:description/>
  <dc:language>en-US</dc:language>
  <cp:lastModifiedBy>KD</cp:lastModifiedBy>
  <dcterms:modified xsi:type="dcterms:W3CDTF">2001-06-06T21:24:19Z</dcterms:modified>
  <cp:revision>529</cp:revision>
  <dc:subject/>
  <dc:title>PowerPoint Presentation</dc:title>
</cp:coreProperties>
</file>