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A57D-13B7-4FC7-A285-2A9AB4714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9E81-D014-422C-8C5C-B51FF9278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F647-3DA3-4E83-A036-ECAB0D5D6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DF1A-8991-453F-9C58-6662782D7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94AE-55E0-4620-A754-88F49748A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F829-0526-4B66-AF67-F67D52DE7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8E8D9-5D39-4471-B10D-8B1BAE36E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0FEE-ABB6-48C4-A7B1-0BB793D20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CBDB-4FFE-42AC-8220-0BC57FFA6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4DAF-1A20-4A92-B8AE-D2D327F59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F30C-8351-40E5-A6E4-0F9A73C12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D4E4-A220-4939-8857-57131488C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8240-4BDF-4079-8DFF-A4AF1971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8 - Operator Overloading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828800"/>
            <a:ext cx="739116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strictions on Operator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 Functions as Class Members vs. a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friend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Stream-Insertion and Stream-Extraction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Unary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Binary Ope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vantGarde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4  Operator Functions as Class Members vs. a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most operand must be an object (or reference to an object)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left operand of a different type, operator function must be a non-memb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n-member operator function must b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bers of that class are accessed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4  Operator Functions as Class Members vs. a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member overloaded operato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ugeInteger bigIntege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igInteger = integer + bigInteger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igInteger = biginteger + integer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5  Overloading Stream-Insertion and Stream-Extraction Operators</a:t>
            </a:r>
            <a:r>
              <a:rPr b="0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ed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have left operand of typ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ostrea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strea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a non-member function (left operand not an object of the 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a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frie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if it accesses private data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4" name="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8.3: fig1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4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3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06" name="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0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19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25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28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31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0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46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49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52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61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67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0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73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76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79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291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phone number in the form (123) 456-789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800) 555-12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phone number entered was: (800) 555-12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6  Overloading Unary Operators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asses unless absolutely necessa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violates the encapsulation of a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member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7  Overloading Binary Operators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verloaded bi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n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mber function,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n-member function,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String &amp;operator+=( const String &amp; 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z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quivalent t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.operator+=( z 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7  Overloading Binary Operators (II)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String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friend const String &amp;operator+=( String &amp;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const String &amp; 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z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equival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+=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10  Overloading ++ and --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-incrementing/decrementing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the  compiler distinguish between the tw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 versions overloaded same as any other prefix unary operator would be.  i.e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1.operator++()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+d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fix ver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ompiler sees postincrementing expression, such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the member-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1.operator++( 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te::operator++( int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Introduction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16 and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T’s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unction-call notation is cumbersome for certain kinds of classes, especially mathematical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In this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C++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perators to work with class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8.1 Introduction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raditional operators with user-defin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ightforward and natu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o extend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quires great c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n overloading misused, program difficult to under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+ has many examples of operator overlo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 : stream extraction operator, left-shift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: integer, floating-point, pointer arithmetic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2  Fundamentals of Operator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perator overloading to improve rea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excessive or inconsistent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function definition a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name is keywor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llowed by the symbol for the operator being overload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ator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ould be used to overload the addition operator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2  Fundamentals of Operator Overloading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with every class without explicit over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wise assign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is true for the address operator (&amp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 </a:t>
            </a:r>
            <a:br>
              <a:rPr sz="2800"/>
            </a:b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Most of C++’s operator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8d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52440" y="2874960"/>
          <a:ext cx="9542520" cy="396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874960"/>
                    <a:ext cx="954252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ach have unary and binary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8.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</a:t>
            </a: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 Restrictions on Operator Overloading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nly existing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overload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cannot change how two integers ar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18.4  Operator Functions as Class Members vs. as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  <a:ea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  <a:ea typeface="Times New Roman"/>
              </a:rPr>
              <a:t> Functions</a:t>
            </a: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member or non-memb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oading the assignment opera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&gt;,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or must be a member 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9T15:46:59Z</dcterms:created>
  <dc:creator>aftab bukhari</dc:creator>
  <dc:description/>
  <dc:language>en-US</dc:language>
  <cp:lastModifiedBy>KD</cp:lastModifiedBy>
  <dcterms:modified xsi:type="dcterms:W3CDTF">2001-06-06T21:20:02Z</dcterms:modified>
  <cp:revision>282</cp:revision>
  <dc:subject/>
  <dc:title>PowerPoint Presentation</dc:title>
</cp:coreProperties>
</file>