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50FD-F0E6-48C0-BE5F-79DC509E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117E-4977-4A12-89FD-1937C239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2322-21D7-416B-B75F-E3CC4774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C6A7-257A-4C4B-AF4D-B1C0D8E8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100-08F3-489F-AC02-454E4A6D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321C-910D-4601-8E03-D0819E8A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617E-9B8C-4C0D-8E9C-60FC0BD8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648-6C37-4561-A3D3-61649A8F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D85E-E656-4303-ADF7-845D52EA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C36E-CD16-4D58-829B-CE32D92E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CCF-A30E-4C1A-88FE-BC318622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2F2F-6573-4479-9297-ABF8B5CE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E01C-3C12-4B38-B8EC-B73FE5704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43600" y="1600200"/>
            <a:ext cx="2514600" cy="1573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cc33"/>
                </a:solidFill>
                <a:latin typeface="Courier New"/>
              </a:rPr>
              <a:t>/* Function definition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square( int y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y * 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4952880" cy="4832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square( int );   </a:t>
            </a:r>
            <a:r>
              <a:rPr b="1" lang="en-US" sz="1200" spc="-1" strike="noStrike">
                <a:solidFill>
                  <a:srgbClr val="33cc33"/>
                </a:solidFill>
                <a:latin typeface="Courier New"/>
              </a:rPr>
              <a:t>/* function prototype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 x = 1; x &lt;= 1; x++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 "%d  ", square( x )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 "\n"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1847880"/>
            <a:ext cx="2514600" cy="1573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cc33"/>
                </a:solidFill>
                <a:latin typeface="Courier New"/>
              </a:rPr>
              <a:t>/* Function definition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int square( int y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y * 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4953240" cy="4832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square( int );   </a:t>
            </a:r>
            <a:r>
              <a:rPr b="1" lang="en-US" sz="1200" spc="-1" strike="noStrike">
                <a:solidFill>
                  <a:srgbClr val="33cc33"/>
                </a:solidFill>
                <a:latin typeface="Courier New"/>
              </a:rPr>
              <a:t>/* function prototype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 x = 1; x &lt;= 1; x++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 "%d  ", square( x )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 "\n"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762120"/>
            <a:ext cx="4952880" cy="4832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square( int );   </a:t>
            </a:r>
            <a:r>
              <a:rPr b="1" lang="en-US" sz="1200" spc="-1" strike="noStrike">
                <a:solidFill>
                  <a:srgbClr val="33cc33"/>
                </a:solidFill>
                <a:latin typeface="Courier New"/>
              </a:rPr>
              <a:t>/* function prototype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int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 x = 1; x &lt;= 1; x++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 "%d  ", square( x )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 "\n"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14400"/>
            <a:ext cx="4952880" cy="4832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square( int );   </a:t>
            </a:r>
            <a:r>
              <a:rPr b="1" lang="en-US" sz="1200" spc="-1" strike="noStrike">
                <a:solidFill>
                  <a:srgbClr val="33cc33"/>
                </a:solidFill>
                <a:latin typeface="Courier New"/>
              </a:rPr>
              <a:t>/* function prototype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x = 1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 &lt;= 1; x++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 "%d  ", square( x )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 "\n"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066680"/>
            <a:ext cx="4953240" cy="4832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square( int );   </a:t>
            </a:r>
            <a:r>
              <a:rPr b="1" lang="en-US" sz="1200" spc="-1" strike="noStrike">
                <a:solidFill>
                  <a:srgbClr val="33cc33"/>
                </a:solidFill>
                <a:latin typeface="Courier New"/>
              </a:rPr>
              <a:t>/* function prototype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 x = 1;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x &lt;= 1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++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 "%d  ", square( x )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 "\n"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219320"/>
            <a:ext cx="4952880" cy="4832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square( int );   </a:t>
            </a:r>
            <a:r>
              <a:rPr b="1" lang="en-US" sz="1200" spc="-1" strike="noStrike">
                <a:solidFill>
                  <a:srgbClr val="33cc33"/>
                </a:solidFill>
                <a:latin typeface="Courier New"/>
              </a:rPr>
              <a:t>/* function prototype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 x = 1; x &lt;= 1; x++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 "%d  ",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square( x 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 "\n"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1371600"/>
            <a:ext cx="4952880" cy="4832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square( int );   </a:t>
            </a:r>
            <a:r>
              <a:rPr b="1" lang="en-US" sz="1200" spc="-1" strike="noStrike">
                <a:solidFill>
                  <a:srgbClr val="33cc33"/>
                </a:solidFill>
                <a:latin typeface="Courier New"/>
              </a:rPr>
              <a:t>/* function prototype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 x = 1; x &lt;= 1; x++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cc00cc"/>
                </a:solidFill>
                <a:latin typeface="Courier New"/>
              </a:rPr>
              <a:t>print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 "%d  ", </a:t>
            </a:r>
            <a:r>
              <a:rPr b="1" lang="en-US" sz="1400" spc="-1" strike="noStrike">
                <a:solidFill>
                  <a:srgbClr val="cc00cc"/>
                </a:solidFill>
                <a:latin typeface="Courier New"/>
              </a:rPr>
              <a:t>square( x 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 "\n"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2021040"/>
            <a:ext cx="2514600" cy="1573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cc33"/>
                </a:solidFill>
                <a:latin typeface="Courier New"/>
              </a:rPr>
              <a:t>/* Function definition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square( int y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cc00cc"/>
                </a:solidFill>
                <a:latin typeface="Courier New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y * 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2152800"/>
            <a:ext cx="2514600" cy="1573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cc33"/>
                </a:solidFill>
                <a:latin typeface="Courier New"/>
              </a:rPr>
              <a:t>/* Function definition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square( int y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y * 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1523880"/>
            <a:ext cx="4953240" cy="4832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square( int );   </a:t>
            </a:r>
            <a:r>
              <a:rPr b="1" lang="en-US" sz="1200" spc="-1" strike="noStrike">
                <a:solidFill>
                  <a:srgbClr val="33cc33"/>
                </a:solidFill>
                <a:latin typeface="Courier New"/>
              </a:rPr>
              <a:t>/* function prototype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 x = 1; x &lt;= 1; x++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print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"%d  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quare( x )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 "\n"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2305080"/>
            <a:ext cx="2514600" cy="1573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cc33"/>
                </a:solidFill>
                <a:latin typeface="Courier New"/>
              </a:rPr>
              <a:t>/* Function definition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square( int y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y * 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1676520"/>
            <a:ext cx="4952880" cy="4832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square( int );   </a:t>
            </a:r>
            <a:r>
              <a:rPr b="1" lang="en-US" sz="1200" spc="-1" strike="noStrike">
                <a:solidFill>
                  <a:srgbClr val="33cc33"/>
                </a:solidFill>
                <a:latin typeface="Courier New"/>
              </a:rPr>
              <a:t>/* function prototype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 x = 1; x &lt;= 1;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x+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 "%d  ", square( x )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 "\n"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828800"/>
            <a:ext cx="4952880" cy="4832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square( int );   </a:t>
            </a:r>
            <a:r>
              <a:rPr b="1" lang="en-US" sz="1200" spc="-1" strike="noStrike">
                <a:solidFill>
                  <a:srgbClr val="33cc33"/>
                </a:solidFill>
                <a:latin typeface="Courier New"/>
              </a:rPr>
              <a:t>/* function prototype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 x = 1;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x &lt;= 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 x++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 "%d  ", square( x )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 "\n"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1981080"/>
            <a:ext cx="4953240" cy="4832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square( int );   </a:t>
            </a:r>
            <a:r>
              <a:rPr b="1" lang="en-US" sz="1200" spc="-1" strike="noStrike">
                <a:solidFill>
                  <a:srgbClr val="33cc33"/>
                </a:solidFill>
                <a:latin typeface="Courier New"/>
              </a:rPr>
              <a:t>/* function prototype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 x = 1; x &lt;= 1; x++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 "%d  ", square( x )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printf( "\n"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2076480"/>
            <a:ext cx="4952880" cy="4832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square( int );   </a:t>
            </a:r>
            <a:r>
              <a:rPr b="1" lang="en-US" sz="1200" spc="-1" strike="noStrike">
                <a:solidFill>
                  <a:srgbClr val="33cc33"/>
                </a:solidFill>
                <a:latin typeface="Courier New"/>
              </a:rPr>
              <a:t>/* function prototype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 x = 1; x &lt;= 1; x++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 "%d  ", square( x )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 "\n"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380880"/>
            <a:ext cx="4572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81480" y="-14400"/>
            <a:ext cx="4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533520"/>
            <a:ext cx="4572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00800" y="685800"/>
            <a:ext cx="4572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838080"/>
            <a:ext cx="4572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96080" y="380880"/>
            <a:ext cx="4572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8720" y="533520"/>
            <a:ext cx="4572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01000" y="685800"/>
            <a:ext cx="4572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02080" y="449568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Courier New"/>
              </a:rPr>
              <a:t>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6094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9280" y="51055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4876920"/>
            <a:ext cx="4572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29600" y="35053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4876920"/>
            <a:ext cx="4572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30480" y="449568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Courier New"/>
              </a:rPr>
              <a:t>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543440" y="51055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9440" y="2286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458200" y="5029200"/>
            <a:ext cx="4572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5029200"/>
            <a:ext cx="4572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.200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1T20:41:27Z</dcterms:created>
  <dc:creator>Kivanc Dincer</dc:creator>
  <dc:description/>
  <dc:language>en-US</dc:language>
  <cp:lastModifiedBy>Kivanc Dincer</cp:lastModifiedBy>
  <dcterms:modified xsi:type="dcterms:W3CDTF">2001-03-31T21:39:41Z</dcterms:modified>
  <cp:revision>2</cp:revision>
  <dc:subject/>
  <dc:title>PowerPoint Presentation</dc:title>
</cp:coreProperties>
</file>