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907588" cy="6858000"/>
  <p:notesSz cx="6742113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428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20680" y="-36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699840" y="739800"/>
            <a:ext cx="5351400" cy="37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00"/>
                </a:solidFill>
                <a:latin typeface="Arial"/>
              </a:rPr>
              <a:t>Click to move the slide</a:t>
            </a:r>
            <a:endParaRPr b="1" lang="en-US" sz="5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38664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20680" y="9386640"/>
            <a:ext cx="2922840" cy="4935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752A963-B2CE-4528-BC12-BE7C783DF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ity compromised,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pid but a result of simplification of more complex propos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, for example, when A and B on the same home network and C out in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lps when A and B on wire network and C wire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al of servi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ires source spoof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eat with many strea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sible with weak authentication (Bake, HA cookies), C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ose familiar with TCP might wonder about the acknowledgm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ce per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, for example, when A and B on the same home network and C out in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lps when A and B on wire network and C wire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so serio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ing capacity easier to exhaust with PK protoc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complex, may not be easy to follow if not familiar with security protocols, but I want to show how the complexity is added step by step for good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less server or respon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bvious that correspondent should be stateless, sometimes mobile is the respon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elps anyway, and mobile more difficult to make state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ies imple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complex, may not be easy to follow if not familiar with security protocols, but I want to show how the complexity is added step by step for good reas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less server or respon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obvious that correspondent should be stateless, sometimes mobile is the respon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elps anyway, and mobile more difficult to make state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ifies imple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, for example, when A and B on the same home network and C out in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lps when A and B on wire network and C wire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k, for example, when A and B on the same home network and C out in the wor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helps when A and B on wire network and C wirele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e for strong and expensive PK protoc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rse for strong and expensive PK protoco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acks against existing protocols created by changing assumptions [Dieter ICICS01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mitations of analysis too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ypes of assumptions and requir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 types of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S attac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isting methods insufficient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and B are 128-bit IPv6 address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 spoofing is something we can live with, but have to be care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ding ACK omit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identiality compromi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700200" y="739800"/>
            <a:ext cx="5351400" cy="37051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00000" y="4694040"/>
            <a:ext cx="4943520" cy="4446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ity compromised, to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Internet nodes that accept 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36FE-06F1-49B3-BFED-C1F086519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54F5-AB7A-4772-B206-C68BFF3BB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A07A-A284-4949-B021-8880591FC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C70C-CE49-4492-A465-CD9FB9213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09D10-A958-4559-AE9D-DF677D0D3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AE08-D16D-44BB-9C08-8800449A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B9C7-5B5B-481F-9445-02A8BBEA9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FF3D-FC79-4B92-ACBA-71D099C5D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09FA-C023-4EFA-8DA6-51270FE31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CAF26-3148-4947-8F0A-E5A8E5CF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DB5E-4017-4CC5-ACD6-2BBFA016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799C-6001-4263-9234-C4DE6531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F9394-311B-406A-A23D-910A9B01E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90787-85F0-4DA1-B296-12278D9F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F49E5-3F2E-43F0-8425-A9CF72D9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A9053-8937-4B3B-816F-D6FC54E2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C833-A7C1-471C-BC2E-535D6AF1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7CB1-0213-4F63-A8C5-59F3B2662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3EBE-6C98-4C71-BC4D-85238EAB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88BE-35CB-4A46-B3CD-C1F59182E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160-E9EE-4792-B1CB-5CFB4909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F378-E03A-40DA-B02F-518E8C7B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7C88-831A-43D1-8B89-FAE60CF5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6F08-24CC-4113-9DDD-31DAFBAD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66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24852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F256-FB5F-444A-84C9-B21D90542D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1" lang="en-US" sz="5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98840" y="624492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C2DD-06AA-488A-81E4-A002343DF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Franklin Gothic Boo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Franklin Gothic Boo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1800" y="404640"/>
            <a:ext cx="84200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3300"/>
                </a:solidFill>
                <a:latin typeface="Arial"/>
              </a:rPr>
              <a:t>Mobile</a:t>
            </a:r>
            <a:r>
              <a:rPr b="1" lang="en-GB" sz="5400" spc="-1" strike="noStrike">
                <a:solidFill>
                  <a:srgbClr val="003300"/>
                </a:solidFill>
                <a:latin typeface="Arial"/>
              </a:rPr>
              <a:t> IPv6 Security</a:t>
            </a:r>
            <a:endParaRPr b="1" lang="en-US" sz="5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04520" y="1874520"/>
            <a:ext cx="8420040" cy="38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crosoft Security Worksho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5 November 2002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Tuomas Aura, Michael Roe, Greg O’Shea</a:t>
            </a:r>
            <a:br>
              <a:rPr sz="3200"/>
            </a:b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{tuomaura,mroe,gregos}@microsoft.com </a:t>
            </a:r>
            <a:br>
              <a:rPr sz="2400"/>
            </a:b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(Microsoft Research, UK)</a:t>
            </a:r>
            <a:br>
              <a:rPr sz="2400"/>
            </a:br>
            <a:r>
              <a:rPr b="1" lang="en-GB" sz="3200" spc="-1" strike="noStrike">
                <a:solidFill>
                  <a:srgbClr val="009900"/>
                </a:solidFill>
                <a:latin typeface="Arial"/>
              </a:rPr>
              <a:t>Jari Arkko </a:t>
            </a:r>
            <a:br>
              <a:rPr sz="3200"/>
            </a:br>
            <a:r>
              <a:rPr b="1" lang="en-GB" sz="2400" spc="-1" strike="noStrike">
                <a:solidFill>
                  <a:srgbClr val="009900"/>
                </a:solidFill>
                <a:latin typeface="Arial"/>
              </a:rPr>
              <a:t>(Ericsson Research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92160" y="4653000"/>
            <a:ext cx="84200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1CEA-0182-4FB3-A179-6C0AC8502D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959360" y="1887480"/>
            <a:ext cx="2298600" cy="2835360"/>
          </a:xfrm>
          <a:custGeom>
            <a:avLst/>
            <a:gdLst/>
            <a:ahLst/>
            <a:rect l="l" t="t" r="r" b="b"/>
            <a:pathLst>
              <a:path w="1448" h="1786">
                <a:moveTo>
                  <a:pt x="0" y="1786"/>
                </a:moveTo>
                <a:cubicBezTo>
                  <a:pt x="55" y="1571"/>
                  <a:pt x="91" y="796"/>
                  <a:pt x="332" y="498"/>
                </a:cubicBezTo>
                <a:cubicBezTo>
                  <a:pt x="573" y="200"/>
                  <a:pt x="1216" y="104"/>
                  <a:pt x="1448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49600" y="1959120"/>
            <a:ext cx="2279520" cy="2825640"/>
          </a:xfrm>
          <a:custGeom>
            <a:avLst/>
            <a:gdLst/>
            <a:ahLst/>
            <a:rect l="l" t="t" r="r" b="b"/>
            <a:pathLst>
              <a:path w="1436" h="1780">
                <a:moveTo>
                  <a:pt x="1436" y="1780"/>
                </a:moveTo>
                <a:cubicBezTo>
                  <a:pt x="1383" y="1570"/>
                  <a:pt x="1355" y="795"/>
                  <a:pt x="1116" y="498"/>
                </a:cubicBezTo>
                <a:cubicBezTo>
                  <a:pt x="877" y="201"/>
                  <a:pt x="232" y="104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13408800">
            <a:off x="1784520" y="3039840"/>
            <a:ext cx="3520800" cy="576000"/>
          </a:xfrm>
          <a:prstGeom prst="rightArrow">
            <a:avLst>
              <a:gd name="adj1" fmla="val 54028"/>
              <a:gd name="adj2" fmla="val 5187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rot="8191200">
            <a:off x="4592160" y="3039840"/>
            <a:ext cx="3521160" cy="576000"/>
          </a:xfrm>
          <a:prstGeom prst="rightArrow">
            <a:avLst>
              <a:gd name="adj1" fmla="val 54028"/>
              <a:gd name="adj2" fmla="val 518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92520" y="4192560"/>
            <a:ext cx="712800" cy="530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375840"/>
            <a:ext cx="84200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Man-in-the-Middle Attack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96880" y="139860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57960" y="1311120"/>
            <a:ext cx="1152720" cy="64800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376880" y="4479840"/>
            <a:ext cx="1152360" cy="647640"/>
          </a:xfrm>
          <a:prstGeom prst="ellipse">
            <a:avLst/>
          </a:prstGeom>
          <a:solidFill>
            <a:srgbClr val="ff66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94200" y="1501920"/>
            <a:ext cx="156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alse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9240" y="447984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98320" y="5441760"/>
            <a:ext cx="842040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bserve and modify dat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00560" y="1501920"/>
            <a:ext cx="168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alse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668840" y="4191120"/>
            <a:ext cx="547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094200" y="1959120"/>
            <a:ext cx="157464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 is B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'm a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200560" y="1959120"/>
            <a:ext cx="158436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 is A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'm a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1911-7BAC-4ED8-85DE-6B1CBD4D67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42680" y="333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BU Authentication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42680" y="147636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obvious answer: 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PKI </a:t>
            </a:r>
            <a:r>
              <a:rPr b="1" lang="fi-FI" sz="3200" spc="-1" strike="noStrike">
                <a:solidFill>
                  <a:srgbClr val="008000"/>
                </a:solidFill>
                <a:latin typeface="Arial"/>
                <a:ea typeface="宋体"/>
              </a:rPr>
              <a:t>+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  <a:ea typeface="宋体"/>
              </a:rPr>
              <a:t> IPSec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global PK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ould IPSec authenticate the home address or the care-of addres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bvious answer is the home addr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ter, we will see that both must be involv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E09E-EB65-43B6-A8C0-BD24D608267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42680" y="414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Creating trust from nothing?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42680" y="1557000"/>
            <a:ext cx="842004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authenticate between any two IPv6 nodes, without adding infrastructur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IP-layer infrastructure available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Pv6 address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uting infrastructur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ress-based CAM  [O'Shea,Roe2001]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ting-based “weak” authent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4DFB-E10B-4D7A-B3BC-AA108482BA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 flipV="1">
            <a:off x="4737240" y="2778120"/>
            <a:ext cx="2160360" cy="194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952880" y="2637000"/>
            <a:ext cx="2592360" cy="23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39760" y="2108160"/>
            <a:ext cx="5832720" cy="2370240"/>
          </a:xfrm>
          <a:custGeom>
            <a:avLst/>
            <a:gdLst/>
            <a:ahLst/>
            <a:rect l="l" t="t" r="r" b="b"/>
            <a:pathLst>
              <a:path w="3674" h="1493">
                <a:moveTo>
                  <a:pt x="3674" y="29"/>
                </a:moveTo>
                <a:cubicBezTo>
                  <a:pt x="3121" y="65"/>
                  <a:pt x="710" y="0"/>
                  <a:pt x="355" y="244"/>
                </a:cubicBezTo>
                <a:cubicBezTo>
                  <a:pt x="0" y="488"/>
                  <a:pt x="1298" y="1233"/>
                  <a:pt x="1546" y="14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42680" y="404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BU Authentication – v.1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42680" y="5468760"/>
            <a:ext cx="8420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d a key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in plaintex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96880" y="190188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29600" y="190188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376880" y="446580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29240" y="4465800"/>
            <a:ext cx="197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1600" y="1901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05600" y="1382760"/>
            <a:ext cx="34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rot="2618400">
            <a:off x="2334960" y="3238200"/>
            <a:ext cx="2041560" cy="71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28880" y="1741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64160" y="29718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602400" y="3500280"/>
            <a:ext cx="33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U, h (K, B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89520" y="232092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45240" y="251460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5045-88C6-4E12-8119-294728D4ECC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42680" y="2156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Is that good enough?</a:t>
            </a: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42680" y="158760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 K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onl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authenticate BU from mobile to correspondent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for anything el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weak authentication, CAM, and other protocols discourage lying about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who you a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ill possible to lie about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where you ar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7200-DA74-4B59-A611-052F0227E1D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2680" y="2808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looding Attack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42680" y="5445000"/>
            <a:ext cx="842004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od target by redirecting data stre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642400" y="1760400"/>
            <a:ext cx="5327640" cy="576360"/>
          </a:xfrm>
          <a:prstGeom prst="rightArrow">
            <a:avLst>
              <a:gd name="adj1" fmla="val 49861"/>
              <a:gd name="adj2" fmla="val 12555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138400" y="2336760"/>
            <a:ext cx="5184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 rot="8191200">
            <a:off x="4935240" y="3185280"/>
            <a:ext cx="3521160" cy="576360"/>
          </a:xfrm>
          <a:prstGeom prst="rightArrow">
            <a:avLst>
              <a:gd name="adj1" fmla="val 54028"/>
              <a:gd name="adj2" fmla="val 5184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490760" y="1814400"/>
            <a:ext cx="1152360" cy="647640"/>
          </a:xfrm>
          <a:prstGeom prst="ellipse">
            <a:avLst/>
          </a:prstGeom>
          <a:solidFill>
            <a:srgbClr val="ff33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23120" y="178596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370400" y="454500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35280" y="2238480"/>
            <a:ext cx="190188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urce = 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= 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'm a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77880" y="27288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alse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67400" y="3722760"/>
            <a:ext cx="22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Unwanted video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97240" y="454500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189920" y="126684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bc.co.u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17880" y="1486080"/>
            <a:ext cx="25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Video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6560" y="129528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007E-F858-4ADE-8822-FE71766F49F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120760" y="1974960"/>
            <a:ext cx="5051520" cy="268200"/>
          </a:xfrm>
          <a:prstGeom prst="rightArrow">
            <a:avLst>
              <a:gd name="adj1" fmla="val 49861"/>
              <a:gd name="adj2" fmla="val 255841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42680" y="2808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looding Attack - ACKs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25040" y="5063760"/>
            <a:ext cx="8420040" cy="90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of TCP-like ACKs, one per windo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 TCP Reset will be sent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120760" y="1841400"/>
            <a:ext cx="518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 rot="8191200">
            <a:off x="4917600" y="3056760"/>
            <a:ext cx="3521160" cy="576360"/>
          </a:xfrm>
          <a:prstGeom prst="rightArrow">
            <a:avLst>
              <a:gd name="adj1" fmla="val 54028"/>
              <a:gd name="adj2" fmla="val 5184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473120" y="1685880"/>
            <a:ext cx="1152720" cy="647640"/>
          </a:xfrm>
          <a:prstGeom prst="ellipse">
            <a:avLst/>
          </a:prstGeom>
          <a:solidFill>
            <a:srgbClr val="ff33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305840" y="165744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52760" y="441648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24240" y="1384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alse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50120" y="3594240"/>
            <a:ext cx="22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Unwanted video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379600" y="441648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89920" y="126684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bc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19280" y="116676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654360" y="2109960"/>
            <a:ext cx="190188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urce = 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= 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1600" y="2600280"/>
            <a:ext cx="318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alse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cknowledg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5FB-4FEB-4B4B-8BAF-FDFEC36AEE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 flipV="1">
            <a:off x="4645080" y="2622600"/>
            <a:ext cx="2160360" cy="194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5311800" y="2685600"/>
            <a:ext cx="2592360" cy="230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39760" y="2108160"/>
            <a:ext cx="5832720" cy="2370240"/>
          </a:xfrm>
          <a:custGeom>
            <a:avLst/>
            <a:gdLst/>
            <a:ahLst/>
            <a:rect l="l" t="t" r="r" b="b"/>
            <a:pathLst>
              <a:path w="3674" h="1493">
                <a:moveTo>
                  <a:pt x="3674" y="29"/>
                </a:moveTo>
                <a:cubicBezTo>
                  <a:pt x="3121" y="65"/>
                  <a:pt x="710" y="0"/>
                  <a:pt x="355" y="244"/>
                </a:cubicBezTo>
                <a:cubicBezTo>
                  <a:pt x="0" y="488"/>
                  <a:pt x="1298" y="1233"/>
                  <a:pt x="1546" y="14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42680" y="404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BU Authentication – v.2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42680" y="5468760"/>
            <a:ext cx="8420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k C whether it wants to be 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96880" y="190188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376880" y="446580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856120" y="4465800"/>
            <a:ext cx="19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01600" y="1901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105600" y="1382760"/>
            <a:ext cx="34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rot="2618400">
            <a:off x="2334960" y="3238200"/>
            <a:ext cx="2041560" cy="71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728880" y="1741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a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K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19640" y="29718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40400" y="3957480"/>
            <a:ext cx="33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U, h (K0,K1,B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86280" y="222876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093160" y="25495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43600" y="3006720"/>
            <a:ext cx="16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b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311440" y="2198520"/>
            <a:ext cx="2592360" cy="23036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29600" y="190188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93F-FAB6-4F5D-A17A-11D43484C1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Is that good enough?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possible to lie,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information in BUs is tr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rder attacks against the authentication mechanisms –</a:t>
            </a:r>
            <a:br>
              <a:rPr sz="3200"/>
            </a:b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denial of service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3847-69F5-4ABE-9D73-B17F5F235B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 flipH="1">
            <a:off x="3728880" y="1938240"/>
            <a:ext cx="417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Exhausting State Storage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4948200" y="2160720"/>
            <a:ext cx="2381400" cy="2147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376880" y="4205160"/>
            <a:ext cx="1152360" cy="648000"/>
          </a:xfrm>
          <a:prstGeom prst="ellipse">
            <a:avLst/>
          </a:prstGeom>
          <a:solidFill>
            <a:srgbClr val="ff66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529240" y="4205160"/>
            <a:ext cx="197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105600" y="1122480"/>
            <a:ext cx="34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728880" y="14810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a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K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94360" y="2181240"/>
            <a:ext cx="13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34200" y="2746440"/>
            <a:ext cx="141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b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121600" y="2004840"/>
            <a:ext cx="0" cy="1740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329600" y="164160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407360" y="374796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49600" y="170964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2638440"/>
            <a:ext cx="190188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urce = 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= B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 is E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'm at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43040" y="4853160"/>
            <a:ext cx="811836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spondent will remember K0, K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od correspondent with false B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DFA0-3EA5-4A56-9CC8-01EF64C4DCD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Outline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bile IPv6, route optim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acks on mobile IPv6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prevent these att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re att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 improved protoc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3BE-977F-4E79-BF43-8B3B1C410C1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 flipV="1">
            <a:off x="4645080" y="2622600"/>
            <a:ext cx="2160360" cy="194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5311800" y="2685600"/>
            <a:ext cx="2592360" cy="230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039760" y="2108160"/>
            <a:ext cx="5832720" cy="2370240"/>
          </a:xfrm>
          <a:custGeom>
            <a:avLst/>
            <a:gdLst/>
            <a:ahLst/>
            <a:rect l="l" t="t" r="r" b="b"/>
            <a:pathLst>
              <a:path w="3674" h="1493">
                <a:moveTo>
                  <a:pt x="3674" y="29"/>
                </a:moveTo>
                <a:cubicBezTo>
                  <a:pt x="3121" y="65"/>
                  <a:pt x="710" y="0"/>
                  <a:pt x="355" y="244"/>
                </a:cubicBezTo>
                <a:cubicBezTo>
                  <a:pt x="0" y="488"/>
                  <a:pt x="1298" y="1233"/>
                  <a:pt x="1546" y="14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42680" y="404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BU Authentication – v.3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742680" y="5468760"/>
            <a:ext cx="8420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teless correspond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96880" y="190188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376880" y="446580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654520" y="4522680"/>
            <a:ext cx="19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01600" y="1901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608800" y="1363680"/>
            <a:ext cx="34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2618400">
            <a:off x="2334960" y="3238200"/>
            <a:ext cx="2041560" cy="718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224160" y="1741320"/>
            <a:ext cx="28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a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K0 = h (N, 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19640" y="29718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40400" y="3957480"/>
            <a:ext cx="33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U, h (K0,K1,B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75200" y="2198520"/>
            <a:ext cx="14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093160" y="25495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42000" y="3009960"/>
            <a:ext cx="29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b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K1 = h (N, 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311440" y="2198520"/>
            <a:ext cx="2592360" cy="230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29600" y="190188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358120" y="1908000"/>
            <a:ext cx="6922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29600" y="176040"/>
            <a:ext cx="241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eriodically changing n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8724960" y="1333440"/>
            <a:ext cx="465120" cy="650880"/>
          </a:xfrm>
          <a:prstGeom prst="line">
            <a:avLst/>
          </a:prstGeom>
          <a:ln w="63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72BE-D0E3-4DD9-85D0-6BEE55F4BD6A}" type="slidenum">
              <a:t>20</a:t>
            </a:fld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H="1" flipV="1">
            <a:off x="7902720" y="2198520"/>
            <a:ext cx="163440" cy="1446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038320" y="1757520"/>
            <a:ext cx="5832360" cy="2369880"/>
          </a:xfrm>
          <a:custGeom>
            <a:avLst/>
            <a:gdLst/>
            <a:ahLst/>
            <a:rect l="l" t="t" r="r" b="b"/>
            <a:pathLst>
              <a:path w="3674" h="1493">
                <a:moveTo>
                  <a:pt x="3674" y="29"/>
                </a:moveTo>
                <a:cubicBezTo>
                  <a:pt x="3121" y="65"/>
                  <a:pt x="710" y="0"/>
                  <a:pt x="355" y="244"/>
                </a:cubicBezTo>
                <a:cubicBezTo>
                  <a:pt x="0" y="488"/>
                  <a:pt x="1298" y="1233"/>
                  <a:pt x="1546" y="14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42680" y="-3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Reflection and amplification 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41240" y="5118120"/>
            <a:ext cx="84204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wo DDoS packets become 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P trace-back cannot find the attac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19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495440" y="155088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375080" y="411480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653080" y="4172040"/>
            <a:ext cx="197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0160" y="1550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07000" y="1012680"/>
            <a:ext cx="34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rot="2618400">
            <a:off x="2333520" y="2887560"/>
            <a:ext cx="204156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222720" y="1390680"/>
            <a:ext cx="28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a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K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8066160" y="2563920"/>
            <a:ext cx="10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889600" y="2335320"/>
            <a:ext cx="12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b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5310000" y="1847880"/>
            <a:ext cx="2592360" cy="2303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327800" y="155088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89800" y="3479760"/>
            <a:ext cx="1152720" cy="647640"/>
          </a:xfrm>
          <a:prstGeom prst="ellipse">
            <a:avLst/>
          </a:prstGeom>
          <a:solidFill>
            <a:srgbClr val="ff33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89800" y="4172040"/>
            <a:ext cx="193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DoS Att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932-3BC1-410A-B4E1-858ECD79378E}" type="slidenum">
              <a:t>21</a:t>
            </a:fld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 flipV="1">
            <a:off x="4645080" y="2622600"/>
            <a:ext cx="2160360" cy="194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5311800" y="2685600"/>
            <a:ext cx="2592360" cy="230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039760" y="2108160"/>
            <a:ext cx="5832720" cy="2370240"/>
          </a:xfrm>
          <a:custGeom>
            <a:avLst/>
            <a:gdLst/>
            <a:ahLst/>
            <a:rect l="l" t="t" r="r" b="b"/>
            <a:pathLst>
              <a:path w="3674" h="1493">
                <a:moveTo>
                  <a:pt x="3674" y="29"/>
                </a:moveTo>
                <a:cubicBezTo>
                  <a:pt x="3121" y="65"/>
                  <a:pt x="710" y="0"/>
                  <a:pt x="355" y="244"/>
                </a:cubicBezTo>
                <a:cubicBezTo>
                  <a:pt x="0" y="488"/>
                  <a:pt x="1298" y="1233"/>
                  <a:pt x="1546" y="14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43040" y="239400"/>
            <a:ext cx="880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BU Authentication – v.4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42680" y="5468760"/>
            <a:ext cx="8420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anced message flow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96880" y="190188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76880" y="446580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856120" y="4465800"/>
            <a:ext cx="19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1600" y="1901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05600" y="1382760"/>
            <a:ext cx="34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28880" y="1741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a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K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319640" y="29718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440400" y="3957480"/>
            <a:ext cx="33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U, h (K0,K1,B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93160" y="254952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0" y="3006720"/>
            <a:ext cx="12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b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K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5311440" y="2198520"/>
            <a:ext cx="2592360" cy="230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329600" y="190188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460600" y="2241720"/>
            <a:ext cx="4869000" cy="1993680"/>
          </a:xfrm>
          <a:custGeom>
            <a:avLst/>
            <a:gdLst/>
            <a:ahLst/>
            <a:rect l="l" t="t" r="r" b="b"/>
            <a:pathLst>
              <a:path w="3674" h="1493">
                <a:moveTo>
                  <a:pt x="3674" y="29"/>
                </a:moveTo>
                <a:cubicBezTo>
                  <a:pt x="3121" y="65"/>
                  <a:pt x="710" y="0"/>
                  <a:pt x="355" y="244"/>
                </a:cubicBezTo>
                <a:cubicBezTo>
                  <a:pt x="0" y="488"/>
                  <a:pt x="1298" y="1233"/>
                  <a:pt x="1546" y="14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rot="2618400">
            <a:off x="2460600" y="3103560"/>
            <a:ext cx="204156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ur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127400" y="2320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0381-078E-489D-AB55-C19336752D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 flipH="1">
            <a:off x="5785920" y="2778120"/>
            <a:ext cx="2838600" cy="2497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4645080" y="2622600"/>
            <a:ext cx="2160360" cy="194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311800" y="2685600"/>
            <a:ext cx="2592360" cy="230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039760" y="2108160"/>
            <a:ext cx="5832720" cy="2370240"/>
          </a:xfrm>
          <a:custGeom>
            <a:avLst/>
            <a:gdLst/>
            <a:ahLst/>
            <a:rect l="l" t="t" r="r" b="b"/>
            <a:pathLst>
              <a:path w="3674" h="1493">
                <a:moveTo>
                  <a:pt x="3674" y="29"/>
                </a:moveTo>
                <a:cubicBezTo>
                  <a:pt x="3121" y="65"/>
                  <a:pt x="710" y="0"/>
                  <a:pt x="355" y="244"/>
                </a:cubicBezTo>
                <a:cubicBezTo>
                  <a:pt x="0" y="488"/>
                  <a:pt x="1298" y="1233"/>
                  <a:pt x="1546" y="14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743040" y="239400"/>
            <a:ext cx="880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Current Mobile IPv6 Draft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15800" y="5468760"/>
            <a:ext cx="949032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turn Routability (RR) test for HoA and Co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96880" y="190188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376880" y="446580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5800" y="19018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05600" y="1382760"/>
            <a:ext cx="34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728880" y="1741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a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H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19640" y="29718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Co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602400" y="3822840"/>
            <a:ext cx="18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43600" y="3006720"/>
            <a:ext cx="14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b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C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5311440" y="2198520"/>
            <a:ext cx="2592360" cy="230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29600" y="190188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460600" y="2241720"/>
            <a:ext cx="4869000" cy="1993680"/>
          </a:xfrm>
          <a:custGeom>
            <a:avLst/>
            <a:gdLst/>
            <a:ahLst/>
            <a:rect l="l" t="t" r="r" b="b"/>
            <a:pathLst>
              <a:path w="3674" h="1493">
                <a:moveTo>
                  <a:pt x="3674" y="29"/>
                </a:moveTo>
                <a:cubicBezTo>
                  <a:pt x="3121" y="65"/>
                  <a:pt x="710" y="0"/>
                  <a:pt x="355" y="244"/>
                </a:cubicBezTo>
                <a:cubicBezTo>
                  <a:pt x="0" y="488"/>
                  <a:pt x="1298" y="1233"/>
                  <a:pt x="1546" y="1493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rot="2618400">
            <a:off x="2460600" y="3103560"/>
            <a:ext cx="2041560" cy="719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P 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27400" y="23209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Ho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02400" y="4656240"/>
            <a:ext cx="18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3A998-2423-42D2-8981-C86CDE968C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 flipV="1">
            <a:off x="4521240" y="3068640"/>
            <a:ext cx="2448000" cy="77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23920" y="1989000"/>
            <a:ext cx="4297680" cy="1727280"/>
          </a:xfrm>
          <a:custGeom>
            <a:avLst/>
            <a:gdLst/>
            <a:ahLst/>
            <a:rect l="l" t="t" r="r" b="b"/>
            <a:pathLst>
              <a:path w="2707" h="1088">
                <a:moveTo>
                  <a:pt x="2707" y="0"/>
                </a:moveTo>
                <a:cubicBezTo>
                  <a:pt x="1610" y="0"/>
                  <a:pt x="514" y="0"/>
                  <a:pt x="257" y="181"/>
                </a:cubicBezTo>
                <a:cubicBezTo>
                  <a:pt x="0" y="362"/>
                  <a:pt x="582" y="725"/>
                  <a:pt x="1165" y="108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04520" y="115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nnecessary BUs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5800" y="4653000"/>
            <a:ext cx="83869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unneled packets trigger BU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poofed packets to home address trigger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true but unnecessa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317600" y="177336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69240" y="249228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800520" y="3632040"/>
            <a:ext cx="1152360" cy="64800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320" y="1773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90840" y="1649520"/>
            <a:ext cx="190188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ource = 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=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024520" y="3716280"/>
            <a:ext cx="197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846760" y="1711440"/>
            <a:ext cx="1152360" cy="647640"/>
          </a:xfrm>
          <a:prstGeom prst="ellipse">
            <a:avLst/>
          </a:prstGeom>
          <a:solidFill>
            <a:srgbClr val="ff33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37080" y="1192320"/>
            <a:ext cx="19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865600" y="119232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poofed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2618400">
            <a:off x="2216160" y="2781000"/>
            <a:ext cx="1450800" cy="581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16520" y="3213000"/>
            <a:ext cx="288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unnecessary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5481-4BD3-412C-8D33-3159B1EBAFE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04520" y="115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nnecessary BUs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75800" y="1412640"/>
            <a:ext cx="83869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peat for Do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ainst a mobile or against any no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ack against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n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BU protoco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6600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blic-key protocols more vulnerab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ense: 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limit the amount of resources used for BU authentication, revert to non-optimized rout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D8B2-871E-48F4-93FF-BA2A0948EB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04520" y="146160"/>
            <a:ext cx="8420040" cy="14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Significance – for academics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31800" y="1341360"/>
            <a:ext cx="8856720" cy="464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New types of requirements, </a:t>
            </a:r>
            <a:br>
              <a:rPr sz="3200"/>
            </a:b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assumptions and attack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isting protocols not us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bility of formal methods and analysis tools is lim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New insights and design princi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ero configuration, zero user interac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no pop-ups, no user education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0F0B-34C4-4EB9-B060-018A6E3AF31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Arial"/>
              </a:rPr>
              <a:t>Significance – for everyone else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bile IPv6 is not the only way to do mobilit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ther approaches may suffer from the same types of proble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en if you aren’t using mobile IPv6, the new techniques may still be usefu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BE1-CA84-4689-853F-D9A6D7D395A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742680" y="329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Security Protocol Engineering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742680" y="1472760"/>
            <a:ext cx="8746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ifficult part: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threat analysis, security requirement analysi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un part: </a:t>
            </a:r>
            <a:r>
              <a:rPr b="1" lang="en-US" sz="3200" spc="-1" strike="noStrike">
                <a:solidFill>
                  <a:srgbClr val="00cc00"/>
                </a:solidFill>
                <a:latin typeface="Arial"/>
              </a:rPr>
              <a:t>protocol desig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ults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6600"/>
              </a:buClr>
              <a:buSzPct val="75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ocol specs, standard draf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6600"/>
              </a:buClr>
              <a:buSzPct val="75000"/>
              <a:buFont typeface="Arial"/>
              <a:buChar char="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analysis and design princip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D16B-2137-4925-8BF7-D13525FBAC7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04520" y="333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Summary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04520" y="1268280"/>
            <a:ext cx="8785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ze and solve new problems created by new technology (mobility) before it is deploy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urity was the blocking issue in Mobile IPv6 standardization in IETF – not any mo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mbing attacks (redirecting data to unwilling recipients) could destroy the Internet – the Return Routability Test has wider applic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9062-3B6F-45C2-9104-4F0D354985BC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 flipH="1">
            <a:off x="2649600" y="2239920"/>
            <a:ext cx="4897440" cy="576360"/>
          </a:xfrm>
          <a:prstGeom prst="rightArrow">
            <a:avLst>
              <a:gd name="adj1" fmla="val 49861"/>
              <a:gd name="adj2" fmla="val 11542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2680" y="3567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Internet Protocol (IPv6)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42680" y="3536640"/>
            <a:ext cx="842004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sent in IP packets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uted through the Intern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Source spoofing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possi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96880" y="216864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329600" y="216864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44880" y="1989000"/>
            <a:ext cx="259092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 = B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tination = 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421-1610-4AF8-AF17-422D5A1351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073240" y="2262240"/>
            <a:ext cx="2232000" cy="1896840"/>
          </a:xfrm>
          <a:custGeom>
            <a:avLst/>
            <a:gdLst/>
            <a:ahLst/>
            <a:rect l="l" t="t" r="r" b="b"/>
            <a:pathLst>
              <a:path w="1406" h="1195">
                <a:moveTo>
                  <a:pt x="0" y="0"/>
                </a:moveTo>
                <a:cubicBezTo>
                  <a:pt x="109" y="400"/>
                  <a:pt x="219" y="801"/>
                  <a:pt x="453" y="998"/>
                </a:cubicBezTo>
                <a:cubicBezTo>
                  <a:pt x="687" y="1195"/>
                  <a:pt x="1247" y="1149"/>
                  <a:pt x="1406" y="1179"/>
                </a:cubicBezTo>
              </a:path>
            </a:pathLst>
          </a:custGeom>
          <a:noFill/>
          <a:ln w="50760">
            <a:solidFill>
              <a:srgbClr val="000000"/>
            </a:solidFill>
            <a:prstDash val="dash"/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2680" y="40428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Mobility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2680" y="4997160"/>
            <a:ext cx="842004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communicate after mobil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ves home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96880" y="190188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329600" y="190188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06760" y="3817800"/>
            <a:ext cx="1152720" cy="64800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65680" y="3705120"/>
            <a:ext cx="19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1600" y="19018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05600" y="1382760"/>
            <a:ext cx="344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49600" y="1973160"/>
            <a:ext cx="4680000" cy="576360"/>
          </a:xfrm>
          <a:prstGeom prst="leftRightArrow">
            <a:avLst>
              <a:gd name="adj1" fmla="val 50000"/>
              <a:gd name="adj2" fmla="val 16164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56D8-EB91-4529-A728-67E1068983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60520" y="2276640"/>
            <a:ext cx="2112840" cy="1618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= A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= C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al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 = 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tination =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2852640" y="914400"/>
          <a:ext cx="4199040" cy="29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52640" y="914400"/>
                    <a:ext cx="4199040" cy="29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04520" y="43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3300"/>
                </a:solidFill>
                <a:latin typeface="Arial"/>
              </a:rPr>
              <a:t>Mobile IPv6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7080" y="4581000"/>
            <a:ext cx="8420400" cy="14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obile always uses the same address A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Home agen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forwards packe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ny address can become mob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109960" y="112860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15200" y="116064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43480" y="3368520"/>
            <a:ext cx="1152360" cy="64800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45240" y="549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00880" y="3348000"/>
            <a:ext cx="1973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2934000">
            <a:off x="3097800" y="2197800"/>
            <a:ext cx="1625400" cy="674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712800"/>
            <a:ext cx="1901880" cy="703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= 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=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14320" y="109044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837C-57E8-4367-861D-9917981519F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 rot="1859400">
            <a:off x="5990760" y="2421000"/>
            <a:ext cx="662040" cy="2631960"/>
          </a:xfrm>
          <a:prstGeom prst="upDownArrow">
            <a:avLst>
              <a:gd name="adj1" fmla="val 50000"/>
              <a:gd name="adj2" fmla="val 7914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42680" y="333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Route Optimization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1917720"/>
            <a:ext cx="4167360" cy="2898720"/>
          </a:xfrm>
          <a:custGeom>
            <a:avLst/>
            <a:gdLst/>
            <a:ahLst/>
            <a:rect l="l" t="t" r="r" b="b"/>
            <a:pathLst>
              <a:path w="2625" h="1826">
                <a:moveTo>
                  <a:pt x="2625" y="90"/>
                </a:moveTo>
                <a:cubicBezTo>
                  <a:pt x="2310" y="94"/>
                  <a:pt x="1162" y="0"/>
                  <a:pt x="736" y="114"/>
                </a:cubicBezTo>
                <a:cubicBezTo>
                  <a:pt x="310" y="228"/>
                  <a:pt x="0" y="489"/>
                  <a:pt x="68" y="774"/>
                </a:cubicBezTo>
                <a:cubicBezTo>
                  <a:pt x="136" y="1059"/>
                  <a:pt x="918" y="1607"/>
                  <a:pt x="1142" y="182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073240" y="177336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78480" y="180504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376880" y="466092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7960" y="1735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87560" y="5049720"/>
            <a:ext cx="197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lo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rot="2618400">
            <a:off x="2334960" y="3789360"/>
            <a:ext cx="2041560" cy="311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24680" y="3084480"/>
            <a:ext cx="190188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= B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= C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75440" y="4365720"/>
            <a:ext cx="193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Routing he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8513640" y="3936600"/>
            <a:ext cx="649440" cy="428760"/>
          </a:xfrm>
          <a:prstGeom prst="line">
            <a:avLst/>
          </a:prstGeom>
          <a:ln w="63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08520" y="11937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spond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2452680"/>
            <a:ext cx="1439640" cy="2208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14720" y="2779560"/>
            <a:ext cx="190188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= 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= 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'm a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87560" y="2387520"/>
            <a:ext cx="35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2. Binding Update (B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975440" y="1941480"/>
            <a:ext cx="193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3. following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p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25960" y="148428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1. first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73920" y="4545000"/>
            <a:ext cx="190152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= 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= B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45240" y="5840280"/>
            <a:ext cx="251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Home address</a:t>
            </a:r>
            <a:br>
              <a:rPr sz="2400"/>
            </a:b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o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650000" y="5411880"/>
            <a:ext cx="0" cy="428400"/>
          </a:xfrm>
          <a:prstGeom prst="line">
            <a:avLst/>
          </a:prstGeom>
          <a:ln w="63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CD1A-CE5E-4450-B05C-D6A2B13F18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42680" y="5569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Route Optimization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42680" y="1699920"/>
            <a:ext cx="8420040" cy="42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portant optimiz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 IPv6 node can be a correspondent,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y address can be mob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Binding Update (BU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fore or during commun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ten BU triggered when mobile receives a tunneled pack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E3C2-5AA9-4098-B786-CFAE6B86DA7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432160" y="2001960"/>
            <a:ext cx="4897440" cy="576000"/>
          </a:xfrm>
          <a:prstGeom prst="rightArrow">
            <a:avLst>
              <a:gd name="adj1" fmla="val 49861"/>
              <a:gd name="adj2" fmla="val 115492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592520" y="2452320"/>
            <a:ext cx="2737080" cy="2606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 rot="8191200">
            <a:off x="4941360" y="3301200"/>
            <a:ext cx="3521160" cy="576360"/>
          </a:xfrm>
          <a:prstGeom prst="rightArrow">
            <a:avLst>
              <a:gd name="adj1" fmla="val 54028"/>
              <a:gd name="adj2" fmla="val 5184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42680" y="33300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False Binding Updates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496880" y="193032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329600" y="190188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376880" y="4660920"/>
            <a:ext cx="1152360" cy="647640"/>
          </a:xfrm>
          <a:prstGeom prst="ellipse">
            <a:avLst/>
          </a:prstGeom>
          <a:solidFill>
            <a:srgbClr val="ff66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641760" y="3014640"/>
            <a:ext cx="190188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= 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= B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 is A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'm a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57240" y="3073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alse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23200" y="388620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tole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649600" y="1973160"/>
            <a:ext cx="4680000" cy="576360"/>
          </a:xfrm>
          <a:prstGeom prst="leftRightArrow">
            <a:avLst>
              <a:gd name="adj1" fmla="val 50000"/>
              <a:gd name="adj2" fmla="val 16164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403360" y="4660920"/>
            <a:ext cx="19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BAEC-20F6-47CC-8207-A2C26DC612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bfdb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 flipH="1" rot="8191200">
            <a:off x="4761360" y="3021840"/>
            <a:ext cx="3521160" cy="576360"/>
          </a:xfrm>
          <a:prstGeom prst="rightArrow">
            <a:avLst>
              <a:gd name="adj1" fmla="val 54028"/>
              <a:gd name="adj2" fmla="val 5184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poof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376880" y="1719360"/>
            <a:ext cx="2736720" cy="2606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 rot="8191200">
            <a:off x="4700160" y="2477160"/>
            <a:ext cx="3521160" cy="576000"/>
          </a:xfrm>
          <a:prstGeom prst="rightArrow">
            <a:avLst>
              <a:gd name="adj1" fmla="val 54028"/>
              <a:gd name="adj2" fmla="val 5187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42680" y="333360"/>
            <a:ext cx="84200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The Basic Attack</a:t>
            </a:r>
            <a:endParaRPr b="1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496880" y="1355760"/>
            <a:ext cx="115272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329600" y="1327320"/>
            <a:ext cx="1152360" cy="647640"/>
          </a:xfrm>
          <a:prstGeom prst="ellipse">
            <a:avLst/>
          </a:prstGeom>
          <a:solidFill>
            <a:srgbClr val="00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376880" y="4086360"/>
            <a:ext cx="1152360" cy="647640"/>
          </a:xfrm>
          <a:prstGeom prst="ellipse">
            <a:avLst/>
          </a:prstGeom>
          <a:solidFill>
            <a:srgbClr val="ff66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41760" y="1974960"/>
            <a:ext cx="1901880" cy="1313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= 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= B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 is A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'm at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505320" y="1546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False B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9012200">
            <a:off x="5563440" y="247104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Stolen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403360" y="4086360"/>
            <a:ext cx="19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ack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753240" y="3309840"/>
            <a:ext cx="190188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= C destination = B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is i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2680" y="4935240"/>
            <a:ext cx="8420040" cy="5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jack old connections or open new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54080" indent="-154080">
              <a:spcBef>
                <a:spcPts val="799"/>
              </a:spcBef>
              <a:buClr>
                <a:srgbClr val="006600"/>
              </a:buClr>
              <a:buFont typeface="Arial Unicode MS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, B and C can be any Internet nod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9E70-C345-4F26-94E4-619ED99EE4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07:59:00Z</dcterms:created>
  <dc:creator>Tuomas Aura</dc:creator>
  <dc:description/>
  <dc:language>en-US</dc:language>
  <cp:lastModifiedBy>Guest</cp:lastModifiedBy>
  <cp:lastPrinted>1999-07-28T03:27:23Z</cp:lastPrinted>
  <dcterms:modified xsi:type="dcterms:W3CDTF">2002-11-06T10:10:11Z</dcterms:modified>
  <cp:revision>277</cp:revision>
  <dc:subject/>
  <dc:title>Mobile IPv6 Security</dc:title>
</cp:coreProperties>
</file>