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907588" cy="6858000"/>
  <p:notesSz cx="6742113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428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20680" y="-36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699840" y="739800"/>
            <a:ext cx="5351400" cy="37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00"/>
                </a:solidFill>
                <a:latin typeface="Arial"/>
              </a:rPr>
              <a:t>Click to move the slide</a:t>
            </a:r>
            <a:endParaRPr b="1" lang="en-US" sz="5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00000" y="4694040"/>
            <a:ext cx="4943520" cy="4446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38664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20680" y="938664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BC03223-1D0B-4CBA-9F15-C680697F3A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700200" y="739800"/>
            <a:ext cx="5351400" cy="370512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00000" y="4694040"/>
            <a:ext cx="4943520" cy="4446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grity compromised, t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700200" y="739800"/>
            <a:ext cx="5351400" cy="370512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00000" y="4694040"/>
            <a:ext cx="4943520" cy="4446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pid but a result of simplification of more complex propos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, for example, when A and B on the same home network and C out in the wor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helps when A and B on wire network and C wirel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700200" y="739800"/>
            <a:ext cx="5351400" cy="370512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00000" y="4694040"/>
            <a:ext cx="4943520" cy="4446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ial of serv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ires source spoof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eat with many strea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with weak authentication (Bake, HA cookies), C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700200" y="739800"/>
            <a:ext cx="5351400" cy="370512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00000" y="4694040"/>
            <a:ext cx="4943520" cy="4446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se familiar with TCP might wonder about the acknowledg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once per wind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700200" y="739800"/>
            <a:ext cx="5351400" cy="370512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00000" y="4694040"/>
            <a:ext cx="4943520" cy="4446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, for example, when A and B on the same home network and C out in the wor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helps when A and B on wire network and C wirel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700200" y="739800"/>
            <a:ext cx="5351400" cy="370512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00000" y="4694040"/>
            <a:ext cx="4943520" cy="4446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not so serio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ing capacity easier to exhaust with PK protoco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700200" y="739800"/>
            <a:ext cx="5351400" cy="370512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00000" y="4694040"/>
            <a:ext cx="4943520" cy="4446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ting complex, may not be easy to follow if not familiar with security protocols, but I want to show how the complexity is added step by step for good reas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eless server or respond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obvious that correspondent should be stateless, sometimes mobile is the respond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helps anyway, and mobile more difficult to make statel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ies implemen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700200" y="739800"/>
            <a:ext cx="5351400" cy="370512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00000" y="4694040"/>
            <a:ext cx="4943520" cy="4446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ting complex, may not be easy to follow if not familiar with security protocols, but I want to show how the complexity is added step by step for good reas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eless server or respond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obvious that correspondent should be stateless, sometimes mobile is the respond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helps anyway, and mobile more difficult to make statel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ies implemen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700200" y="739800"/>
            <a:ext cx="5351400" cy="370512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00000" y="4694040"/>
            <a:ext cx="4943520" cy="4446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, for example, when A and B on the same home network and C out in the wor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helps when A and B on wire network and C wirel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700200" y="739800"/>
            <a:ext cx="5351400" cy="370512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00000" y="4694040"/>
            <a:ext cx="4943520" cy="4446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, for example, when A and B on the same home network and C out in the wor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helps when A and B on wire network and C wirel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700200" y="739800"/>
            <a:ext cx="5351400" cy="370512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00000" y="4694040"/>
            <a:ext cx="4943520" cy="4446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se for strong and expensive PK protoco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700200" y="739800"/>
            <a:ext cx="5351400" cy="370512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00000" y="4694040"/>
            <a:ext cx="4943520" cy="4446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se for strong and expensive PK protoco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700200" y="739800"/>
            <a:ext cx="5351400" cy="370512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00000" y="4694040"/>
            <a:ext cx="4943520" cy="4446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acks against existing protocols created by changing assumptions [Dieter ICICS01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ations of analysis too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types of assumptions and requi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types of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S atta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isting methods insufficient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700200" y="739800"/>
            <a:ext cx="5351400" cy="370512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00000" y="4694040"/>
            <a:ext cx="4943520" cy="4446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and B are 128-bit IPv6 addres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 spoofing is something we can live with, but have to be carefu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700200" y="739800"/>
            <a:ext cx="5351400" cy="370512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00000" y="4694040"/>
            <a:ext cx="4943520" cy="4446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ding ACK omit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700200" y="739800"/>
            <a:ext cx="5351400" cy="370512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00000" y="4694040"/>
            <a:ext cx="4943520" cy="4446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identiality compromi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700200" y="739800"/>
            <a:ext cx="5351400" cy="37051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00000" y="4694040"/>
            <a:ext cx="4943520" cy="4446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grity compromised, to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Internet nodes that accept B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0EBD-88B5-461C-9121-CB58B742D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2382-021C-4C9B-A73B-DB71E6EBF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44A2-88C6-4A15-AF9B-8C73C6E46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8978-C0C4-46B8-B4F9-3F1666842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BA5EB-651A-4968-A8ED-58819E5D1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F5CF3-9C9F-4A61-82D6-95BB0BA65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4C374-632E-4879-A4DA-3CD9CBAB7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04925-E82B-4F00-849F-A95BE8701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0576C-3B10-43FF-9F7F-FD416B552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FD4A7-4098-41C8-B2FE-E09C9134B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17247-0185-45E7-B3E0-ABD0050D3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1AD2-BEE5-41E3-B9C3-5601AE0B5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7D798-6DC0-450B-A196-F3058C5F1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94010-8939-4CB8-A050-A744C12B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05410-D1E4-42CD-9873-87BB78F14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B6CDB-4850-4279-8044-992EC7389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49A79-52C2-4DF9-8F20-3B1345E89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B9D8-5692-4849-9AB2-27F99C064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D3CA-E4AC-4ED8-92F8-9511DAD12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DAB0-2524-4B77-8767-C97362D0A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2807-12BB-4B31-A352-16D033348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2B46-7904-4528-A36E-8D6D3963F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B196-6A93-4FBB-937D-5E255FFD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4B96-0C23-48A8-8E68-BE3D9E4C7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bfdb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00"/>
              </a:buClr>
              <a:buFont typeface="Arial Unicode M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6600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71440" y="624852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8CDDA-DDCB-4195-9A22-0505A067C7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bfdb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1" lang="en-US" sz="5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E842C-716B-43BB-80D9-97A204DA6F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Franklin Gothic Book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bfdb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1800" y="404640"/>
            <a:ext cx="84200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3300"/>
                </a:solidFill>
                <a:latin typeface="Arial"/>
              </a:rPr>
              <a:t>Mobile</a:t>
            </a:r>
            <a:r>
              <a:rPr b="1" lang="en-GB" sz="5400" spc="-1" strike="noStrike">
                <a:solidFill>
                  <a:srgbClr val="003300"/>
                </a:solidFill>
                <a:latin typeface="Arial"/>
              </a:rPr>
              <a:t> IPv6 Security</a:t>
            </a:r>
            <a:endParaRPr b="1" lang="en-US" sz="5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704520" y="1874520"/>
            <a:ext cx="8420040" cy="38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crosoft Security Worksho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5 November 200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00"/>
                </a:solidFill>
                <a:latin typeface="Arial"/>
              </a:rPr>
              <a:t>Tuomas Aura, Michael Roe, Greg O’Shea</a:t>
            </a:r>
            <a:br>
              <a:rPr sz="3200"/>
            </a:br>
            <a:r>
              <a:rPr b="1" lang="en-GB" sz="2400" spc="-1" strike="noStrike">
                <a:solidFill>
                  <a:srgbClr val="009900"/>
                </a:solidFill>
                <a:latin typeface="Arial"/>
              </a:rPr>
              <a:t>{tuomaura,mroe,gregos}@microsoft.com </a:t>
            </a:r>
            <a:br>
              <a:rPr sz="2400"/>
            </a:br>
            <a:r>
              <a:rPr b="1" lang="en-GB" sz="2400" spc="-1" strike="noStrike">
                <a:solidFill>
                  <a:srgbClr val="009900"/>
                </a:solidFill>
                <a:latin typeface="Arial"/>
              </a:rPr>
              <a:t>(Microsoft Research, UK)</a:t>
            </a:r>
            <a:br>
              <a:rPr sz="2400"/>
            </a:br>
            <a:r>
              <a:rPr b="1" lang="en-GB" sz="3200" spc="-1" strike="noStrike">
                <a:solidFill>
                  <a:srgbClr val="009900"/>
                </a:solidFill>
                <a:latin typeface="Arial"/>
              </a:rPr>
              <a:t>Jari Arkko </a:t>
            </a:r>
            <a:br>
              <a:rPr sz="3200"/>
            </a:br>
            <a:r>
              <a:rPr b="1" lang="en-GB" sz="2400" spc="-1" strike="noStrike">
                <a:solidFill>
                  <a:srgbClr val="009900"/>
                </a:solidFill>
                <a:latin typeface="Arial"/>
              </a:rPr>
              <a:t>(Ericsson Research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92160" y="4653000"/>
            <a:ext cx="8420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20DD8-5526-44FF-A9B3-CA17A4F46D7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bfdb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4959360" y="1887480"/>
            <a:ext cx="2298600" cy="2835360"/>
          </a:xfrm>
          <a:custGeom>
            <a:avLst/>
            <a:gdLst/>
            <a:ahLst/>
            <a:rect l="l" t="t" r="r" b="b"/>
            <a:pathLst>
              <a:path w="1448" h="1786">
                <a:moveTo>
                  <a:pt x="0" y="1786"/>
                </a:moveTo>
                <a:cubicBezTo>
                  <a:pt x="55" y="1571"/>
                  <a:pt x="91" y="796"/>
                  <a:pt x="332" y="498"/>
                </a:cubicBezTo>
                <a:cubicBezTo>
                  <a:pt x="573" y="200"/>
                  <a:pt x="1216" y="104"/>
                  <a:pt x="1448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649600" y="1959120"/>
            <a:ext cx="2279520" cy="2825640"/>
          </a:xfrm>
          <a:custGeom>
            <a:avLst/>
            <a:gdLst/>
            <a:ahLst/>
            <a:rect l="l" t="t" r="r" b="b"/>
            <a:pathLst>
              <a:path w="1436" h="1780">
                <a:moveTo>
                  <a:pt x="1436" y="1780"/>
                </a:moveTo>
                <a:cubicBezTo>
                  <a:pt x="1383" y="1570"/>
                  <a:pt x="1355" y="795"/>
                  <a:pt x="1116" y="498"/>
                </a:cubicBezTo>
                <a:cubicBezTo>
                  <a:pt x="877" y="201"/>
                  <a:pt x="232" y="104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rot="13408800">
            <a:off x="1784520" y="3039840"/>
            <a:ext cx="3520800" cy="576000"/>
          </a:xfrm>
          <a:prstGeom prst="rightArrow">
            <a:avLst>
              <a:gd name="adj1" fmla="val 54028"/>
              <a:gd name="adj2" fmla="val 5187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 rot="8191200">
            <a:off x="4592160" y="3039840"/>
            <a:ext cx="3521160" cy="576000"/>
          </a:xfrm>
          <a:prstGeom prst="rightArrow">
            <a:avLst>
              <a:gd name="adj1" fmla="val 54028"/>
              <a:gd name="adj2" fmla="val 5187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92520" y="4192560"/>
            <a:ext cx="712800" cy="530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2680" y="375840"/>
            <a:ext cx="84200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Man-in-the-Middle Attack</a:t>
            </a:r>
            <a:endParaRPr b="1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496880" y="1398600"/>
            <a:ext cx="1152720" cy="647640"/>
          </a:xfrm>
          <a:prstGeom prst="ellipse">
            <a:avLst/>
          </a:prstGeom>
          <a:solidFill>
            <a:srgbClr val="00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257960" y="1311120"/>
            <a:ext cx="1152720" cy="648000"/>
          </a:xfrm>
          <a:prstGeom prst="ellipse">
            <a:avLst/>
          </a:prstGeom>
          <a:solidFill>
            <a:srgbClr val="00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376880" y="4479840"/>
            <a:ext cx="1152360" cy="647640"/>
          </a:xfrm>
          <a:prstGeom prst="ellipse">
            <a:avLst/>
          </a:prstGeom>
          <a:solidFill>
            <a:srgbClr val="ff66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94200" y="1501920"/>
            <a:ext cx="156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False B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89240" y="4479840"/>
            <a:ext cx="197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ac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98320" y="5441760"/>
            <a:ext cx="84204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00"/>
              </a:buClr>
              <a:buFont typeface="Arial Unicode M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serve and modify dat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00560" y="1501920"/>
            <a:ext cx="168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False B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668840" y="4191120"/>
            <a:ext cx="547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94200" y="1959120"/>
            <a:ext cx="1574640" cy="703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is is B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'm at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200560" y="1959120"/>
            <a:ext cx="1584360" cy="703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is is A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'm at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CA3E-B701-4EF1-B36B-415A7AC751B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bfdb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42680" y="33300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BU Authentication</a:t>
            </a:r>
            <a:endParaRPr b="1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42680" y="147636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 Unicode M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obvious answer:  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PKI </a:t>
            </a:r>
            <a:r>
              <a:rPr b="1" lang="fi-FI" sz="3200" spc="-1" strike="noStrike">
                <a:solidFill>
                  <a:srgbClr val="008000"/>
                </a:solidFill>
                <a:latin typeface="Arial"/>
                <a:ea typeface="宋体"/>
              </a:rPr>
              <a:t>+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  <a:ea typeface="宋体"/>
              </a:rPr>
              <a:t> IPSe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 Unicode M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 global PKI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 Unicode M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ould IPSec authenticate the home address or the care-of addres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obvious answer is the home addr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ter, we will see that both must be involv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2C97-6C1B-4DA2-AB61-DDD502E4F5D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bfdb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42680" y="41400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Creating trust from nothing?</a:t>
            </a:r>
            <a:endParaRPr b="1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42680" y="1557000"/>
            <a:ext cx="842004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 Unicode M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authenticate between any two IPv6 nodes, without adding infrastructur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 Unicode M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IP-layer infrastructure available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Pv6 addres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uting infrastruct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 Unicode M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ress-based CAM  [O'Shea,Roe2001]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 Unicode M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uting-based “weak” authentic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80D8-85D7-47BF-A486-DF592A92E4F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bfdb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 flipV="1">
            <a:off x="4737240" y="2778120"/>
            <a:ext cx="2160360" cy="1946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4952880" y="2637000"/>
            <a:ext cx="2592360" cy="23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39760" y="2108160"/>
            <a:ext cx="5832720" cy="2370240"/>
          </a:xfrm>
          <a:custGeom>
            <a:avLst/>
            <a:gdLst/>
            <a:ahLst/>
            <a:rect l="l" t="t" r="r" b="b"/>
            <a:pathLst>
              <a:path w="3674" h="1493">
                <a:moveTo>
                  <a:pt x="3674" y="29"/>
                </a:moveTo>
                <a:cubicBezTo>
                  <a:pt x="3121" y="65"/>
                  <a:pt x="710" y="0"/>
                  <a:pt x="355" y="244"/>
                </a:cubicBezTo>
                <a:cubicBezTo>
                  <a:pt x="0" y="488"/>
                  <a:pt x="1298" y="1233"/>
                  <a:pt x="1546" y="149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42680" y="4042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BU Authentication – v.1</a:t>
            </a:r>
            <a:endParaRPr b="1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42680" y="5468760"/>
            <a:ext cx="8420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006600"/>
              </a:buClr>
              <a:buFont typeface="Arial Unicode M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nd a key 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in plaintex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496880" y="1901880"/>
            <a:ext cx="1152720" cy="647640"/>
          </a:xfrm>
          <a:prstGeom prst="ellipse">
            <a:avLst/>
          </a:prstGeom>
          <a:solidFill>
            <a:srgbClr val="00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329600" y="1901880"/>
            <a:ext cx="1152360" cy="647640"/>
          </a:xfrm>
          <a:prstGeom prst="ellipse">
            <a:avLst/>
          </a:prstGeom>
          <a:solidFill>
            <a:srgbClr val="00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376880" y="4465800"/>
            <a:ext cx="1152360" cy="647640"/>
          </a:xfrm>
          <a:prstGeom prst="ellipse">
            <a:avLst/>
          </a:prstGeom>
          <a:solidFill>
            <a:srgbClr val="00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29240" y="4465800"/>
            <a:ext cx="1973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1600" y="19018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105600" y="1382760"/>
            <a:ext cx="344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espon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2618400">
            <a:off x="2334960" y="3238200"/>
            <a:ext cx="2041560" cy="718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ur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728880" y="17413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664160" y="29718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B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602400" y="3500280"/>
            <a:ext cx="33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BU, h (K, B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789520" y="2320920"/>
            <a:ext cx="14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re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545240" y="2514600"/>
            <a:ext cx="14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E8C0-138A-408C-A9BB-1E84AD0D39D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bfdb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42680" y="21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Is that good enough?</a:t>
            </a: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42680" y="15876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 Unicode M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K </a:t>
            </a:r>
            <a:r>
              <a:rPr b="1" lang="en-US" sz="3200" spc="-1" strike="noStrike">
                <a:solidFill>
                  <a:srgbClr val="00cc00"/>
                </a:solidFill>
                <a:latin typeface="Arial"/>
              </a:rPr>
              <a:t>onl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o authenticate BU from mobile to correspondent,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 for anything el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 Unicode M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weak authentication, CAM, and other protocols discourage lying about </a:t>
            </a:r>
            <a:r>
              <a:rPr b="1" lang="en-US" sz="3200" spc="-1" strike="noStrike">
                <a:solidFill>
                  <a:srgbClr val="00cc00"/>
                </a:solidFill>
                <a:latin typeface="Arial"/>
              </a:rPr>
              <a:t>who you a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 Unicode M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ill possible to lie about </a:t>
            </a:r>
            <a:r>
              <a:rPr b="1" lang="en-US" sz="3200" spc="-1" strike="noStrike">
                <a:solidFill>
                  <a:srgbClr val="00cc00"/>
                </a:solidFill>
                <a:latin typeface="Arial"/>
              </a:rPr>
              <a:t>where you ar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CBD2-89CB-40BF-A6D1-DA40F33CEA0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bfdb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42680" y="28080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Flooding Attack</a:t>
            </a:r>
            <a:endParaRPr b="1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42680" y="5445000"/>
            <a:ext cx="842004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 Unicode M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lood target by redirecting data strea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2642400" y="1760400"/>
            <a:ext cx="5327640" cy="576360"/>
          </a:xfrm>
          <a:prstGeom prst="rightArrow">
            <a:avLst>
              <a:gd name="adj1" fmla="val 49861"/>
              <a:gd name="adj2" fmla="val 125559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138400" y="2336760"/>
            <a:ext cx="5184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 rot="8191200">
            <a:off x="4935240" y="3185280"/>
            <a:ext cx="3521160" cy="576360"/>
          </a:xfrm>
          <a:prstGeom prst="rightArrow">
            <a:avLst>
              <a:gd name="adj1" fmla="val 54028"/>
              <a:gd name="adj2" fmla="val 51844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490760" y="1814400"/>
            <a:ext cx="1152360" cy="647640"/>
          </a:xfrm>
          <a:prstGeom prst="ellipse">
            <a:avLst/>
          </a:prstGeom>
          <a:solidFill>
            <a:srgbClr val="ff33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23120" y="1785960"/>
            <a:ext cx="1152720" cy="647640"/>
          </a:xfrm>
          <a:prstGeom prst="ellipse">
            <a:avLst/>
          </a:prstGeom>
          <a:solidFill>
            <a:srgbClr val="00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370400" y="4545000"/>
            <a:ext cx="1152360" cy="647640"/>
          </a:xfrm>
          <a:prstGeom prst="ellipse">
            <a:avLst/>
          </a:prstGeom>
          <a:solidFill>
            <a:srgbClr val="00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35280" y="2238480"/>
            <a:ext cx="1901880" cy="1313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ource = C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tination = B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'm at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77880" y="27288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False B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467400" y="3722760"/>
            <a:ext cx="22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Unwanted video st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397240" y="4545000"/>
            <a:ext cx="197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189920" y="1266840"/>
            <a:ext cx="197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bc.co.u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917880" y="1486080"/>
            <a:ext cx="254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Video st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36560" y="1295280"/>
            <a:ext cx="197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ac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C8DE-1823-4AF0-87CA-FF431561E81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bfdb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120760" y="1974960"/>
            <a:ext cx="5051520" cy="268200"/>
          </a:xfrm>
          <a:prstGeom prst="rightArrow">
            <a:avLst>
              <a:gd name="adj1" fmla="val 49861"/>
              <a:gd name="adj2" fmla="val 25584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42680" y="28080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Flooding Attack - ACKs</a:t>
            </a:r>
            <a:endParaRPr b="1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25040" y="5063760"/>
            <a:ext cx="842004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006600"/>
              </a:buClr>
              <a:buFont typeface="Arial Unicode M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oof TCP-like ACKs, one per windo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6600"/>
              </a:buClr>
              <a:buFont typeface="Arial Unicode M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 TCP Reset will be sent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120760" y="1841400"/>
            <a:ext cx="5185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 rot="8191200">
            <a:off x="4917600" y="3056760"/>
            <a:ext cx="3521160" cy="576360"/>
          </a:xfrm>
          <a:prstGeom prst="rightArrow">
            <a:avLst>
              <a:gd name="adj1" fmla="val 54028"/>
              <a:gd name="adj2" fmla="val 51844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473120" y="1685880"/>
            <a:ext cx="1152720" cy="647640"/>
          </a:xfrm>
          <a:prstGeom prst="ellipse">
            <a:avLst/>
          </a:prstGeom>
          <a:solidFill>
            <a:srgbClr val="ff33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305840" y="1657440"/>
            <a:ext cx="1152360" cy="647640"/>
          </a:xfrm>
          <a:prstGeom prst="ellipse">
            <a:avLst/>
          </a:prstGeom>
          <a:solidFill>
            <a:srgbClr val="00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352760" y="4416480"/>
            <a:ext cx="1152720" cy="647640"/>
          </a:xfrm>
          <a:prstGeom prst="ellipse">
            <a:avLst/>
          </a:prstGeom>
          <a:solidFill>
            <a:srgbClr val="00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24240" y="13842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False B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450120" y="3594240"/>
            <a:ext cx="22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Unwanted video st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379600" y="4416480"/>
            <a:ext cx="197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189920" y="1266840"/>
            <a:ext cx="197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bc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19280" y="1166760"/>
            <a:ext cx="197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ac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654360" y="2109960"/>
            <a:ext cx="1901880" cy="1313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ource = C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tination = B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1600" y="2600280"/>
            <a:ext cx="318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False</a:t>
            </a:r>
            <a:br>
              <a:rPr sz="2400"/>
            </a:b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acknowledg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BDC0-9B9E-4EC9-AFE2-55DD902576F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bfdb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 flipV="1">
            <a:off x="4645080" y="2622600"/>
            <a:ext cx="2160360" cy="1946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5311800" y="2685600"/>
            <a:ext cx="2592360" cy="230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39760" y="2108160"/>
            <a:ext cx="5832720" cy="2370240"/>
          </a:xfrm>
          <a:custGeom>
            <a:avLst/>
            <a:gdLst/>
            <a:ahLst/>
            <a:rect l="l" t="t" r="r" b="b"/>
            <a:pathLst>
              <a:path w="3674" h="1493">
                <a:moveTo>
                  <a:pt x="3674" y="29"/>
                </a:moveTo>
                <a:cubicBezTo>
                  <a:pt x="3121" y="65"/>
                  <a:pt x="710" y="0"/>
                  <a:pt x="355" y="244"/>
                </a:cubicBezTo>
                <a:cubicBezTo>
                  <a:pt x="0" y="488"/>
                  <a:pt x="1298" y="1233"/>
                  <a:pt x="1546" y="149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42680" y="4042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BU Authentication – v.2</a:t>
            </a:r>
            <a:endParaRPr b="1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42680" y="5468760"/>
            <a:ext cx="8420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006600"/>
              </a:buClr>
              <a:buFont typeface="Arial Unicode M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k C whether it wants to be 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496880" y="1901880"/>
            <a:ext cx="1152720" cy="647640"/>
          </a:xfrm>
          <a:prstGeom prst="ellipse">
            <a:avLst/>
          </a:prstGeom>
          <a:solidFill>
            <a:srgbClr val="00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376880" y="4465800"/>
            <a:ext cx="1152360" cy="647640"/>
          </a:xfrm>
          <a:prstGeom prst="ellipse">
            <a:avLst/>
          </a:prstGeom>
          <a:solidFill>
            <a:srgbClr val="00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856120" y="4465800"/>
            <a:ext cx="197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01600" y="19018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105600" y="1382760"/>
            <a:ext cx="344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espon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rot="2618400">
            <a:off x="2334960" y="3238200"/>
            <a:ext cx="2041560" cy="718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ur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728880" y="17413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a.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K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319640" y="29718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B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440400" y="3957480"/>
            <a:ext cx="33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BU, h (K0,K1,B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786280" y="2228760"/>
            <a:ext cx="14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re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093160" y="2549520"/>
            <a:ext cx="14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43600" y="3006720"/>
            <a:ext cx="16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b.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K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5311440" y="2198520"/>
            <a:ext cx="2592360" cy="230364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29600" y="1901880"/>
            <a:ext cx="1152360" cy="647640"/>
          </a:xfrm>
          <a:prstGeom prst="ellipse">
            <a:avLst/>
          </a:prstGeom>
          <a:solidFill>
            <a:srgbClr val="00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3957-0A7D-4CF6-B1AC-2F919615818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bfdb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Is that good enough?</a:t>
            </a:r>
            <a:endParaRPr b="1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 Unicode M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 possible to lie,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 information in BUs is tr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 Unicode M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rder attacks against the authentication mechanisms –</a:t>
            </a:r>
            <a:br>
              <a:rPr sz="3200"/>
            </a:br>
            <a:r>
              <a:rPr b="1" lang="en-US" sz="3200" spc="-1" strike="noStrike">
                <a:solidFill>
                  <a:srgbClr val="00cc00"/>
                </a:solidFill>
                <a:latin typeface="Arial"/>
              </a:rPr>
              <a:t>denial of service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C53F-6526-4B8F-97DE-BD2971A604A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bfdb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 flipH="1">
            <a:off x="3728880" y="1938240"/>
            <a:ext cx="417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42680" y="-3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Exhausting State Storage</a:t>
            </a:r>
            <a:endParaRPr b="1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4948200" y="2160720"/>
            <a:ext cx="2381400" cy="2147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376880" y="4205160"/>
            <a:ext cx="1152360" cy="648000"/>
          </a:xfrm>
          <a:prstGeom prst="ellipse">
            <a:avLst/>
          </a:prstGeom>
          <a:solidFill>
            <a:srgbClr val="ff66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529240" y="4205160"/>
            <a:ext cx="197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ac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105600" y="1122480"/>
            <a:ext cx="344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espon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728880" y="148104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a.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K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094360" y="2181240"/>
            <a:ext cx="13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B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134200" y="2746440"/>
            <a:ext cx="14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b.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K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121600" y="2004840"/>
            <a:ext cx="0" cy="1740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329600" y="1641600"/>
            <a:ext cx="1152360" cy="647640"/>
          </a:xfrm>
          <a:prstGeom prst="ellipse">
            <a:avLst/>
          </a:prstGeom>
          <a:solidFill>
            <a:srgbClr val="00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407360" y="3747960"/>
            <a:ext cx="14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l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649600" y="170964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l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952880" y="2638440"/>
            <a:ext cx="1901880" cy="1313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ource = 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tination = B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is is E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'm at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43040" y="4853160"/>
            <a:ext cx="8118360" cy="12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00"/>
              </a:buClr>
              <a:buFont typeface="Arial Unicode M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respondent will remember K0, K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00"/>
              </a:buClr>
              <a:buFont typeface="Arial Unicode M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lood correspondent with false B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6E49-267F-4BC3-AF27-376C241A257E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bfdb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Outline</a:t>
            </a:r>
            <a:endParaRPr b="1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bile IPv6, route optimiz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tacks on mobile IPv6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to prevent these attack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re attack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 improved protoco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7BDF-3E6D-44FC-9369-787BE5652128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bfdb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 flipV="1">
            <a:off x="4645080" y="2622600"/>
            <a:ext cx="2160360" cy="1946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5311800" y="2685600"/>
            <a:ext cx="2592360" cy="230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39760" y="2108160"/>
            <a:ext cx="5832720" cy="2370240"/>
          </a:xfrm>
          <a:custGeom>
            <a:avLst/>
            <a:gdLst/>
            <a:ahLst/>
            <a:rect l="l" t="t" r="r" b="b"/>
            <a:pathLst>
              <a:path w="3674" h="1493">
                <a:moveTo>
                  <a:pt x="3674" y="29"/>
                </a:moveTo>
                <a:cubicBezTo>
                  <a:pt x="3121" y="65"/>
                  <a:pt x="710" y="0"/>
                  <a:pt x="355" y="244"/>
                </a:cubicBezTo>
                <a:cubicBezTo>
                  <a:pt x="0" y="488"/>
                  <a:pt x="1298" y="1233"/>
                  <a:pt x="1546" y="149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42680" y="4042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BU Authentication – v.3</a:t>
            </a:r>
            <a:endParaRPr b="1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42680" y="5468760"/>
            <a:ext cx="8420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006600"/>
              </a:buClr>
              <a:buFont typeface="Arial Unicode M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teless correspond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496880" y="1901880"/>
            <a:ext cx="1152720" cy="647640"/>
          </a:xfrm>
          <a:prstGeom prst="ellipse">
            <a:avLst/>
          </a:prstGeom>
          <a:solidFill>
            <a:srgbClr val="00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376880" y="4465800"/>
            <a:ext cx="1152360" cy="647640"/>
          </a:xfrm>
          <a:prstGeom prst="ellipse">
            <a:avLst/>
          </a:prstGeom>
          <a:solidFill>
            <a:srgbClr val="00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654520" y="4522680"/>
            <a:ext cx="197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1600" y="19018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608800" y="1363680"/>
            <a:ext cx="344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espon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rot="2618400">
            <a:off x="2334960" y="3238200"/>
            <a:ext cx="2041560" cy="718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ur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224160" y="1741320"/>
            <a:ext cx="28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a.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K0 = h (N, 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319640" y="29718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B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440400" y="3957480"/>
            <a:ext cx="33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BU, h (K0,K1,B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875200" y="2198520"/>
            <a:ext cx="14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re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8093160" y="2549520"/>
            <a:ext cx="14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42000" y="3009960"/>
            <a:ext cx="29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b.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K1 = h (N, 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5311440" y="2198520"/>
            <a:ext cx="2592360" cy="230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329600" y="1901880"/>
            <a:ext cx="1152360" cy="647640"/>
          </a:xfrm>
          <a:prstGeom prst="ellipse">
            <a:avLst/>
          </a:prstGeom>
          <a:solidFill>
            <a:srgbClr val="00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358120" y="1908000"/>
            <a:ext cx="692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29600" y="176040"/>
            <a:ext cx="241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periodically changing n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8724960" y="1333440"/>
            <a:ext cx="465120" cy="650880"/>
          </a:xfrm>
          <a:prstGeom prst="line">
            <a:avLst/>
          </a:prstGeom>
          <a:ln w="63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A025-5FC9-4302-A20D-7CC2BB717D09}" type="slidenum">
              <a:t>20</a:t>
            </a:fld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bfdb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H="1" flipV="1">
            <a:off x="7902720" y="2198520"/>
            <a:ext cx="163440" cy="1446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038320" y="1757520"/>
            <a:ext cx="5832360" cy="2369880"/>
          </a:xfrm>
          <a:custGeom>
            <a:avLst/>
            <a:gdLst/>
            <a:ahLst/>
            <a:rect l="l" t="t" r="r" b="b"/>
            <a:pathLst>
              <a:path w="3674" h="1493">
                <a:moveTo>
                  <a:pt x="3674" y="29"/>
                </a:moveTo>
                <a:cubicBezTo>
                  <a:pt x="3121" y="65"/>
                  <a:pt x="710" y="0"/>
                  <a:pt x="355" y="244"/>
                </a:cubicBezTo>
                <a:cubicBezTo>
                  <a:pt x="0" y="488"/>
                  <a:pt x="1298" y="1233"/>
                  <a:pt x="1546" y="149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42680" y="-3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Reflection and amplification </a:t>
            </a:r>
            <a:endParaRPr b="1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741240" y="5118120"/>
            <a:ext cx="84204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6600"/>
              </a:buClr>
              <a:buFont typeface="Arial Unicode M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o DDoS packets become o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19880" indent="-119880">
              <a:spcBef>
                <a:spcPts val="799"/>
              </a:spcBef>
              <a:buClr>
                <a:srgbClr val="006600"/>
              </a:buClr>
              <a:buFont typeface="Arial Unicode M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P trace-back cannot find the attack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19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495440" y="1550880"/>
            <a:ext cx="1152360" cy="647640"/>
          </a:xfrm>
          <a:prstGeom prst="ellipse">
            <a:avLst/>
          </a:prstGeom>
          <a:solidFill>
            <a:srgbClr val="00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375080" y="4114800"/>
            <a:ext cx="1152720" cy="647640"/>
          </a:xfrm>
          <a:prstGeom prst="ellipse">
            <a:avLst/>
          </a:prstGeom>
          <a:solidFill>
            <a:srgbClr val="00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653080" y="4172040"/>
            <a:ext cx="1973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0160" y="15508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607000" y="1012680"/>
            <a:ext cx="344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espon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rot="2618400">
            <a:off x="2333520" y="2887560"/>
            <a:ext cx="2041560" cy="719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ur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222720" y="1390680"/>
            <a:ext cx="28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a.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K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066160" y="2563920"/>
            <a:ext cx="10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889600" y="2335320"/>
            <a:ext cx="12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b.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K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5310000" y="1847880"/>
            <a:ext cx="2592360" cy="23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327800" y="1550880"/>
            <a:ext cx="1152720" cy="647640"/>
          </a:xfrm>
          <a:prstGeom prst="ellipse">
            <a:avLst/>
          </a:prstGeom>
          <a:solidFill>
            <a:srgbClr val="00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489800" y="3479760"/>
            <a:ext cx="1152720" cy="647640"/>
          </a:xfrm>
          <a:prstGeom prst="ellipse">
            <a:avLst/>
          </a:prstGeom>
          <a:solidFill>
            <a:srgbClr val="ff33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489800" y="4172040"/>
            <a:ext cx="193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DoS Attac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1357-46F3-4CF8-B057-0AC9118345B2}" type="slidenum">
              <a:t>21</a:t>
            </a:fld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bfdb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 flipV="1">
            <a:off x="4645080" y="2622600"/>
            <a:ext cx="2160360" cy="1946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5311800" y="2685600"/>
            <a:ext cx="2592360" cy="230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039760" y="2108160"/>
            <a:ext cx="5832720" cy="2370240"/>
          </a:xfrm>
          <a:custGeom>
            <a:avLst/>
            <a:gdLst/>
            <a:ahLst/>
            <a:rect l="l" t="t" r="r" b="b"/>
            <a:pathLst>
              <a:path w="3674" h="1493">
                <a:moveTo>
                  <a:pt x="3674" y="29"/>
                </a:moveTo>
                <a:cubicBezTo>
                  <a:pt x="3121" y="65"/>
                  <a:pt x="710" y="0"/>
                  <a:pt x="355" y="244"/>
                </a:cubicBezTo>
                <a:cubicBezTo>
                  <a:pt x="0" y="488"/>
                  <a:pt x="1298" y="1233"/>
                  <a:pt x="1546" y="149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43040" y="239400"/>
            <a:ext cx="880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BU Authentication – v.4</a:t>
            </a:r>
            <a:endParaRPr b="1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742680" y="5468760"/>
            <a:ext cx="8420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006600"/>
              </a:buClr>
              <a:buFont typeface="Arial Unicode M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lanced message flow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496880" y="1901880"/>
            <a:ext cx="1152720" cy="647640"/>
          </a:xfrm>
          <a:prstGeom prst="ellipse">
            <a:avLst/>
          </a:prstGeom>
          <a:solidFill>
            <a:srgbClr val="00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376880" y="4465800"/>
            <a:ext cx="1152360" cy="647640"/>
          </a:xfrm>
          <a:prstGeom prst="ellipse">
            <a:avLst/>
          </a:prstGeom>
          <a:solidFill>
            <a:srgbClr val="00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856120" y="4465800"/>
            <a:ext cx="197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01600" y="19018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105600" y="1382760"/>
            <a:ext cx="344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espon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728880" y="17413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a.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K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319640" y="29718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b.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B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440400" y="3957480"/>
            <a:ext cx="33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BU, h (K0,K1,B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093160" y="2549520"/>
            <a:ext cx="14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43600" y="3006720"/>
            <a:ext cx="124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b.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K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5311440" y="2198520"/>
            <a:ext cx="2592360" cy="230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329600" y="1901880"/>
            <a:ext cx="1152360" cy="647640"/>
          </a:xfrm>
          <a:prstGeom prst="ellipse">
            <a:avLst/>
          </a:prstGeom>
          <a:solidFill>
            <a:srgbClr val="00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460600" y="2241720"/>
            <a:ext cx="4869000" cy="1993680"/>
          </a:xfrm>
          <a:custGeom>
            <a:avLst/>
            <a:gdLst/>
            <a:ahLst/>
            <a:rect l="l" t="t" r="r" b="b"/>
            <a:pathLst>
              <a:path w="3674" h="1493">
                <a:moveTo>
                  <a:pt x="3674" y="29"/>
                </a:moveTo>
                <a:cubicBezTo>
                  <a:pt x="3121" y="65"/>
                  <a:pt x="710" y="0"/>
                  <a:pt x="355" y="244"/>
                </a:cubicBezTo>
                <a:cubicBezTo>
                  <a:pt x="0" y="488"/>
                  <a:pt x="1298" y="1233"/>
                  <a:pt x="1546" y="149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rot="2618400">
            <a:off x="2460600" y="3103560"/>
            <a:ext cx="2041560" cy="719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ur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127400" y="23209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a.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B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CF8E-ABFB-4A7F-A029-9931BCF6F01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bfdb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 flipH="1">
            <a:off x="5785920" y="2778120"/>
            <a:ext cx="2838600" cy="2497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4645080" y="2622600"/>
            <a:ext cx="2160360" cy="1946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5311800" y="2685600"/>
            <a:ext cx="2592360" cy="230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039760" y="2108160"/>
            <a:ext cx="5832720" cy="2370240"/>
          </a:xfrm>
          <a:custGeom>
            <a:avLst/>
            <a:gdLst/>
            <a:ahLst/>
            <a:rect l="l" t="t" r="r" b="b"/>
            <a:pathLst>
              <a:path w="3674" h="1493">
                <a:moveTo>
                  <a:pt x="3674" y="29"/>
                </a:moveTo>
                <a:cubicBezTo>
                  <a:pt x="3121" y="65"/>
                  <a:pt x="710" y="0"/>
                  <a:pt x="355" y="244"/>
                </a:cubicBezTo>
                <a:cubicBezTo>
                  <a:pt x="0" y="488"/>
                  <a:pt x="1298" y="1233"/>
                  <a:pt x="1546" y="149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743040" y="239400"/>
            <a:ext cx="880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Current Mobile IPv6 Draft</a:t>
            </a:r>
            <a:endParaRPr b="1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15800" y="5468760"/>
            <a:ext cx="94903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006600"/>
              </a:buClr>
              <a:buFont typeface="Arial Unicode M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turn Routability (RR) test for HoA and Co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496880" y="1901880"/>
            <a:ext cx="1152720" cy="647640"/>
          </a:xfrm>
          <a:prstGeom prst="ellipse">
            <a:avLst/>
          </a:prstGeom>
          <a:solidFill>
            <a:srgbClr val="00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376880" y="4465800"/>
            <a:ext cx="1152360" cy="647640"/>
          </a:xfrm>
          <a:prstGeom prst="ellipse">
            <a:avLst/>
          </a:prstGeom>
          <a:solidFill>
            <a:srgbClr val="00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15800" y="19018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105600" y="1382760"/>
            <a:ext cx="344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728880" y="17413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a.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H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19640" y="29718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b.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Co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602400" y="3822840"/>
            <a:ext cx="187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B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43600" y="3006720"/>
            <a:ext cx="149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b.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C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5311440" y="2198520"/>
            <a:ext cx="2592360" cy="230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329600" y="1901880"/>
            <a:ext cx="1152360" cy="647640"/>
          </a:xfrm>
          <a:prstGeom prst="ellipse">
            <a:avLst/>
          </a:prstGeom>
          <a:solidFill>
            <a:srgbClr val="00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460600" y="2241720"/>
            <a:ext cx="4869000" cy="1993680"/>
          </a:xfrm>
          <a:custGeom>
            <a:avLst/>
            <a:gdLst/>
            <a:ahLst/>
            <a:rect l="l" t="t" r="r" b="b"/>
            <a:pathLst>
              <a:path w="3674" h="1493">
                <a:moveTo>
                  <a:pt x="3674" y="29"/>
                </a:moveTo>
                <a:cubicBezTo>
                  <a:pt x="3121" y="65"/>
                  <a:pt x="710" y="0"/>
                  <a:pt x="355" y="244"/>
                </a:cubicBezTo>
                <a:cubicBezTo>
                  <a:pt x="0" y="488"/>
                  <a:pt x="1298" y="1233"/>
                  <a:pt x="1546" y="149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rot="2618400">
            <a:off x="2460600" y="3103560"/>
            <a:ext cx="2041560" cy="719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P tu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127400" y="23209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a.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Ho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602400" y="4656240"/>
            <a:ext cx="187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21C5-DA5B-4DA5-A99B-8DFA25570B0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bfdb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 flipV="1">
            <a:off x="4521240" y="3068640"/>
            <a:ext cx="2448000" cy="776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023920" y="1989000"/>
            <a:ext cx="4297680" cy="1727280"/>
          </a:xfrm>
          <a:custGeom>
            <a:avLst/>
            <a:gdLst/>
            <a:ahLst/>
            <a:rect l="l" t="t" r="r" b="b"/>
            <a:pathLst>
              <a:path w="2707" h="1088">
                <a:moveTo>
                  <a:pt x="2707" y="0"/>
                </a:moveTo>
                <a:cubicBezTo>
                  <a:pt x="1610" y="0"/>
                  <a:pt x="514" y="0"/>
                  <a:pt x="257" y="181"/>
                </a:cubicBezTo>
                <a:cubicBezTo>
                  <a:pt x="0" y="362"/>
                  <a:pt x="582" y="725"/>
                  <a:pt x="1165" y="108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04520" y="115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Unnecessary BUs</a:t>
            </a:r>
            <a:endParaRPr b="1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75800" y="4653000"/>
            <a:ext cx="83869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 Unicode M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unneled packets trigger BU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poofed packets to home address trigger 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true but unnecessar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BU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317600" y="1773360"/>
            <a:ext cx="1152720" cy="647640"/>
          </a:xfrm>
          <a:prstGeom prst="ellipse">
            <a:avLst/>
          </a:prstGeom>
          <a:solidFill>
            <a:srgbClr val="00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969240" y="2492280"/>
            <a:ext cx="1152360" cy="647640"/>
          </a:xfrm>
          <a:prstGeom prst="ellipse">
            <a:avLst/>
          </a:prstGeom>
          <a:solidFill>
            <a:srgbClr val="00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800520" y="3632040"/>
            <a:ext cx="1152360" cy="648000"/>
          </a:xfrm>
          <a:prstGeom prst="ellipse">
            <a:avLst/>
          </a:prstGeom>
          <a:solidFill>
            <a:srgbClr val="00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2320" y="177336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390840" y="1649520"/>
            <a:ext cx="1901880" cy="703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ource = B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tination =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024520" y="3716280"/>
            <a:ext cx="1973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846760" y="1711440"/>
            <a:ext cx="1152360" cy="647640"/>
          </a:xfrm>
          <a:prstGeom prst="ellipse">
            <a:avLst/>
          </a:prstGeom>
          <a:solidFill>
            <a:srgbClr val="ff33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437080" y="1192320"/>
            <a:ext cx="193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ac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865600" y="119232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spoofed pa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rot="2618400">
            <a:off x="2216160" y="2781000"/>
            <a:ext cx="1450800" cy="581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816520" y="3213000"/>
            <a:ext cx="28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unnecessary B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E817-21FD-4F75-9A80-48C95838655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bfdb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04520" y="115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Unnecessary BUs</a:t>
            </a:r>
            <a:endParaRPr b="1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775800" y="1412640"/>
            <a:ext cx="83869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 Unicode M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peat for D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 Unicode M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ainst a mobile or against any no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 Unicode M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tack against 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an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BU protoco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blic-key protocols more vulner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 Unicode M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ense: 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limit the amount of resources used for BU authentication, revert to non-optimized rou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2940-D02D-4B1A-A2F2-DFB72B615C5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bfdb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04520" y="146160"/>
            <a:ext cx="8420040" cy="14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Significance – for academics</a:t>
            </a:r>
            <a:endParaRPr b="1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31800" y="1341360"/>
            <a:ext cx="885672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 Unicode M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New types of requirements, </a:t>
            </a:r>
            <a:br>
              <a:rPr sz="3200"/>
            </a:b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assumptions and attack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isting protocols not usab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plicability of formal methods and analysis tools is lim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 Unicode M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New insights and design princip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 Unicode M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ero configuration, zero user interac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no pop-ups, no user education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B312-3DC0-4DD6-B855-2BACB421E805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bfdb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00"/>
                </a:solidFill>
                <a:latin typeface="Arial"/>
              </a:rPr>
              <a:t>Significance – for everyone else</a:t>
            </a:r>
            <a:endParaRPr b="1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 Unicode M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obile IPv6 is not the only way to do mo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 Unicode M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ther approaches may suffer from the same types of probl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 Unicode M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ven if you aren’t using mobile IPv6, the new techniques may still be usefu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0865-A91C-45A2-B359-7487C3402A5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bfdb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42680" y="3297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Security Protocol Engineering</a:t>
            </a:r>
            <a:endParaRPr b="1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742680" y="1472760"/>
            <a:ext cx="8746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6600"/>
              </a:buClr>
              <a:buFont typeface="Arial Unicode M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difficult part: </a:t>
            </a:r>
            <a:r>
              <a:rPr b="1" lang="en-US" sz="3200" spc="-1" strike="noStrike">
                <a:solidFill>
                  <a:srgbClr val="00cc00"/>
                </a:solidFill>
                <a:latin typeface="Arial"/>
              </a:rPr>
              <a:t>threat analysis, security requirement analysi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00"/>
              </a:buClr>
              <a:buFont typeface="Arial Unicode M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fun part: </a:t>
            </a:r>
            <a:r>
              <a:rPr b="1" lang="en-US" sz="3200" spc="-1" strike="noStrike">
                <a:solidFill>
                  <a:srgbClr val="00cc00"/>
                </a:solidFill>
                <a:latin typeface="Arial"/>
              </a:rPr>
              <a:t>protocol desig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00"/>
              </a:buClr>
              <a:buFont typeface="Arial Unicode M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ult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6600"/>
              </a:buClr>
              <a:buSzPct val="75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ocol specs, standard draf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6600"/>
              </a:buClr>
              <a:buSzPct val="75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analysis and design princip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1C73-143A-4A8A-B68A-456E88048B8F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bfdb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04520" y="33300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04520" y="1268280"/>
            <a:ext cx="8785080" cy="43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6600"/>
              </a:buClr>
              <a:buFont typeface="Arial Unicode M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lyze and solve new problems created by new technology (mobility) before it is deploy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6600"/>
              </a:buClr>
              <a:buFont typeface="Arial Unicode M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urity was the blocking issue in Mobile IPv6 standardization in IETF – not any mo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6600"/>
              </a:buClr>
              <a:buFont typeface="Arial Unicode M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mbing attacks (redirecting data to unwilling recipients) could destroy the Internet – the Return Routability Test has wider applic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DD81-53BB-4FCD-9BC9-223521D05F1C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bfdb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 flipH="1">
            <a:off x="2649600" y="2239920"/>
            <a:ext cx="4897440" cy="576360"/>
          </a:xfrm>
          <a:prstGeom prst="rightArrow">
            <a:avLst>
              <a:gd name="adj1" fmla="val 49861"/>
              <a:gd name="adj2" fmla="val 11542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42680" y="3567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Internet Protocol (IPv6)</a:t>
            </a:r>
            <a:endParaRPr b="1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42680" y="3536640"/>
            <a:ext cx="8420040" cy="21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 Unicode M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ta sent in IP packets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uted through the Interne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 Unicode M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Source spoofin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possib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496880" y="2168640"/>
            <a:ext cx="1152720" cy="647640"/>
          </a:xfrm>
          <a:prstGeom prst="ellipse">
            <a:avLst/>
          </a:prstGeom>
          <a:solidFill>
            <a:srgbClr val="00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329600" y="2168640"/>
            <a:ext cx="1152360" cy="647640"/>
          </a:xfrm>
          <a:prstGeom prst="ellipse">
            <a:avLst/>
          </a:prstGeom>
          <a:solidFill>
            <a:srgbClr val="00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44880" y="1989000"/>
            <a:ext cx="2590920" cy="1191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= B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tination = 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390A-1E6D-4F45-BBD3-223682BC499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bfdb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073240" y="2262240"/>
            <a:ext cx="2232000" cy="1896840"/>
          </a:xfrm>
          <a:custGeom>
            <a:avLst/>
            <a:gdLst/>
            <a:ahLst/>
            <a:rect l="l" t="t" r="r" b="b"/>
            <a:pathLst>
              <a:path w="1406" h="1195">
                <a:moveTo>
                  <a:pt x="0" y="0"/>
                </a:moveTo>
                <a:cubicBezTo>
                  <a:pt x="109" y="400"/>
                  <a:pt x="219" y="801"/>
                  <a:pt x="453" y="998"/>
                </a:cubicBezTo>
                <a:cubicBezTo>
                  <a:pt x="687" y="1195"/>
                  <a:pt x="1247" y="1149"/>
                  <a:pt x="1406" y="1179"/>
                </a:cubicBezTo>
              </a:path>
            </a:pathLst>
          </a:custGeom>
          <a:noFill/>
          <a:ln w="507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42680" y="4042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Mobility</a:t>
            </a:r>
            <a:endParaRPr b="1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42680" y="4997160"/>
            <a:ext cx="84200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spcBef>
                <a:spcPts val="799"/>
              </a:spcBef>
              <a:buClr>
                <a:srgbClr val="006600"/>
              </a:buClr>
              <a:buFont typeface="Arial Unicode M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to communicate after mobil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aves hom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96880" y="1901880"/>
            <a:ext cx="1152720" cy="647640"/>
          </a:xfrm>
          <a:prstGeom prst="ellipse">
            <a:avLst/>
          </a:prstGeom>
          <a:solidFill>
            <a:srgbClr val="00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329600" y="1901880"/>
            <a:ext cx="1152360" cy="647640"/>
          </a:xfrm>
          <a:prstGeom prst="ellipse">
            <a:avLst/>
          </a:prstGeom>
          <a:solidFill>
            <a:srgbClr val="00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06760" y="3817800"/>
            <a:ext cx="1152720" cy="648000"/>
          </a:xfrm>
          <a:prstGeom prst="ellipse">
            <a:avLst/>
          </a:prstGeom>
          <a:solidFill>
            <a:srgbClr val="00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65680" y="3705120"/>
            <a:ext cx="197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01600" y="19018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105600" y="1382760"/>
            <a:ext cx="344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espon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49600" y="1973160"/>
            <a:ext cx="4680000" cy="576360"/>
          </a:xfrm>
          <a:prstGeom prst="leftRightArrow">
            <a:avLst>
              <a:gd name="adj1" fmla="val 50000"/>
              <a:gd name="adj2" fmla="val 16164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8EC4-1159-4918-AD06-2FD2EDF3886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bfdb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460520" y="2276640"/>
            <a:ext cx="2112840" cy="1618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= 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tination = C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iginal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urce = B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tination =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852640" y="914400"/>
          <a:ext cx="4199040" cy="29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2640" y="914400"/>
                    <a:ext cx="4199040" cy="29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04520" y="43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00"/>
                </a:solidFill>
                <a:latin typeface="Arial"/>
              </a:rPr>
              <a:t>Mobile IPv6</a:t>
            </a:r>
            <a:endParaRPr b="1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57080" y="4581000"/>
            <a:ext cx="8420400" cy="14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6600"/>
              </a:buClr>
              <a:buFont typeface="Arial Unicode M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obile always uses the same address A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006600"/>
              </a:buClr>
              <a:buFont typeface="Arial Unicode M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8000"/>
                </a:solidFill>
                <a:latin typeface="Arial"/>
              </a:rPr>
              <a:t>Home agent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forwards packe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006600"/>
              </a:buClr>
              <a:buFont typeface="Arial Unicode M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ny address can become mobi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09960" y="1128600"/>
            <a:ext cx="1152360" cy="647640"/>
          </a:xfrm>
          <a:prstGeom prst="ellipse">
            <a:avLst/>
          </a:prstGeom>
          <a:solidFill>
            <a:srgbClr val="00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15200" y="1160640"/>
            <a:ext cx="1152360" cy="647640"/>
          </a:xfrm>
          <a:prstGeom prst="ellipse">
            <a:avLst/>
          </a:prstGeom>
          <a:solidFill>
            <a:srgbClr val="00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43480" y="3368520"/>
            <a:ext cx="1152360" cy="648000"/>
          </a:xfrm>
          <a:prstGeom prst="ellipse">
            <a:avLst/>
          </a:prstGeom>
          <a:solidFill>
            <a:srgbClr val="00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45240" y="54936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espon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00880" y="3348000"/>
            <a:ext cx="1973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2934000">
            <a:off x="3097800" y="2197800"/>
            <a:ext cx="1625400" cy="674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712800"/>
            <a:ext cx="1901880" cy="703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= B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tination =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14320" y="109044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F61C-BD34-48BE-9844-8E715574245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bfdb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 rot="1859400">
            <a:off x="5990760" y="2421000"/>
            <a:ext cx="662040" cy="2631960"/>
          </a:xfrm>
          <a:prstGeom prst="upDownArrow">
            <a:avLst>
              <a:gd name="adj1" fmla="val 50000"/>
              <a:gd name="adj2" fmla="val 7914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42680" y="33300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Route Optimization</a:t>
            </a:r>
            <a:endParaRPr b="1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14600" y="1917720"/>
            <a:ext cx="4167360" cy="2898720"/>
          </a:xfrm>
          <a:custGeom>
            <a:avLst/>
            <a:gdLst/>
            <a:ahLst/>
            <a:rect l="l" t="t" r="r" b="b"/>
            <a:pathLst>
              <a:path w="2625" h="1826">
                <a:moveTo>
                  <a:pt x="2625" y="90"/>
                </a:moveTo>
                <a:cubicBezTo>
                  <a:pt x="2310" y="94"/>
                  <a:pt x="1162" y="0"/>
                  <a:pt x="736" y="114"/>
                </a:cubicBezTo>
                <a:cubicBezTo>
                  <a:pt x="310" y="228"/>
                  <a:pt x="0" y="489"/>
                  <a:pt x="68" y="774"/>
                </a:cubicBezTo>
                <a:cubicBezTo>
                  <a:pt x="136" y="1059"/>
                  <a:pt x="918" y="1607"/>
                  <a:pt x="1142" y="182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73240" y="1773360"/>
            <a:ext cx="1152720" cy="647640"/>
          </a:xfrm>
          <a:prstGeom prst="ellipse">
            <a:avLst/>
          </a:prstGeom>
          <a:solidFill>
            <a:srgbClr val="00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378480" y="1805040"/>
            <a:ext cx="1152720" cy="647640"/>
          </a:xfrm>
          <a:prstGeom prst="ellipse">
            <a:avLst/>
          </a:prstGeom>
          <a:solidFill>
            <a:srgbClr val="00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376880" y="4660920"/>
            <a:ext cx="1152360" cy="647640"/>
          </a:xfrm>
          <a:prstGeom prst="ellipse">
            <a:avLst/>
          </a:prstGeom>
          <a:solidFill>
            <a:srgbClr val="00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7960" y="17352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87560" y="5049720"/>
            <a:ext cx="197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2618400">
            <a:off x="2334960" y="3789360"/>
            <a:ext cx="2041560" cy="311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024680" y="3084480"/>
            <a:ext cx="1901880" cy="1008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= B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tination = C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75440" y="4365720"/>
            <a:ext cx="193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Routing h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8513640" y="3936600"/>
            <a:ext cx="649440" cy="428760"/>
          </a:xfrm>
          <a:prstGeom prst="line">
            <a:avLst/>
          </a:prstGeom>
          <a:ln w="63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08520" y="119376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espon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2452680"/>
            <a:ext cx="1439640" cy="2208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14720" y="2779560"/>
            <a:ext cx="1901880" cy="1313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= C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tination = B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A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'm at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87560" y="2387520"/>
            <a:ext cx="35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2. Binding Update (B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975440" y="1941480"/>
            <a:ext cx="193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3. following</a:t>
            </a:r>
            <a:br>
              <a:rPr sz="2400"/>
            </a:b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p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225960" y="148428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1. first pa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73920" y="4545000"/>
            <a:ext cx="1901520" cy="1008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= C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tination = B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45240" y="5840280"/>
            <a:ext cx="251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Home address</a:t>
            </a:r>
            <a:br>
              <a:rPr sz="2400"/>
            </a:b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o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7650000" y="5411880"/>
            <a:ext cx="0" cy="428400"/>
          </a:xfrm>
          <a:prstGeom prst="line">
            <a:avLst/>
          </a:prstGeom>
          <a:ln w="63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3F2B-5CCE-4573-97E4-E0EF51BB41E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bfdb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42680" y="556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Route Optimization</a:t>
            </a:r>
            <a:endParaRPr b="1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42680" y="1699920"/>
            <a:ext cx="8420040" cy="42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 Unicode M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ortant optimiz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 Unicode M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y IPv6 node can be a correspondent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y address can be mobi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 Unicode M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Binding Update (BU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ent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fore or during communic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 Unicode M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ften BU triggered when mobile receives a tunneled packe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85A4-8E76-4CE4-9717-E44A09BF5F2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bfdb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432160" y="2001960"/>
            <a:ext cx="4897440" cy="576000"/>
          </a:xfrm>
          <a:prstGeom prst="rightArrow">
            <a:avLst>
              <a:gd name="adj1" fmla="val 49861"/>
              <a:gd name="adj2" fmla="val 11549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592520" y="2452320"/>
            <a:ext cx="2737080" cy="2606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 rot="8191200">
            <a:off x="4941360" y="3301200"/>
            <a:ext cx="3521160" cy="576360"/>
          </a:xfrm>
          <a:prstGeom prst="rightArrow">
            <a:avLst>
              <a:gd name="adj1" fmla="val 54028"/>
              <a:gd name="adj2" fmla="val 51844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42680" y="33300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False Binding Updates</a:t>
            </a:r>
            <a:endParaRPr b="1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96880" y="1930320"/>
            <a:ext cx="1152720" cy="647640"/>
          </a:xfrm>
          <a:prstGeom prst="ellipse">
            <a:avLst/>
          </a:prstGeom>
          <a:solidFill>
            <a:srgbClr val="00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329600" y="1901880"/>
            <a:ext cx="1152360" cy="647640"/>
          </a:xfrm>
          <a:prstGeom prst="ellipse">
            <a:avLst/>
          </a:prstGeom>
          <a:solidFill>
            <a:srgbClr val="00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376880" y="4660920"/>
            <a:ext cx="1152360" cy="647640"/>
          </a:xfrm>
          <a:prstGeom prst="ellipse">
            <a:avLst/>
          </a:prstGeom>
          <a:solidFill>
            <a:srgbClr val="ff66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641760" y="3014640"/>
            <a:ext cx="1901880" cy="1313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= C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tination = B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is is A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'm at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857240" y="30733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False B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523200" y="388620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Stolen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649600" y="1973160"/>
            <a:ext cx="4680000" cy="576360"/>
          </a:xfrm>
          <a:prstGeom prst="leftRightArrow">
            <a:avLst>
              <a:gd name="adj1" fmla="val 50000"/>
              <a:gd name="adj2" fmla="val 16164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403360" y="4660920"/>
            <a:ext cx="197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ac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8923-0CCB-41B2-9CAC-BBFA53DC712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bfdb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 flipH="1" rot="8191200">
            <a:off x="4761360" y="3021840"/>
            <a:ext cx="3521160" cy="576360"/>
          </a:xfrm>
          <a:prstGeom prst="rightArrow">
            <a:avLst>
              <a:gd name="adj1" fmla="val 54028"/>
              <a:gd name="adj2" fmla="val 51844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Spoofe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4376880" y="1719360"/>
            <a:ext cx="2736720" cy="2606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 rot="8191200">
            <a:off x="4700160" y="2477160"/>
            <a:ext cx="3521160" cy="576000"/>
          </a:xfrm>
          <a:prstGeom prst="rightArrow">
            <a:avLst>
              <a:gd name="adj1" fmla="val 54028"/>
              <a:gd name="adj2" fmla="val 5187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42680" y="333360"/>
            <a:ext cx="84200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he Basic Attack</a:t>
            </a:r>
            <a:endParaRPr b="1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96880" y="1355760"/>
            <a:ext cx="1152720" cy="647640"/>
          </a:xfrm>
          <a:prstGeom prst="ellipse">
            <a:avLst/>
          </a:prstGeom>
          <a:solidFill>
            <a:srgbClr val="00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329600" y="1327320"/>
            <a:ext cx="1152360" cy="647640"/>
          </a:xfrm>
          <a:prstGeom prst="ellipse">
            <a:avLst/>
          </a:prstGeom>
          <a:solidFill>
            <a:srgbClr val="00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376880" y="4086360"/>
            <a:ext cx="1152360" cy="647640"/>
          </a:xfrm>
          <a:prstGeom prst="ellipse">
            <a:avLst/>
          </a:prstGeom>
          <a:solidFill>
            <a:srgbClr val="ff66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41760" y="1974960"/>
            <a:ext cx="1901880" cy="1313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= C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tination = B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is is A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'm at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505320" y="15462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False B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19012200">
            <a:off x="5563440" y="24710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Stolen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403360" y="4086360"/>
            <a:ext cx="197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ac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753240" y="3309840"/>
            <a:ext cx="1901880" cy="1008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= C destination = B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is is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42680" y="4935240"/>
            <a:ext cx="842004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6600"/>
              </a:buClr>
              <a:buFont typeface="Arial Unicode M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jack old connections or open n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spcBef>
                <a:spcPts val="799"/>
              </a:spcBef>
              <a:buClr>
                <a:srgbClr val="006600"/>
              </a:buClr>
              <a:buFont typeface="Arial Unicode M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, B and C can be any Internet nod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35DE-0BB6-4BD9-AE9D-AAE028AC19D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07:59:00Z</dcterms:created>
  <dc:creator>Tuomas Aura</dc:creator>
  <dc:description/>
  <dc:language>en-US</dc:language>
  <cp:lastModifiedBy>Guest</cp:lastModifiedBy>
  <cp:lastPrinted>1999-07-28T03:27:23Z</cp:lastPrinted>
  <dcterms:modified xsi:type="dcterms:W3CDTF">2002-11-06T10:10:11Z</dcterms:modified>
  <cp:revision>277</cp:revision>
  <dc:subject/>
  <dc:title>Mobile IPv6 Security</dc:title>
</cp:coreProperties>
</file>