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541-485D-472D-B5FB-97ACA904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DC0-6B84-4CCE-B6FD-2CD1A13F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829-F85C-4AE7-A2AB-BE9B6853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94E-04A1-4B3E-B66F-C8570EA9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664D-88A8-4129-9198-B714E2E0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0414-76C7-4B1C-B102-DCA1187E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AAC0-2071-4DC0-9912-D829FBE8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B5D0-FD0B-4CCC-87FF-07BD4C92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7873-0AC4-4975-BBED-E2A77B38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ED81-6163-4A24-932A-86E1EEF4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A409-C8EE-4E2F-B2A5-8AE50F09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3DD-33DA-47CB-AE24-73E865E5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6660-7DC6-4DC9-B938-5D255018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B0B9-CF46-4765-A022-D69ED653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8317-9A27-4459-9D73-BC5757A2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66F9-1946-4021-AD82-D1EC4A16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1331-0497-44FC-BBAF-9BB10A92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8E6-7E99-4C25-A195-C35E7A5D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EAC-80ED-44DD-8350-CFBB3713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C99-341D-4A1C-B9B3-B8554120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679-E718-418C-BCB3-DEE7BBB7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78C-4677-492F-8D17-AD2BC54B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985-73C8-4E44-9FCD-0AA3A858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529-7F7B-4D57-BDF5-574FAFC9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2A0E-D687-4961-B24C-89E246479E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38172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8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E59E-8FA5-4800-8A46-79D1BD3A78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redit Card Bill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lueprint Technologies,  In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isting legacy systems do not support collection of demographic data (e.g., personal buying trend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or integration between credit card billing system and other systems within the organiz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not find enough qualified software engine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ust work smarter, not har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ed to produce a system that is easily maintain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isting legacy maintenance costs are unmanage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Functional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stomer centr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count Level Bill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ch customer account may have unique ter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lance Seg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fine how account funds are process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ture system must support dynamic balance seg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nsa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ports internal and external (web) process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intenance Reque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ministrative changes including opening/closing accou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Non-Functional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 for NT 4.0 cli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verage Oracle server for persist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ow for 100 million transactions per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duce maintenace costs by at least 4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ploy across continental United St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chive all transa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 fault tolerance cap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ply pre-existing patterns and framewor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uild on analysis and design patter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tilize FrameworkStud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verage iterative and incremental development via the Rational Unified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tional RequisitePro, Rational Rose, Rational ClearCase, Microsoft Developer Stud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dit Card Billing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billing.mdl on this C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Blueprint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blueprint-technologies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Terry Quatrani</cp:lastModifiedBy>
  <dcterms:modified xsi:type="dcterms:W3CDTF">1999-03-12T03:27:34Z</dcterms:modified>
  <cp:revision>13</cp:revision>
  <dc:subject/>
  <dc:title>Credit Card Billing</dc:title>
</cp:coreProperties>
</file>