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D9D-59FF-4A4D-A401-0438A04A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2F3-D03D-4914-AA99-6E61F145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A16-965C-40F3-A141-AF538A6E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7CA-48EB-4B4E-BD78-E03C432B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E67E-B795-4399-9E87-F787B2DD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6846-9C03-45D2-A48F-FF8C241F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F52B-F52E-4E67-B31A-A8766153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2FDA-D47A-4E66-B29A-8904CEF0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1117-38ED-470F-A526-CF3A2D2E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FA8A-9C7E-4C98-AFD9-E2ED1A22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4CE1-F082-4667-B05C-13042012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E24-1D69-4BFC-A97F-D6295E25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1DC8-8CE8-45F9-B0A7-C3BDF27A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CCC3-6366-4D22-9220-1BACE620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8AD8-CD74-43EF-9B02-ED9E6BD7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F4EE-4D07-46E2-AE0F-C84B77C3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C77C-3E26-422B-A57D-86C779B3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77E-5D54-487A-9265-5080FFAA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F25-4C74-441C-8962-BCA87C53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C3C-46BC-4CB4-A2F9-5D671020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D66-572C-4C9A-B6A0-9E6ACA78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D69-F54E-418A-8B44-382744B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E65-AA3F-4BF3-BB71-82A0B047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0FF-352F-4CA0-923F-8BFD1D73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2FEE-6226-4A79-9439-F1DFE2E95D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11" name="Ens11" descr=""/>
          <p:cNvPicPr/>
          <p:nvPr/>
        </p:nvPicPr>
        <p:blipFill>
          <a:blip r:embed="rId3"/>
          <a:stretch/>
        </p:blipFill>
        <p:spPr>
          <a:xfrm>
            <a:off x="152280" y="6111720"/>
            <a:ext cx="1230480" cy="74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9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D366-9BA3-4037-AA64-4A0037A995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unners Inc.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semble Systems In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3DB9-BCBC-41FD-9BD6-6847C57485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unners Inc. is a hypothetical distributor of shoes for jogging enthusia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y currently handle all orders on pap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ders are being delayed or lost due to misplaced paper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tomation of the order entry and shipping system is need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C9B-BF99-42A9-BE6E-66F0052788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d an order entry and shipping syste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sure that all orders are processed in a timely fash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ystem should use data storage techniques that are scaleable and are easily extended and mainta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ort-term volumes are expected to remain relatively low (10 orders per da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67C-2064-4608-99B2-F7A6E318ED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semble Rose Business Process Link (RBP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Runners Inc. business process is modeled using activity diagram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oftware requirements, in the form of Use cases, features and GUI designs, are identified in context with the business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ctors, Use cases, &amp; Classes are then exported from RBPL to Rose 9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tional Rose 9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cases and Class designs are enhanced to complete the software design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robust software architecture is developed iterative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09B-71B1-4E2C-9EDD-7345D2A41F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 (continued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semble Rose JBuilder Lin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ava code framework is generated &amp; round trip engineered between Rose and JBuil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implementation is completed using Borland JBuilder &amp; MS Ac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63F-1B72-4F83-A997-1558BD54D5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unners, Inc.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runners.mdl on this C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le EnsembleRunnersInc.zip on this CD contains the RBPL model &amp; documentation, the Rose model documentation, the JBuilder project &amp; Java files, the MS Access database &amp; 30-day installations of Rose Business Process Link &amp; Rose JBuilder Lin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Ensemble Systems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ensemble-systems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262-C005-4988-BA83-C94F673BD0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22:48:14Z</dcterms:created>
  <dc:creator>Pierre van Aswegen</dc:creator>
  <dc:description/>
  <dc:language>en-US</dc:language>
  <cp:lastModifiedBy>Brett Collins</cp:lastModifiedBy>
  <cp:lastPrinted>1999-03-09T02:47:27Z</cp:lastPrinted>
  <dcterms:modified xsi:type="dcterms:W3CDTF">1999-03-25T19:51:07Z</dcterms:modified>
  <cp:revision>165</cp:revision>
  <dc:subject/>
  <dc:title>RBPL Demo Script</dc:title>
</cp:coreProperties>
</file>