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EE3-F8FA-4D1C-A0F8-A8BEAC83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527-E0FA-4557-816A-C929F1A4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C85-2FB1-422A-A66B-92D92BE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13C-1E7C-4DF4-93B2-8BDA1914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6EF-6C38-449C-BCBE-5A077108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1AC7-0847-4350-A711-3134A89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9E2-ACDE-439E-8D51-54AE6A1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57C-F631-40D6-B470-420F5596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179-3F28-4ED9-9B41-ABF063C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720C-0BC5-436E-AE65-B3FC1B9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E63-70DF-4AD5-910D-5871FDA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EAB-5E26-4754-B40B-62D4B47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6C6F-AD99-4EEF-B94D-AB2029D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351C-F9D9-4C58-A1C6-9B51920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C61D-80E3-40EE-AA45-55FDBB75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9AD-49BC-4431-9D02-68A128D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F83-0132-4886-A4DD-4C51F392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B95-1662-4FC8-B699-AD6CCE1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E50-D84F-477F-BE4D-7D3A1B42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4A8-D92F-4B1C-A15B-A288D7B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379-1481-4C5A-B065-487FFAE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F67-E9DE-4236-95C7-8EC4663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596-ED5A-45B4-B8C2-032C6E0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BED-086C-43A8-ADBD-669E2AF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63D-A500-4754-90B9-559EEF67C2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052-756D-436D-848F-83C87A18D6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Front End to the Automated Budget Interactive Data Environment System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(ABIDES-FE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umber Six Software,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 Java wrapper for an existing application that helps budget analysts manage the Air Force’s budg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wrapper would address the highest value portion of the legacy application, its ability to generate reports based on the state of the budg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portable solution that would be easy to distribute and maint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modern user interface that would be easier to learn and u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a solution that can coexist with the legacy application and with special care from the legacy application maintain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egacy system would have no knowledge of the existence of the wrapper, and the solution we deliver cannot affect operati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pure Java for all software developed for ABIDES Front E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commercial off the shelf (COTS) components were used to develop ABIDES Front E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tead, we have relied on Java-provided RMI, Swing, Properties, and JavaHelp to provide core design and implementation mech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relied heavily on the use of well-known design patterns such as Factory Method, Adapter, Observer, and Prox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developed four essential distributed services utilizing Java RM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ger - Responsible for recording all significant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n - Responsible for authenticating users and maintaining authentication tick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horizer - Like an Authenticator the Authorizer is responsible for determining and packaging all authorized rights and business packages for a particular 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FPReportBreakGenerator - Responsible for forwarding Execoms to ABIDES and then retrieving and delivering results to the requesting 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nt End to the Automated Budget Interactive Data Environment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bidesfe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ditional stereotype icons are installed when StereotypeIcons.exe is execu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ditional documentation may be found in the doc fol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file abidesfe Pathmap.txt contains pathmap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key SAM/GA personnel for ABIDES-FE ar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im Berry (berryi@comm.hq.af.mi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m Johnson (johnsonp@comm.hq.af.mi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cky Nguyen (nguyenv@comm.hq.af.m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no Yannotti (yannottig@comm.hq.af.m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Number Six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numbersix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3T01:46:49Z</dcterms:modified>
  <cp:revision>33</cp:revision>
  <dc:subject/>
  <dc:title>No Slide Title</dc:title>
</cp:coreProperties>
</file>