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1F1-B46E-417B-8BCF-801B3E1B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s framework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04760" y="615960"/>
            <a:ext cx="4846680" cy="3635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23680" y="4500360"/>
            <a:ext cx="5198760" cy="397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ng the vast set of requirements, this client wanted the system 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his system needed to communicate with the already existing command and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476-025F-4ACB-BC00-60D3A5B8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836-906C-4B69-A304-D61C2998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C7B-8651-4065-9F93-BF4585DD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6A2-51D7-4122-A530-34604992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2D5D-45A4-4DD9-87AC-21587F49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AD21-B256-4DAE-B270-BB1C699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DB9F-4398-4229-8D17-95C61827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0707-7D59-4A86-B4C1-B4D44552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A9E5-2C98-4565-B361-58CAF0F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5B7A-1D3F-44EE-AA10-194EAFE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20BA-E81B-48FC-BA68-A2AB4CF1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521-D1CE-42AC-BD4F-C96CC64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476B-0FE5-4DED-A482-5528A50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D168-7B66-49AA-98F9-43AD180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8737-EB29-4A80-8F15-3365DEA3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430E-3CD8-4839-BC2B-B117AAF9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7436-AFA4-484D-9823-4BB456F8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05E-BC84-49A9-B978-7E6DCCF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1F2-4B69-433F-A1B5-C72D72C3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CD4-6D72-49AF-A87E-EA7513D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BCA-60B9-40F4-8978-CB7C24AC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437-6E69-42BB-91D2-21D05A5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E46-DF71-486F-AF2C-84F4FD18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A9F-B66E-4507-99FF-34E6F59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31D2-600A-40A3-9807-428838C3F9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06600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grpSp>
        <p:nvGrpSpPr>
          <p:cNvPr id="11" name=""/>
          <p:cNvGrpSpPr/>
          <p:nvPr/>
        </p:nvGrpSpPr>
        <p:grpSpPr>
          <a:xfrm>
            <a:off x="274680" y="5796000"/>
            <a:ext cx="934920" cy="975600"/>
            <a:chOff x="274680" y="5796000"/>
            <a:chExt cx="934920" cy="975600"/>
          </a:xfrm>
        </p:grpSpPr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530280" y="5796000"/>
              <a:ext cx="4222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274680" y="63118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Informa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Graphic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Systems Inc.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28480" y="6288120"/>
              <a:ext cx="424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12360" y="6365880"/>
              <a:ext cx="25848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CE0-68B0-4202-8282-5F4C991006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Universal Data Access Services for Enterprise Application Integr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+ Graphic Systems,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n Enterprise Class universal Data Access Environment (DAE) which wil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omatically build business objects in real time from multiple sources simultaneous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t applications a virtual source for bi-directional mediated data access to support work flow data nee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ntain data-centric business rules to support complex data transformations for disparate applic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 transformations and state transition based events to manage publish and subscription servi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complex data integration ser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ttribute and object mapp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ntactic (naming) chan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mantic (algorithmic) chan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(ID) chan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 to choose and synchronize from multiple sourc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verage Java VM and AP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able componentiz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web and application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767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AE is th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data access and mediation layer in support of workflow and semantic data integration services for object manag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73200" y="2286720"/>
            <a:ext cx="5771880" cy="3808800"/>
            <a:chOff x="1573200" y="2286720"/>
            <a:chExt cx="5771880" cy="3808800"/>
          </a:xfrm>
        </p:grpSpPr>
        <p:grpSp>
          <p:nvGrpSpPr>
            <p:cNvPr id="131" name=""/>
            <p:cNvGrpSpPr/>
            <p:nvPr/>
          </p:nvGrpSpPr>
          <p:grpSpPr>
            <a:xfrm>
              <a:off x="2392560" y="2286720"/>
              <a:ext cx="3681360" cy="3179160"/>
              <a:chOff x="2392560" y="2286720"/>
              <a:chExt cx="3681360" cy="3179160"/>
            </a:xfrm>
          </p:grpSpPr>
          <p:sp>
            <p:nvSpPr>
              <p:cNvPr id="132" name=""/>
              <p:cNvSpPr/>
              <p:nvPr/>
            </p:nvSpPr>
            <p:spPr>
              <a:xfrm>
                <a:off x="2392560" y="2806560"/>
                <a:ext cx="3304800" cy="2659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 rot="2247000">
                <a:off x="3576960" y="2893680"/>
                <a:ext cx="2390040" cy="1160640"/>
              </a:xfrm>
              <a:prstGeom prst="rect">
                <a:avLst/>
              </a:prstGeom>
            </p:spPr>
            <p:txBody>
              <a:bodyPr wrap="none" fromWordArt="1" lIns="91800" rIns="91800" anchor="t" anchorCtr="1">
                <a:prstTxWarp prst="textArchUp">
                  <a:avLst>
                    <a:gd name="adj" fmla="val 1219583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Object Transaction Manager</a:t>
                </a:r>
                <a:endParaRPr b="0" lang="en-US" sz="2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2922840" y="3281400"/>
              <a:ext cx="2147760" cy="17222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1605000">
              <a:off x="4052520" y="3295800"/>
              <a:ext cx="995400" cy="347400"/>
            </a:xfrm>
            <a:prstGeom prst="rect">
              <a:avLst/>
            </a:prstGeom>
          </p:spPr>
          <p:txBody>
            <a:bodyPr wrap="none" fromWordArt="1" lIns="91800" rIns="91800" anchor="t" anchorCtr="1">
              <a:prstTxWarp prst="textArchUp">
                <a:avLst>
                  <a:gd name="adj" fmla="val 119484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Work Flow</a:t>
              </a:r>
              <a:endPara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527200">
              <a:off x="4584600" y="3430080"/>
              <a:ext cx="307800" cy="69084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4157600">
              <a:off x="3301200" y="3204360"/>
              <a:ext cx="264960" cy="86688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649600">
              <a:off x="4055760" y="3131640"/>
              <a:ext cx="160560" cy="58608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3226800">
              <a:off x="4503960" y="4135320"/>
              <a:ext cx="266760" cy="86688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7209600">
              <a:off x="3510720" y="4364640"/>
              <a:ext cx="266760" cy="86544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46600">
              <a:off x="3057840" y="4016160"/>
              <a:ext cx="188640" cy="507960"/>
            </a:xfrm>
            <a:custGeom>
              <a:avLst/>
              <a:gdLst/>
              <a:ahLst/>
              <a:rect l="l" t="t" r="r" b="b"/>
              <a:pathLst>
                <a:path w="317" h="766">
                  <a:moveTo>
                    <a:pt x="0" y="0"/>
                  </a:moveTo>
                  <a:cubicBezTo>
                    <a:pt x="119" y="91"/>
                    <a:pt x="239" y="183"/>
                    <a:pt x="278" y="311"/>
                  </a:cubicBezTo>
                  <a:cubicBezTo>
                    <a:pt x="317" y="439"/>
                    <a:pt x="241" y="690"/>
                    <a:pt x="234" y="766"/>
                  </a:cubicBezTo>
                </a:path>
              </a:pathLst>
            </a:custGeom>
            <a:noFill/>
            <a:ln w="1260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246480" y="3613680"/>
              <a:ext cx="1435320" cy="1226520"/>
              <a:chOff x="3246480" y="3613680"/>
              <a:chExt cx="1435320" cy="1226520"/>
            </a:xfrm>
          </p:grpSpPr>
          <p:sp>
            <p:nvSpPr>
              <p:cNvPr id="143" name=""/>
              <p:cNvSpPr/>
              <p:nvPr/>
            </p:nvSpPr>
            <p:spPr>
              <a:xfrm>
                <a:off x="3246480" y="3880800"/>
                <a:ext cx="1181520" cy="959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2198400">
                <a:off x="3657960" y="3827520"/>
                <a:ext cx="926640" cy="632880"/>
              </a:xfrm>
              <a:prstGeom prst="rect">
                <a:avLst/>
              </a:prstGeom>
            </p:spPr>
            <p:txBody>
              <a:bodyPr wrap="none" fromWordArt="1" lIns="91800" rIns="91800" anchor="t" anchorCtr="1">
                <a:prstTxWarp prst="textArchUp">
                  <a:avLst>
                    <a:gd name="adj" fmla="val 119942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Data Access</a:t>
                </a:r>
                <a:endParaRPr b="0" lang="en-US" sz="2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94120" y="4126320"/>
                <a:ext cx="440640" cy="497880"/>
                <a:chOff x="3894120" y="4126320"/>
                <a:chExt cx="440640" cy="497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62160" y="4487760"/>
                  <a:ext cx="132480" cy="30600"/>
                </a:xfrm>
                <a:custGeom>
                  <a:avLst/>
                  <a:gdLst/>
                  <a:ahLst/>
                  <a:rect l="l" t="t" r="r" b="b"/>
                  <a:pathLst>
                    <a:path w="661" h="170">
                      <a:moveTo>
                        <a:pt x="590" y="0"/>
                      </a:move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0" y="0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92840" y="4487760"/>
                  <a:ext cx="129600" cy="30600"/>
                </a:xfrm>
                <a:custGeom>
                  <a:avLst/>
                  <a:gdLst/>
                  <a:ahLst/>
                  <a:rect l="l" t="t" r="r" b="b"/>
                  <a:pathLst>
                    <a:path w="644" h="170">
                      <a:moveTo>
                        <a:pt x="6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44" y="0"/>
                      </a:lnTo>
                      <a:lnTo>
                        <a:pt x="644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92840" y="4419000"/>
                  <a:ext cx="360" cy="41760"/>
                </a:xfrm>
                <a:custGeom>
                  <a:avLst/>
                  <a:gdLst/>
                  <a:ahLst/>
                  <a:rect l="l" t="t" r="r" b="b"/>
                  <a:pathLst>
                    <a:path w="0" h="239">
                      <a:moveTo>
                        <a:pt x="0" y="239"/>
                      </a:moveTo>
                      <a:lnTo>
                        <a:pt x="0" y="1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92840" y="4227480"/>
                  <a:ext cx="360" cy="126360"/>
                </a:xfrm>
                <a:custGeom>
                  <a:avLst/>
                  <a:gdLst/>
                  <a:ahLst/>
                  <a:rect l="l" t="t" r="r" b="b"/>
                  <a:pathLst>
                    <a:path w="0" h="697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0" y="69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80240" y="4461120"/>
                  <a:ext cx="24120" cy="26640"/>
                </a:xfrm>
                <a:custGeom>
                  <a:avLst/>
                  <a:gdLst/>
                  <a:ahLst/>
                  <a:rect l="l" t="t" r="r" b="b"/>
                  <a:pathLst>
                    <a:path w="120" h="147">
                      <a:moveTo>
                        <a:pt x="60" y="0"/>
                      </a:moveTo>
                      <a:lnTo>
                        <a:pt x="0" y="147"/>
                      </a:lnTo>
                      <a:lnTo>
                        <a:pt x="120" y="14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92840" y="4487760"/>
                  <a:ext cx="360" cy="30600"/>
                </a:xfrm>
                <a:custGeom>
                  <a:avLst/>
                  <a:gdLst/>
                  <a:ahLst/>
                  <a:rect l="l" t="t" r="r" b="b"/>
                  <a:pathLst>
                    <a:path w="0" h="170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8880" y="43441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0" y="27"/>
                      </a:move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3" y="7"/>
                      </a:lnTo>
                      <a:lnTo>
                        <a:pt x="39" y="15"/>
                      </a:lnTo>
                      <a:lnTo>
                        <a:pt x="42" y="27"/>
                      </a:lnTo>
                      <a:lnTo>
                        <a:pt x="39" y="39"/>
                      </a:lnTo>
                      <a:lnTo>
                        <a:pt x="33" y="49"/>
                      </a:lnTo>
                      <a:lnTo>
                        <a:pt x="26" y="54"/>
                      </a:lnTo>
                      <a:lnTo>
                        <a:pt x="17" y="54"/>
                      </a:lnTo>
                      <a:lnTo>
                        <a:pt x="8" y="49"/>
                      </a:lnTo>
                      <a:lnTo>
                        <a:pt x="3" y="3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027680" y="4126320"/>
                  <a:ext cx="178200" cy="178920"/>
                  <a:chOff x="4027680" y="4126320"/>
                  <a:chExt cx="178200" cy="178920"/>
                </a:xfrm>
              </p:grpSpPr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4028760" y="4126320"/>
                    <a:ext cx="125280" cy="139680"/>
                    <a:chOff x="4028760" y="4126320"/>
                    <a:chExt cx="125280" cy="13968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4028760" y="4164840"/>
                      <a:ext cx="125280" cy="101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028760" y="4126320"/>
                      <a:ext cx="125280" cy="38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" name=""/>
                  <p:cNvSpPr/>
                  <p:nvPr/>
                </p:nvSpPr>
                <p:spPr>
                  <a:xfrm>
                    <a:off x="4027680" y="4136760"/>
                    <a:ext cx="11196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34520" y="4169880"/>
                    <a:ext cx="171360" cy="13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eet_addre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ts val="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4019040" y="4354920"/>
                  <a:ext cx="196560" cy="75960"/>
                  <a:chOff x="4019040" y="4354920"/>
                  <a:chExt cx="196560" cy="759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4028760" y="4354920"/>
                    <a:ext cx="124560" cy="73800"/>
                    <a:chOff x="4028760" y="4354920"/>
                    <a:chExt cx="124560" cy="7380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4028760" y="4375080"/>
                      <a:ext cx="124560" cy="53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4028760" y="4354920"/>
                      <a:ext cx="124560" cy="20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4019040" y="4358880"/>
                    <a:ext cx="12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034880" y="4376520"/>
                    <a:ext cx="18072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3894120" y="4518720"/>
                  <a:ext cx="163440" cy="77760"/>
                  <a:chOff x="3894120" y="4518720"/>
                  <a:chExt cx="163440" cy="7776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3894120" y="4518720"/>
                    <a:ext cx="124200" cy="73080"/>
                    <a:chOff x="3894120" y="4518720"/>
                    <a:chExt cx="124200" cy="7308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894120" y="4538880"/>
                      <a:ext cx="124200" cy="52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894120" y="4518720"/>
                      <a:ext cx="124200" cy="20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" name=""/>
                  <p:cNvSpPr/>
                  <p:nvPr/>
                </p:nvSpPr>
                <p:spPr>
                  <a:xfrm>
                    <a:off x="3928680" y="4529880"/>
                    <a:ext cx="3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904560" y="4542120"/>
                    <a:ext cx="15300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_valu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028760" y="4518720"/>
                  <a:ext cx="177480" cy="77760"/>
                  <a:chOff x="4028760" y="4518720"/>
                  <a:chExt cx="177480" cy="7776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4028760" y="4518720"/>
                    <a:ext cx="125280" cy="74520"/>
                    <a:chOff x="4028760" y="4518720"/>
                    <a:chExt cx="125280" cy="7452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028760" y="4539240"/>
                      <a:ext cx="125280" cy="5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4028760" y="4518720"/>
                      <a:ext cx="125280" cy="20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4042440" y="4519440"/>
                    <a:ext cx="874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plitt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039560" y="4542120"/>
                    <a:ext cx="16668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1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2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4162680" y="4518720"/>
                  <a:ext cx="172080" cy="105480"/>
                  <a:chOff x="4162680" y="4518720"/>
                  <a:chExt cx="172080" cy="10548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4163400" y="4518720"/>
                    <a:ext cx="124200" cy="73080"/>
                    <a:chOff x="4163400" y="4518720"/>
                    <a:chExt cx="124200" cy="7308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163400" y="4538880"/>
                      <a:ext cx="124200" cy="52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163400" y="4518720"/>
                      <a:ext cx="124200" cy="20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4162680" y="4529880"/>
                    <a:ext cx="1090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173840" y="4542840"/>
                    <a:ext cx="160920" cy="8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gai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distortio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3" name=""/>
              <p:cNvSpPr/>
              <p:nvPr/>
            </p:nvSpPr>
            <p:spPr>
              <a:xfrm>
                <a:off x="3835080" y="4415040"/>
                <a:ext cx="237960" cy="125280"/>
              </a:xfrm>
              <a:custGeom>
                <a:avLst/>
                <a:gdLst/>
                <a:ahLst/>
                <a:rect l="l" t="t" r="r" b="b"/>
                <a:pathLst>
                  <a:path w="1190" h="575">
                    <a:moveTo>
                      <a:pt x="0" y="0"/>
                    </a:moveTo>
                    <a:lnTo>
                      <a:pt x="105" y="39"/>
                    </a:lnTo>
                    <a:lnTo>
                      <a:pt x="198" y="72"/>
                    </a:lnTo>
                    <a:lnTo>
                      <a:pt x="280" y="102"/>
                    </a:lnTo>
                    <a:lnTo>
                      <a:pt x="354" y="129"/>
                    </a:lnTo>
                    <a:lnTo>
                      <a:pt x="421" y="152"/>
                    </a:lnTo>
                    <a:lnTo>
                      <a:pt x="481" y="174"/>
                    </a:lnTo>
                    <a:lnTo>
                      <a:pt x="536" y="194"/>
                    </a:lnTo>
                    <a:lnTo>
                      <a:pt x="586" y="212"/>
                    </a:lnTo>
                    <a:lnTo>
                      <a:pt x="633" y="231"/>
                    </a:lnTo>
                    <a:lnTo>
                      <a:pt x="680" y="249"/>
                    </a:lnTo>
                    <a:lnTo>
                      <a:pt x="705" y="259"/>
                    </a:lnTo>
                    <a:lnTo>
                      <a:pt x="730" y="271"/>
                    </a:lnTo>
                    <a:lnTo>
                      <a:pt x="757" y="283"/>
                    </a:lnTo>
                    <a:lnTo>
                      <a:pt x="784" y="296"/>
                    </a:lnTo>
                    <a:lnTo>
                      <a:pt x="812" y="309"/>
                    </a:lnTo>
                    <a:lnTo>
                      <a:pt x="842" y="326"/>
                    </a:lnTo>
                    <a:lnTo>
                      <a:pt x="875" y="346"/>
                    </a:lnTo>
                    <a:lnTo>
                      <a:pt x="910" y="368"/>
                    </a:lnTo>
                    <a:lnTo>
                      <a:pt x="948" y="393"/>
                    </a:lnTo>
                    <a:lnTo>
                      <a:pt x="989" y="421"/>
                    </a:lnTo>
                    <a:lnTo>
                      <a:pt x="1033" y="453"/>
                    </a:lnTo>
                    <a:lnTo>
                      <a:pt x="1081" y="490"/>
                    </a:lnTo>
                    <a:lnTo>
                      <a:pt x="1134" y="530"/>
                    </a:lnTo>
                    <a:lnTo>
                      <a:pt x="1190" y="575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51800" y="450504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247" h="280">
                    <a:moveTo>
                      <a:pt x="247" y="280"/>
                    </a:moveTo>
                    <a:lnTo>
                      <a:pt x="0" y="249"/>
                    </a:lnTo>
                    <a:lnTo>
                      <a:pt x="27" y="223"/>
                    </a:lnTo>
                    <a:lnTo>
                      <a:pt x="51" y="193"/>
                    </a:lnTo>
                    <a:lnTo>
                      <a:pt x="72" y="160"/>
                    </a:lnTo>
                    <a:lnTo>
                      <a:pt x="89" y="123"/>
                    </a:lnTo>
                    <a:lnTo>
                      <a:pt x="103" y="85"/>
                    </a:lnTo>
                    <a:lnTo>
                      <a:pt x="112" y="43"/>
                    </a:lnTo>
                    <a:lnTo>
                      <a:pt x="117" y="0"/>
                    </a:lnTo>
                    <a:lnTo>
                      <a:pt x="247" y="28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92960" y="4372920"/>
                <a:ext cx="252360" cy="45360"/>
              </a:xfrm>
              <a:custGeom>
                <a:avLst/>
                <a:gdLst/>
                <a:ahLst/>
                <a:rect l="l" t="t" r="r" b="b"/>
                <a:pathLst>
                  <a:path w="1395" h="176">
                    <a:moveTo>
                      <a:pt x="0" y="87"/>
                    </a:moveTo>
                    <a:lnTo>
                      <a:pt x="25" y="94"/>
                    </a:lnTo>
                    <a:lnTo>
                      <a:pt x="51" y="99"/>
                    </a:lnTo>
                    <a:lnTo>
                      <a:pt x="72" y="104"/>
                    </a:lnTo>
                    <a:lnTo>
                      <a:pt x="93" y="109"/>
                    </a:lnTo>
                    <a:lnTo>
                      <a:pt x="112" y="112"/>
                    </a:lnTo>
                    <a:lnTo>
                      <a:pt x="130" y="117"/>
                    </a:lnTo>
                    <a:lnTo>
                      <a:pt x="146" y="121"/>
                    </a:lnTo>
                    <a:lnTo>
                      <a:pt x="161" y="124"/>
                    </a:lnTo>
                    <a:lnTo>
                      <a:pt x="177" y="127"/>
                    </a:lnTo>
                    <a:lnTo>
                      <a:pt x="189" y="129"/>
                    </a:lnTo>
                    <a:lnTo>
                      <a:pt x="202" y="132"/>
                    </a:lnTo>
                    <a:lnTo>
                      <a:pt x="214" y="134"/>
                    </a:lnTo>
                    <a:lnTo>
                      <a:pt x="226" y="136"/>
                    </a:lnTo>
                    <a:lnTo>
                      <a:pt x="236" y="137"/>
                    </a:lnTo>
                    <a:lnTo>
                      <a:pt x="247" y="139"/>
                    </a:lnTo>
                    <a:lnTo>
                      <a:pt x="257" y="141"/>
                    </a:lnTo>
                    <a:lnTo>
                      <a:pt x="267" y="142"/>
                    </a:lnTo>
                    <a:lnTo>
                      <a:pt x="277" y="144"/>
                    </a:lnTo>
                    <a:lnTo>
                      <a:pt x="289" y="146"/>
                    </a:lnTo>
                    <a:lnTo>
                      <a:pt x="299" y="146"/>
                    </a:lnTo>
                    <a:lnTo>
                      <a:pt x="310" y="147"/>
                    </a:lnTo>
                    <a:lnTo>
                      <a:pt x="323" y="149"/>
                    </a:lnTo>
                    <a:lnTo>
                      <a:pt x="335" y="149"/>
                    </a:lnTo>
                    <a:lnTo>
                      <a:pt x="348" y="151"/>
                    </a:lnTo>
                    <a:lnTo>
                      <a:pt x="363" y="152"/>
                    </a:lnTo>
                    <a:lnTo>
                      <a:pt x="378" y="154"/>
                    </a:lnTo>
                    <a:lnTo>
                      <a:pt x="395" y="154"/>
                    </a:lnTo>
                    <a:lnTo>
                      <a:pt x="412" y="156"/>
                    </a:lnTo>
                    <a:lnTo>
                      <a:pt x="431" y="157"/>
                    </a:lnTo>
                    <a:lnTo>
                      <a:pt x="451" y="161"/>
                    </a:lnTo>
                    <a:lnTo>
                      <a:pt x="474" y="162"/>
                    </a:lnTo>
                    <a:lnTo>
                      <a:pt x="493" y="164"/>
                    </a:lnTo>
                    <a:lnTo>
                      <a:pt x="513" y="166"/>
                    </a:lnTo>
                    <a:lnTo>
                      <a:pt x="535" y="167"/>
                    </a:lnTo>
                    <a:lnTo>
                      <a:pt x="556" y="169"/>
                    </a:lnTo>
                    <a:lnTo>
                      <a:pt x="580" y="171"/>
                    </a:lnTo>
                    <a:lnTo>
                      <a:pt x="604" y="172"/>
                    </a:lnTo>
                    <a:lnTo>
                      <a:pt x="628" y="174"/>
                    </a:lnTo>
                    <a:lnTo>
                      <a:pt x="654" y="176"/>
                    </a:lnTo>
                    <a:lnTo>
                      <a:pt x="681" y="176"/>
                    </a:lnTo>
                    <a:lnTo>
                      <a:pt x="707" y="176"/>
                    </a:lnTo>
                    <a:lnTo>
                      <a:pt x="736" y="176"/>
                    </a:lnTo>
                    <a:lnTo>
                      <a:pt x="764" y="176"/>
                    </a:lnTo>
                    <a:lnTo>
                      <a:pt x="794" y="174"/>
                    </a:lnTo>
                    <a:lnTo>
                      <a:pt x="823" y="172"/>
                    </a:lnTo>
                    <a:lnTo>
                      <a:pt x="855" y="171"/>
                    </a:lnTo>
                    <a:lnTo>
                      <a:pt x="885" y="167"/>
                    </a:lnTo>
                    <a:lnTo>
                      <a:pt x="918" y="164"/>
                    </a:lnTo>
                    <a:lnTo>
                      <a:pt x="949" y="159"/>
                    </a:lnTo>
                    <a:lnTo>
                      <a:pt x="982" y="154"/>
                    </a:lnTo>
                    <a:lnTo>
                      <a:pt x="1015" y="147"/>
                    </a:lnTo>
                    <a:lnTo>
                      <a:pt x="1049" y="141"/>
                    </a:lnTo>
                    <a:lnTo>
                      <a:pt x="1082" y="132"/>
                    </a:lnTo>
                    <a:lnTo>
                      <a:pt x="1116" y="122"/>
                    </a:lnTo>
                    <a:lnTo>
                      <a:pt x="1150" y="112"/>
                    </a:lnTo>
                    <a:lnTo>
                      <a:pt x="1185" y="101"/>
                    </a:lnTo>
                    <a:lnTo>
                      <a:pt x="1219" y="87"/>
                    </a:lnTo>
                    <a:lnTo>
                      <a:pt x="1255" y="72"/>
                    </a:lnTo>
                    <a:lnTo>
                      <a:pt x="1289" y="57"/>
                    </a:lnTo>
                    <a:lnTo>
                      <a:pt x="1324" y="39"/>
                    </a:lnTo>
                    <a:lnTo>
                      <a:pt x="1359" y="20"/>
                    </a:lnTo>
                    <a:lnTo>
                      <a:pt x="1395" y="0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42440" y="43538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247" h="267">
                    <a:moveTo>
                      <a:pt x="247" y="0"/>
                    </a:moveTo>
                    <a:lnTo>
                      <a:pt x="103" y="267"/>
                    </a:lnTo>
                    <a:lnTo>
                      <a:pt x="101" y="226"/>
                    </a:lnTo>
                    <a:lnTo>
                      <a:pt x="93" y="182"/>
                    </a:lnTo>
                    <a:lnTo>
                      <a:pt x="82" y="142"/>
                    </a:lnTo>
                    <a:lnTo>
                      <a:pt x="67" y="104"/>
                    </a:lnTo>
                    <a:lnTo>
                      <a:pt x="48" y="69"/>
                    </a:lnTo>
                    <a:lnTo>
                      <a:pt x="25" y="37"/>
                    </a:lnTo>
                    <a:lnTo>
                      <a:pt x="0" y="1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725400">
                <a:off x="3782880" y="4583520"/>
                <a:ext cx="121680" cy="27000"/>
              </a:xfrm>
              <a:custGeom>
                <a:avLst/>
                <a:gdLst/>
                <a:ahLst/>
                <a:rect l="l" t="t" r="r" b="b"/>
                <a:pathLst>
                  <a:path w="436" h="121">
                    <a:moveTo>
                      <a:pt x="0" y="109"/>
                    </a:moveTo>
                    <a:lnTo>
                      <a:pt x="17" y="111"/>
                    </a:lnTo>
                    <a:lnTo>
                      <a:pt x="34" y="114"/>
                    </a:lnTo>
                    <a:lnTo>
                      <a:pt x="51" y="116"/>
                    </a:lnTo>
                    <a:lnTo>
                      <a:pt x="66" y="117"/>
                    </a:lnTo>
                    <a:lnTo>
                      <a:pt x="81" y="119"/>
                    </a:lnTo>
                    <a:lnTo>
                      <a:pt x="97" y="119"/>
                    </a:lnTo>
                    <a:lnTo>
                      <a:pt x="112" y="119"/>
                    </a:lnTo>
                    <a:lnTo>
                      <a:pt x="126" y="121"/>
                    </a:lnTo>
                    <a:lnTo>
                      <a:pt x="141" y="119"/>
                    </a:lnTo>
                    <a:lnTo>
                      <a:pt x="157" y="119"/>
                    </a:lnTo>
                    <a:lnTo>
                      <a:pt x="172" y="117"/>
                    </a:lnTo>
                    <a:lnTo>
                      <a:pt x="187" y="116"/>
                    </a:lnTo>
                    <a:lnTo>
                      <a:pt x="202" y="112"/>
                    </a:lnTo>
                    <a:lnTo>
                      <a:pt x="217" y="109"/>
                    </a:lnTo>
                    <a:lnTo>
                      <a:pt x="233" y="106"/>
                    </a:lnTo>
                    <a:lnTo>
                      <a:pt x="249" y="101"/>
                    </a:lnTo>
                    <a:lnTo>
                      <a:pt x="266" y="96"/>
                    </a:lnTo>
                    <a:lnTo>
                      <a:pt x="283" y="89"/>
                    </a:lnTo>
                    <a:lnTo>
                      <a:pt x="300" y="82"/>
                    </a:lnTo>
                    <a:lnTo>
                      <a:pt x="318" y="74"/>
                    </a:lnTo>
                    <a:lnTo>
                      <a:pt x="337" y="66"/>
                    </a:lnTo>
                    <a:lnTo>
                      <a:pt x="356" y="54"/>
                    </a:lnTo>
                    <a:lnTo>
                      <a:pt x="375" y="42"/>
                    </a:lnTo>
                    <a:lnTo>
                      <a:pt x="395" y="31"/>
                    </a:lnTo>
                    <a:lnTo>
                      <a:pt x="415" y="16"/>
                    </a:lnTo>
                    <a:lnTo>
                      <a:pt x="436" y="0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89640" y="4391640"/>
                <a:ext cx="221040" cy="108720"/>
              </a:xfrm>
              <a:custGeom>
                <a:avLst/>
                <a:gdLst/>
                <a:ahLst/>
                <a:rect l="l" t="t" r="r" b="b"/>
                <a:pathLst>
                  <a:path w="1105" h="501">
                    <a:moveTo>
                      <a:pt x="0" y="9"/>
                    </a:moveTo>
                    <a:lnTo>
                      <a:pt x="65" y="4"/>
                    </a:lnTo>
                    <a:lnTo>
                      <a:pt x="125" y="2"/>
                    </a:lnTo>
                    <a:lnTo>
                      <a:pt x="183" y="0"/>
                    </a:lnTo>
                    <a:lnTo>
                      <a:pt x="239" y="2"/>
                    </a:lnTo>
                    <a:lnTo>
                      <a:pt x="290" y="5"/>
                    </a:lnTo>
                    <a:lnTo>
                      <a:pt x="338" y="9"/>
                    </a:lnTo>
                    <a:lnTo>
                      <a:pt x="385" y="15"/>
                    </a:lnTo>
                    <a:lnTo>
                      <a:pt x="429" y="22"/>
                    </a:lnTo>
                    <a:lnTo>
                      <a:pt x="471" y="30"/>
                    </a:lnTo>
                    <a:lnTo>
                      <a:pt x="510" y="40"/>
                    </a:lnTo>
                    <a:lnTo>
                      <a:pt x="546" y="52"/>
                    </a:lnTo>
                    <a:lnTo>
                      <a:pt x="582" y="64"/>
                    </a:lnTo>
                    <a:lnTo>
                      <a:pt x="614" y="75"/>
                    </a:lnTo>
                    <a:lnTo>
                      <a:pt x="646" y="90"/>
                    </a:lnTo>
                    <a:lnTo>
                      <a:pt x="676" y="104"/>
                    </a:lnTo>
                    <a:lnTo>
                      <a:pt x="705" y="120"/>
                    </a:lnTo>
                    <a:lnTo>
                      <a:pt x="732" y="135"/>
                    </a:lnTo>
                    <a:lnTo>
                      <a:pt x="754" y="149"/>
                    </a:lnTo>
                    <a:lnTo>
                      <a:pt x="775" y="164"/>
                    </a:lnTo>
                    <a:lnTo>
                      <a:pt x="796" y="179"/>
                    </a:lnTo>
                    <a:lnTo>
                      <a:pt x="816" y="194"/>
                    </a:lnTo>
                    <a:lnTo>
                      <a:pt x="836" y="211"/>
                    </a:lnTo>
                    <a:lnTo>
                      <a:pt x="855" y="227"/>
                    </a:lnTo>
                    <a:lnTo>
                      <a:pt x="875" y="246"/>
                    </a:lnTo>
                    <a:lnTo>
                      <a:pt x="896" y="264"/>
                    </a:lnTo>
                    <a:lnTo>
                      <a:pt x="916" y="286"/>
                    </a:lnTo>
                    <a:lnTo>
                      <a:pt x="936" y="306"/>
                    </a:lnTo>
                    <a:lnTo>
                      <a:pt x="957" y="329"/>
                    </a:lnTo>
                    <a:lnTo>
                      <a:pt x="980" y="354"/>
                    </a:lnTo>
                    <a:lnTo>
                      <a:pt x="1003" y="379"/>
                    </a:lnTo>
                    <a:lnTo>
                      <a:pt x="1027" y="408"/>
                    </a:lnTo>
                    <a:lnTo>
                      <a:pt x="1051" y="436"/>
                    </a:lnTo>
                    <a:lnTo>
                      <a:pt x="1077" y="468"/>
                    </a:lnTo>
                    <a:lnTo>
                      <a:pt x="1105" y="501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55800" y="4360680"/>
                <a:ext cx="45360" cy="62640"/>
              </a:xfrm>
              <a:custGeom>
                <a:avLst/>
                <a:gdLst/>
                <a:ahLst/>
                <a:rect l="l" t="t" r="r" b="b"/>
                <a:pathLst>
                  <a:path w="229" h="290">
                    <a:moveTo>
                      <a:pt x="0" y="170"/>
                    </a:moveTo>
                    <a:lnTo>
                      <a:pt x="211" y="0"/>
                    </a:lnTo>
                    <a:lnTo>
                      <a:pt x="200" y="40"/>
                    </a:lnTo>
                    <a:lnTo>
                      <a:pt x="195" y="83"/>
                    </a:lnTo>
                    <a:lnTo>
                      <a:pt x="193" y="126"/>
                    </a:lnTo>
                    <a:lnTo>
                      <a:pt x="195" y="170"/>
                    </a:lnTo>
                    <a:lnTo>
                      <a:pt x="203" y="212"/>
                    </a:lnTo>
                    <a:lnTo>
                      <a:pt x="214" y="252"/>
                    </a:lnTo>
                    <a:lnTo>
                      <a:pt x="229" y="29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00440" y="4218840"/>
                <a:ext cx="314640" cy="53280"/>
              </a:xfrm>
              <a:custGeom>
                <a:avLst/>
                <a:gdLst/>
                <a:ahLst/>
                <a:rect l="l" t="t" r="r" b="b"/>
                <a:pathLst>
                  <a:path w="1101" h="244">
                    <a:moveTo>
                      <a:pt x="0" y="20"/>
                    </a:moveTo>
                    <a:lnTo>
                      <a:pt x="32" y="37"/>
                    </a:lnTo>
                    <a:lnTo>
                      <a:pt x="63" y="54"/>
                    </a:lnTo>
                    <a:lnTo>
                      <a:pt x="92" y="69"/>
                    </a:lnTo>
                    <a:lnTo>
                      <a:pt x="121" y="86"/>
                    </a:lnTo>
                    <a:lnTo>
                      <a:pt x="149" y="101"/>
                    </a:lnTo>
                    <a:lnTo>
                      <a:pt x="177" y="116"/>
                    </a:lnTo>
                    <a:lnTo>
                      <a:pt x="203" y="131"/>
                    </a:lnTo>
                    <a:lnTo>
                      <a:pt x="228" y="144"/>
                    </a:lnTo>
                    <a:lnTo>
                      <a:pt x="254" y="157"/>
                    </a:lnTo>
                    <a:lnTo>
                      <a:pt x="279" y="169"/>
                    </a:lnTo>
                    <a:lnTo>
                      <a:pt x="303" y="181"/>
                    </a:lnTo>
                    <a:lnTo>
                      <a:pt x="327" y="192"/>
                    </a:lnTo>
                    <a:lnTo>
                      <a:pt x="351" y="202"/>
                    </a:lnTo>
                    <a:lnTo>
                      <a:pt x="375" y="211"/>
                    </a:lnTo>
                    <a:lnTo>
                      <a:pt x="399" y="219"/>
                    </a:lnTo>
                    <a:lnTo>
                      <a:pt x="422" y="226"/>
                    </a:lnTo>
                    <a:lnTo>
                      <a:pt x="446" y="233"/>
                    </a:lnTo>
                    <a:lnTo>
                      <a:pt x="470" y="238"/>
                    </a:lnTo>
                    <a:lnTo>
                      <a:pt x="494" y="241"/>
                    </a:lnTo>
                    <a:lnTo>
                      <a:pt x="520" y="244"/>
                    </a:lnTo>
                    <a:lnTo>
                      <a:pt x="544" y="244"/>
                    </a:lnTo>
                    <a:lnTo>
                      <a:pt x="567" y="244"/>
                    </a:lnTo>
                    <a:lnTo>
                      <a:pt x="591" y="243"/>
                    </a:lnTo>
                    <a:lnTo>
                      <a:pt x="617" y="241"/>
                    </a:lnTo>
                    <a:lnTo>
                      <a:pt x="642" y="236"/>
                    </a:lnTo>
                    <a:lnTo>
                      <a:pt x="667" y="231"/>
                    </a:lnTo>
                    <a:lnTo>
                      <a:pt x="694" y="224"/>
                    </a:lnTo>
                    <a:lnTo>
                      <a:pt x="721" y="216"/>
                    </a:lnTo>
                    <a:lnTo>
                      <a:pt x="749" y="207"/>
                    </a:lnTo>
                    <a:lnTo>
                      <a:pt x="777" y="196"/>
                    </a:lnTo>
                    <a:lnTo>
                      <a:pt x="806" y="184"/>
                    </a:lnTo>
                    <a:lnTo>
                      <a:pt x="836" y="171"/>
                    </a:lnTo>
                    <a:lnTo>
                      <a:pt x="866" y="154"/>
                    </a:lnTo>
                    <a:lnTo>
                      <a:pt x="898" y="137"/>
                    </a:lnTo>
                    <a:lnTo>
                      <a:pt x="929" y="119"/>
                    </a:lnTo>
                    <a:lnTo>
                      <a:pt x="962" y="99"/>
                    </a:lnTo>
                    <a:lnTo>
                      <a:pt x="995" y="77"/>
                    </a:lnTo>
                    <a:lnTo>
                      <a:pt x="1030" y="52"/>
                    </a:lnTo>
                    <a:lnTo>
                      <a:pt x="1064" y="27"/>
                    </a:lnTo>
                    <a:lnTo>
                      <a:pt x="1101" y="0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2760" y="4266360"/>
                <a:ext cx="197640" cy="59040"/>
              </a:xfrm>
              <a:custGeom>
                <a:avLst/>
                <a:gdLst/>
                <a:ahLst/>
                <a:rect l="l" t="t" r="r" b="b"/>
                <a:pathLst>
                  <a:path w="690" h="274">
                    <a:moveTo>
                      <a:pt x="0" y="0"/>
                    </a:moveTo>
                    <a:lnTo>
                      <a:pt x="32" y="9"/>
                    </a:lnTo>
                    <a:lnTo>
                      <a:pt x="59" y="16"/>
                    </a:lnTo>
                    <a:lnTo>
                      <a:pt x="84" y="22"/>
                    </a:lnTo>
                    <a:lnTo>
                      <a:pt x="106" y="29"/>
                    </a:lnTo>
                    <a:lnTo>
                      <a:pt x="126" y="34"/>
                    </a:lnTo>
                    <a:lnTo>
                      <a:pt x="144" y="37"/>
                    </a:lnTo>
                    <a:lnTo>
                      <a:pt x="160" y="42"/>
                    </a:lnTo>
                    <a:lnTo>
                      <a:pt x="174" y="46"/>
                    </a:lnTo>
                    <a:lnTo>
                      <a:pt x="188" y="51"/>
                    </a:lnTo>
                    <a:lnTo>
                      <a:pt x="200" y="54"/>
                    </a:lnTo>
                    <a:lnTo>
                      <a:pt x="212" y="57"/>
                    </a:lnTo>
                    <a:lnTo>
                      <a:pt x="224" y="61"/>
                    </a:lnTo>
                    <a:lnTo>
                      <a:pt x="236" y="64"/>
                    </a:lnTo>
                    <a:lnTo>
                      <a:pt x="248" y="67"/>
                    </a:lnTo>
                    <a:lnTo>
                      <a:pt x="262" y="71"/>
                    </a:lnTo>
                    <a:lnTo>
                      <a:pt x="276" y="76"/>
                    </a:lnTo>
                    <a:lnTo>
                      <a:pt x="289" y="79"/>
                    </a:lnTo>
                    <a:lnTo>
                      <a:pt x="303" y="82"/>
                    </a:lnTo>
                    <a:lnTo>
                      <a:pt x="316" y="86"/>
                    </a:lnTo>
                    <a:lnTo>
                      <a:pt x="333" y="91"/>
                    </a:lnTo>
                    <a:lnTo>
                      <a:pt x="349" y="97"/>
                    </a:lnTo>
                    <a:lnTo>
                      <a:pt x="369" y="104"/>
                    </a:lnTo>
                    <a:lnTo>
                      <a:pt x="390" y="112"/>
                    </a:lnTo>
                    <a:lnTo>
                      <a:pt x="412" y="122"/>
                    </a:lnTo>
                    <a:lnTo>
                      <a:pt x="437" y="134"/>
                    </a:lnTo>
                    <a:lnTo>
                      <a:pt x="465" y="147"/>
                    </a:lnTo>
                    <a:lnTo>
                      <a:pt x="495" y="162"/>
                    </a:lnTo>
                    <a:lnTo>
                      <a:pt x="528" y="179"/>
                    </a:lnTo>
                    <a:lnTo>
                      <a:pt x="564" y="199"/>
                    </a:lnTo>
                    <a:lnTo>
                      <a:pt x="603" y="221"/>
                    </a:lnTo>
                    <a:lnTo>
                      <a:pt x="644" y="246"/>
                    </a:lnTo>
                    <a:lnTo>
                      <a:pt x="690" y="274"/>
                    </a:ln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67680" y="420516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5" h="275">
                    <a:moveTo>
                      <a:pt x="0" y="37"/>
                    </a:moveTo>
                    <a:lnTo>
                      <a:pt x="245" y="0"/>
                    </a:lnTo>
                    <a:lnTo>
                      <a:pt x="223" y="32"/>
                    </a:lnTo>
                    <a:lnTo>
                      <a:pt x="204" y="67"/>
                    </a:lnTo>
                    <a:lnTo>
                      <a:pt x="189" y="105"/>
                    </a:lnTo>
                    <a:lnTo>
                      <a:pt x="177" y="145"/>
                    </a:lnTo>
                    <a:lnTo>
                      <a:pt x="171" y="189"/>
                    </a:lnTo>
                    <a:lnTo>
                      <a:pt x="168" y="232"/>
                    </a:lnTo>
                    <a:lnTo>
                      <a:pt x="170" y="27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85560" y="420408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7" h="280">
                    <a:moveTo>
                      <a:pt x="247" y="0"/>
                    </a:moveTo>
                    <a:lnTo>
                      <a:pt x="119" y="280"/>
                    </a:lnTo>
                    <a:lnTo>
                      <a:pt x="112" y="237"/>
                    </a:lnTo>
                    <a:lnTo>
                      <a:pt x="104" y="195"/>
                    </a:lnTo>
                    <a:lnTo>
                      <a:pt x="90" y="155"/>
                    </a:lnTo>
                    <a:lnTo>
                      <a:pt x="72" y="118"/>
                    </a:lnTo>
                    <a:lnTo>
                      <a:pt x="52" y="87"/>
                    </a:lnTo>
                    <a:lnTo>
                      <a:pt x="28" y="57"/>
                    </a:lnTo>
                    <a:lnTo>
                      <a:pt x="0" y="32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83400" y="430128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7" h="262">
                    <a:moveTo>
                      <a:pt x="247" y="261"/>
                    </a:moveTo>
                    <a:lnTo>
                      <a:pt x="0" y="262"/>
                    </a:lnTo>
                    <a:lnTo>
                      <a:pt x="25" y="234"/>
                    </a:lnTo>
                    <a:lnTo>
                      <a:pt x="46" y="201"/>
                    </a:lnTo>
                    <a:lnTo>
                      <a:pt x="64" y="166"/>
                    </a:lnTo>
                    <a:lnTo>
                      <a:pt x="79" y="127"/>
                    </a:lnTo>
                    <a:lnTo>
                      <a:pt x="89" y="86"/>
                    </a:lnTo>
                    <a:lnTo>
                      <a:pt x="95" y="44"/>
                    </a:lnTo>
                    <a:lnTo>
                      <a:pt x="98" y="0"/>
                    </a:lnTo>
                    <a:lnTo>
                      <a:pt x="247" y="261"/>
                    </a:lnTo>
                    <a:close/>
                  </a:path>
                </a:pathLst>
              </a:custGeom>
              <a:solidFill>
                <a:srgbClr val="ffffcc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84400" y="4572000"/>
                <a:ext cx="49320" cy="45360"/>
              </a:xfrm>
              <a:custGeom>
                <a:avLst/>
                <a:gdLst/>
                <a:ahLst/>
                <a:rect l="l" t="t" r="r" b="b"/>
                <a:pathLst>
                  <a:path w="244" h="286">
                    <a:moveTo>
                      <a:pt x="244" y="0"/>
                    </a:moveTo>
                    <a:lnTo>
                      <a:pt x="123" y="286"/>
                    </a:lnTo>
                    <a:lnTo>
                      <a:pt x="117" y="244"/>
                    </a:lnTo>
                    <a:lnTo>
                      <a:pt x="105" y="202"/>
                    </a:lnTo>
                    <a:lnTo>
                      <a:pt x="92" y="164"/>
                    </a:lnTo>
                    <a:lnTo>
                      <a:pt x="73" y="127"/>
                    </a:lnTo>
                    <a:lnTo>
                      <a:pt x="51" y="95"/>
                    </a:lnTo>
                    <a:lnTo>
                      <a:pt x="26" y="67"/>
                    </a:lnTo>
                    <a:lnTo>
                      <a:pt x="0" y="44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86560" y="4466160"/>
                <a:ext cx="48240" cy="66960"/>
              </a:xfrm>
              <a:custGeom>
                <a:avLst/>
                <a:gdLst/>
                <a:ahLst/>
                <a:rect l="l" t="t" r="r" b="b"/>
                <a:pathLst>
                  <a:path w="238" h="306">
                    <a:moveTo>
                      <a:pt x="238" y="306"/>
                    </a:moveTo>
                    <a:lnTo>
                      <a:pt x="0" y="217"/>
                    </a:lnTo>
                    <a:lnTo>
                      <a:pt x="30" y="199"/>
                    </a:lnTo>
                    <a:lnTo>
                      <a:pt x="58" y="175"/>
                    </a:lnTo>
                    <a:lnTo>
                      <a:pt x="83" y="147"/>
                    </a:lnTo>
                    <a:lnTo>
                      <a:pt x="105" y="115"/>
                    </a:lnTo>
                    <a:lnTo>
                      <a:pt x="124" y="80"/>
                    </a:lnTo>
                    <a:lnTo>
                      <a:pt x="139" y="42"/>
                    </a:lnTo>
                    <a:lnTo>
                      <a:pt x="150" y="0"/>
                    </a:lnTo>
                    <a:lnTo>
                      <a:pt x="238" y="30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3405240" y="4158360"/>
                <a:ext cx="438480" cy="478080"/>
                <a:chOff x="3405240" y="4158360"/>
                <a:chExt cx="438480" cy="4780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473280" y="4500360"/>
                  <a:ext cx="132480" cy="28800"/>
                </a:xfrm>
                <a:custGeom>
                  <a:avLst/>
                  <a:gdLst/>
                  <a:ahLst/>
                  <a:rect l="l" t="t" r="r" b="b"/>
                  <a:pathLst>
                    <a:path w="661" h="170">
                      <a:moveTo>
                        <a:pt x="590" y="0"/>
                      </a:move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661" y="0"/>
                      </a:lnTo>
                      <a:lnTo>
                        <a:pt x="0" y="0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03960" y="4500360"/>
                  <a:ext cx="128160" cy="28800"/>
                </a:xfrm>
                <a:custGeom>
                  <a:avLst/>
                  <a:gdLst/>
                  <a:ahLst/>
                  <a:rect l="l" t="t" r="r" b="b"/>
                  <a:pathLst>
                    <a:path w="644" h="170">
                      <a:moveTo>
                        <a:pt x="6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44" y="0"/>
                      </a:lnTo>
                      <a:lnTo>
                        <a:pt x="644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03960" y="4435200"/>
                  <a:ext cx="360" cy="39600"/>
                </a:xfrm>
                <a:custGeom>
                  <a:avLst/>
                  <a:gdLst/>
                  <a:ahLst/>
                  <a:rect l="l" t="t" r="r" b="b"/>
                  <a:pathLst>
                    <a:path w="0" h="239">
                      <a:moveTo>
                        <a:pt x="0" y="239"/>
                      </a:moveTo>
                      <a:lnTo>
                        <a:pt x="0" y="1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603960" y="4254120"/>
                  <a:ext cx="360" cy="119520"/>
                </a:xfrm>
                <a:custGeom>
                  <a:avLst/>
                  <a:gdLst/>
                  <a:ahLst/>
                  <a:rect l="l" t="t" r="r" b="b"/>
                  <a:pathLst>
                    <a:path w="0" h="697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0" y="69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91360" y="447480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120" h="147">
                      <a:moveTo>
                        <a:pt x="60" y="0"/>
                      </a:moveTo>
                      <a:lnTo>
                        <a:pt x="0" y="147"/>
                      </a:lnTo>
                      <a:lnTo>
                        <a:pt x="120" y="14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603960" y="4500360"/>
                  <a:ext cx="360" cy="28800"/>
                </a:xfrm>
                <a:custGeom>
                  <a:avLst/>
                  <a:gdLst/>
                  <a:ahLst/>
                  <a:rect l="l" t="t" r="r" b="b"/>
                  <a:pathLst>
                    <a:path w="0" h="170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0" y="17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600000" y="436428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0" y="27"/>
                      </a:move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33" y="7"/>
                      </a:lnTo>
                      <a:lnTo>
                        <a:pt x="39" y="15"/>
                      </a:lnTo>
                      <a:lnTo>
                        <a:pt x="42" y="27"/>
                      </a:lnTo>
                      <a:lnTo>
                        <a:pt x="39" y="39"/>
                      </a:lnTo>
                      <a:lnTo>
                        <a:pt x="33" y="49"/>
                      </a:lnTo>
                      <a:lnTo>
                        <a:pt x="26" y="54"/>
                      </a:lnTo>
                      <a:lnTo>
                        <a:pt x="17" y="54"/>
                      </a:lnTo>
                      <a:lnTo>
                        <a:pt x="8" y="49"/>
                      </a:lnTo>
                      <a:lnTo>
                        <a:pt x="3" y="3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3536640" y="4158360"/>
                  <a:ext cx="178200" cy="179640"/>
                  <a:chOff x="3536640" y="4158360"/>
                  <a:chExt cx="178200" cy="17964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3538440" y="4158360"/>
                    <a:ext cx="125280" cy="131760"/>
                    <a:chOff x="3538440" y="4158360"/>
                    <a:chExt cx="125280" cy="13176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3538440" y="4194720"/>
                      <a:ext cx="125280" cy="9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3538440" y="4158360"/>
                      <a:ext cx="125280" cy="36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" name=""/>
                  <p:cNvSpPr/>
                  <p:nvPr/>
                </p:nvSpPr>
                <p:spPr>
                  <a:xfrm>
                    <a:off x="3536640" y="4166640"/>
                    <a:ext cx="11196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43480" y="4202640"/>
                    <a:ext cx="171360" cy="135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ucture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treet_addre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ts val="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3523680" y="4374360"/>
                  <a:ext cx="193680" cy="79560"/>
                  <a:chOff x="3523680" y="4374360"/>
                  <a:chExt cx="193680" cy="79560"/>
                </a:xfrm>
              </p:grpSpPr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538440" y="4374360"/>
                    <a:ext cx="125280" cy="69840"/>
                    <a:chOff x="3538440" y="4374360"/>
                    <a:chExt cx="125280" cy="6984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538440" y="4393440"/>
                      <a:ext cx="1252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538440" y="4374360"/>
                      <a:ext cx="12528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5" name=""/>
                  <p:cNvSpPr/>
                  <p:nvPr/>
                </p:nvSpPr>
                <p:spPr>
                  <a:xfrm>
                    <a:off x="3523680" y="4384080"/>
                    <a:ext cx="12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536640" y="4399560"/>
                    <a:ext cx="18072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ID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equipment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3405240" y="4529160"/>
                  <a:ext cx="162720" cy="80280"/>
                  <a:chOff x="3405240" y="4529160"/>
                  <a:chExt cx="162720" cy="802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3405240" y="4529160"/>
                    <a:ext cx="124200" cy="68400"/>
                    <a:chOff x="3405240" y="4529160"/>
                    <a:chExt cx="124200" cy="6840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405240" y="4547880"/>
                      <a:ext cx="124200" cy="4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3405240" y="4529160"/>
                      <a:ext cx="12420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3440880" y="4529880"/>
                    <a:ext cx="388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414960" y="4555080"/>
                    <a:ext cx="15300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tap_valu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538800" y="4529160"/>
                  <a:ext cx="173160" cy="78840"/>
                  <a:chOff x="3538800" y="4529160"/>
                  <a:chExt cx="173160" cy="7884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3538800" y="4529160"/>
                    <a:ext cx="125280" cy="70560"/>
                    <a:chOff x="3538800" y="4529160"/>
                    <a:chExt cx="125280" cy="7056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3538800" y="4548600"/>
                      <a:ext cx="125280" cy="51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538800" y="4529160"/>
                      <a:ext cx="125280" cy="19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" name=""/>
                  <p:cNvSpPr/>
                  <p:nvPr/>
                </p:nvSpPr>
                <p:spPr>
                  <a:xfrm>
                    <a:off x="3549600" y="4529160"/>
                    <a:ext cx="874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splitt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545280" y="4553640"/>
                    <a:ext cx="166680" cy="5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1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nsertion_loss2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3674520" y="4529160"/>
                  <a:ext cx="169200" cy="107280"/>
                  <a:chOff x="3674520" y="4529160"/>
                  <a:chExt cx="169200" cy="10728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3674520" y="4529160"/>
                    <a:ext cx="124200" cy="69120"/>
                    <a:chOff x="3674520" y="4529160"/>
                    <a:chExt cx="124200" cy="6912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674520" y="4548240"/>
                      <a:ext cx="124200" cy="50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3674520" y="4529160"/>
                      <a:ext cx="12420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" name=""/>
                  <p:cNvSpPr/>
                  <p:nvPr/>
                </p:nvSpPr>
                <p:spPr>
                  <a:xfrm>
                    <a:off x="3676680" y="4532760"/>
                    <a:ext cx="109080" cy="2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682800" y="4555080"/>
                    <a:ext cx="160920" cy="8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amplifier_type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gai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" spc="-1" strike="noStrike">
                        <a:solidFill>
                          <a:srgbClr val="000000"/>
                        </a:solidFill>
                        <a:latin typeface="Arial"/>
                      </a:rPr>
                      <a:t>distortion</a:t>
                    </a:r>
                    <a:endParaRPr b="0" lang="en-US" sz="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3765600" y="4572000"/>
                <a:ext cx="49320" cy="48600"/>
              </a:xfrm>
              <a:custGeom>
                <a:avLst/>
                <a:gdLst/>
                <a:ahLst/>
                <a:rect l="l" t="t" r="r" b="b"/>
                <a:pathLst>
                  <a:path w="232" h="293">
                    <a:moveTo>
                      <a:pt x="0" y="114"/>
                    </a:moveTo>
                    <a:lnTo>
                      <a:pt x="232" y="0"/>
                    </a:lnTo>
                    <a:lnTo>
                      <a:pt x="215" y="39"/>
                    </a:lnTo>
                    <a:lnTo>
                      <a:pt x="204" y="79"/>
                    </a:lnTo>
                    <a:lnTo>
                      <a:pt x="195" y="121"/>
                    </a:lnTo>
                    <a:lnTo>
                      <a:pt x="191" y="164"/>
                    </a:lnTo>
                    <a:lnTo>
                      <a:pt x="193" y="207"/>
                    </a:lnTo>
                    <a:lnTo>
                      <a:pt x="198" y="251"/>
                    </a:lnTo>
                    <a:lnTo>
                      <a:pt x="207" y="293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573200" y="2806560"/>
              <a:ext cx="5771880" cy="3288960"/>
              <a:chOff x="1573200" y="2806560"/>
              <a:chExt cx="5771880" cy="32889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907960" y="3431160"/>
                <a:ext cx="1437120" cy="533520"/>
                <a:chOff x="5907960" y="3431160"/>
                <a:chExt cx="1437120" cy="5335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086520" y="343116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07960" y="3520440"/>
                  <a:ext cx="143712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Customer QoS Management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659960" y="3617640"/>
                <a:ext cx="1068480" cy="533520"/>
                <a:chOff x="1659960" y="3617640"/>
                <a:chExt cx="1068480" cy="5335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659960" y="361764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748880" y="3704760"/>
                  <a:ext cx="89208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ervice Plann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63720" y="5028480"/>
                <a:ext cx="1068480" cy="533520"/>
                <a:chOff x="1863720" y="5028480"/>
                <a:chExt cx="1068480" cy="533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63720" y="502848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50840" y="5117400"/>
                  <a:ext cx="89424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ales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573200" y="4318200"/>
                <a:ext cx="1068480" cy="533520"/>
                <a:chOff x="1573200" y="4318200"/>
                <a:chExt cx="1068480" cy="533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573200" y="431820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659960" y="4405320"/>
                  <a:ext cx="8942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Order Handl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403960" y="2806560"/>
                <a:ext cx="1436760" cy="533520"/>
                <a:chOff x="5403960" y="2806560"/>
                <a:chExt cx="1436760" cy="533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582520" y="280656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03960" y="2893680"/>
                  <a:ext cx="143676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Problem Handl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226120" y="4839840"/>
                <a:ext cx="1436040" cy="533520"/>
                <a:chOff x="5226120" y="4839840"/>
                <a:chExt cx="1436040" cy="5335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03600" y="483984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26120" y="4926960"/>
                  <a:ext cx="14360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Network Data Management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293360" y="5474520"/>
                <a:ext cx="1436040" cy="533520"/>
                <a:chOff x="4293360" y="5474520"/>
                <a:chExt cx="1436040" cy="533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470840" y="547452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293360" y="5563800"/>
                  <a:ext cx="14360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Rating and Discount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32200" y="5562000"/>
                <a:ext cx="1435680" cy="533520"/>
                <a:chOff x="2932200" y="5562000"/>
                <a:chExt cx="1435680" cy="533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110760" y="5562000"/>
                  <a:ext cx="106812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32200" y="5651280"/>
                  <a:ext cx="143568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Invoicing and Collection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035440" y="2928240"/>
                <a:ext cx="1438200" cy="533520"/>
                <a:chOff x="2035440" y="2928240"/>
                <a:chExt cx="1438200" cy="5335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214000" y="292824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35440" y="3017520"/>
                  <a:ext cx="14382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ervice Configuration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907960" y="4130640"/>
                <a:ext cx="1437120" cy="533520"/>
                <a:chOff x="5907960" y="4130640"/>
                <a:chExt cx="1437120" cy="533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086520" y="4130640"/>
                  <a:ext cx="106848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07960" y="4217760"/>
                  <a:ext cx="143712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9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6bf69"/>
                      </a:solidFill>
                      <a:latin typeface="Arial"/>
                    </a:rPr>
                    <a:t>Service Pblm Resolution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2120" y="2743200"/>
            <a:ext cx="7556400" cy="3552480"/>
            <a:chOff x="762120" y="2743200"/>
            <a:chExt cx="7556400" cy="3552480"/>
          </a:xfrm>
        </p:grpSpPr>
        <p:grpSp>
          <p:nvGrpSpPr>
            <p:cNvPr id="268" name=""/>
            <p:cNvGrpSpPr/>
            <p:nvPr/>
          </p:nvGrpSpPr>
          <p:grpSpPr>
            <a:xfrm>
              <a:off x="762120" y="3211200"/>
              <a:ext cx="1752480" cy="1070640"/>
              <a:chOff x="762120" y="3211200"/>
              <a:chExt cx="1752480" cy="1070640"/>
            </a:xfrm>
          </p:grpSpPr>
          <p:sp>
            <p:nvSpPr>
              <p:cNvPr id="269" name=""/>
              <p:cNvSpPr/>
              <p:nvPr/>
            </p:nvSpPr>
            <p:spPr>
              <a:xfrm>
                <a:off x="762120" y="3211200"/>
                <a:ext cx="1752480" cy="107064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2120" y="3588840"/>
                <a:ext cx="17524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9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33"/>
                    </a:solidFill>
                    <a:latin typeface="Arial"/>
                  </a:rPr>
                  <a:t>Modeling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81280" y="3211200"/>
              <a:ext cx="1752840" cy="1070640"/>
              <a:chOff x="3581280" y="3211200"/>
              <a:chExt cx="1752840" cy="1070640"/>
            </a:xfrm>
          </p:grpSpPr>
          <p:sp>
            <p:nvSpPr>
              <p:cNvPr id="272" name=""/>
              <p:cNvSpPr/>
              <p:nvPr/>
            </p:nvSpPr>
            <p:spPr>
              <a:xfrm>
                <a:off x="3581280" y="3211200"/>
                <a:ext cx="1752840" cy="107064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81280" y="3588840"/>
                <a:ext cx="1752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9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33"/>
                    </a:solidFill>
                    <a:latin typeface="Arial"/>
                  </a:rPr>
                  <a:t>Mapping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743200" y="3526200"/>
              <a:ext cx="609480" cy="440280"/>
            </a:xfrm>
            <a:prstGeom prst="rightArrow">
              <a:avLst>
                <a:gd name="adj1" fmla="val 50000"/>
                <a:gd name="adj2" fmla="val 34608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324480" y="3211200"/>
              <a:ext cx="1752840" cy="1070640"/>
              <a:chOff x="6324480" y="3211200"/>
              <a:chExt cx="1752840" cy="1070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324480" y="3211200"/>
                <a:ext cx="1752840" cy="1070640"/>
              </a:xfrm>
              <a:prstGeom prst="rect">
                <a:avLst/>
              </a:prstGeom>
              <a:solidFill>
                <a:srgbClr val="ff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24480" y="3588840"/>
                <a:ext cx="17528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9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33"/>
                    </a:solidFill>
                    <a:latin typeface="Arial"/>
                  </a:rPr>
                  <a:t>Messaging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486400" y="3526200"/>
              <a:ext cx="609480" cy="440280"/>
            </a:xfrm>
            <a:prstGeom prst="rightArrow">
              <a:avLst>
                <a:gd name="adj1" fmla="val 50000"/>
                <a:gd name="adj2" fmla="val 34608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4469400"/>
              <a:ext cx="198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Rational Ros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2680" y="4469400"/>
              <a:ext cx="27432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Universal Data Acces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ttribute &amp; object mapping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Syntactic (naming) chang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Semantic (algorithmic) chang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Key (ID) chang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100000"/>
                </a:lnSpc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Logic to choose from multiple source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7440" y="4469400"/>
              <a:ext cx="1981080" cy="13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Transaction Processor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MO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106200" indent="-106200">
                <a:lnSpc>
                  <a:spcPct val="89000"/>
                </a:lnSpc>
                <a:spcBef>
                  <a:spcPts val="1125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usinesswar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2958120"/>
              <a:ext cx="0" cy="333756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2958120"/>
              <a:ext cx="0" cy="333756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05320" y="2743200"/>
              <a:ext cx="1981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06200" indent="-106200" algn="ctr">
                <a:lnSpc>
                  <a:spcPct val="89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DA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Rational Rose to simplify the mapping of the incoming and outgoing data models to each 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Data Access Services for Enterprise Application Integrati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igs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Information + Graphic Systems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ig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cp:lastPrinted>1999-03-08T19:58:07Z</cp:lastPrinted>
  <dcterms:modified xsi:type="dcterms:W3CDTF">1999-03-12T22:09:23Z</dcterms:modified>
  <cp:revision>27</cp:revision>
  <dc:subject/>
  <dc:title>No Slide Title</dc:title>
</cp:coreProperties>
</file>