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9BB-70EF-4B67-9CD3-3381758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6D7-C59A-42D6-AC73-B777A83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EE3-8B32-4424-B909-7EE2EE67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85D-7011-4B21-88BB-1BED0F46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008D-5BB7-4141-B2A4-17345A50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3F91-6EFE-4EB4-996E-0ABE926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21AB-C08D-4A67-B43D-E421E27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34A-DF4A-49FD-B009-8229C966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D601-C735-4476-A22C-4FB880A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16A-3EF6-49B6-AEB5-2BB86944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C490-1A24-4719-9BB5-3A76760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D46-6CBD-4A06-A9C6-48233144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EAC-A1CE-47F1-8F36-361A881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7361-5985-4CC5-8DEE-1EE1279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364C-CA3E-458C-A9AB-E4F39EA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E650-B831-4635-988D-047F28F7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98F7-F5C0-42F2-93BE-9F8764BB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0F9-67C8-466D-9C55-6C4FFA22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D26-A448-4B9B-9D55-6994C5E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766-2FE0-4B16-AF07-727DCBF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817-8A68-40D7-BB29-CF5D398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4FF-2F3E-4B00-929B-E3CBEF9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09F-5C8B-40B6-8661-D616506A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A4E-196B-4945-8556-25DBBB6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A70-4F35-4B06-AB71-8CAA07D2EF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4356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graphicFrame>
        <p:nvGraphicFramePr>
          <p:cNvPr id="11" name=""/>
          <p:cNvGraphicFramePr/>
          <p:nvPr/>
        </p:nvGraphicFramePr>
        <p:xfrm>
          <a:off x="152280" y="6265800"/>
          <a:ext cx="14479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265800"/>
                    <a:ext cx="1447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E58A-7886-4C05-9666-7418F65CD4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Car Dealership Distributed Application Architecture Framewor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ign an architecture for a complex business with different and changing rules for each car manufacturer and dealership in different countries of LatinAmer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must support all the main business processes of the various car dealershi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must integrate smoothly with all the back office units (accounting,  receivables, taxes etc.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system must be as independent as possible on the current technolo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he system was designed using components identifying several levels of reuse, having a clear separation between the technology dependant components and business rules dependant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day, the system has been successfully installed in several dealers who sell vehicles from various manufacturers with different business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 Dealership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cardealer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r more information, please write to indudata@cable.net.co or visit the Indudata web site at www.indudata.com (currently under construc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2T20:35:28Z</dcterms:modified>
  <cp:revision>24</cp:revision>
  <dc:subject/>
  <dc:title>No Slide Title</dc:title>
</cp:coreProperties>
</file>