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2075-D44C-49A9-BB4B-88E780CC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surance Network Fees and Claims System created by InterAccess calculates and maintains fee schedules for a  managed care provider subsidiary of a major international insurance and financial services company conducting business from their New York City corporate headquar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esentation examines one of the sequence diagrams created for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siness objectives for the system w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, allow one fee schedule to be used by multipl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, manage a history of fee sched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, automatically approve a fe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, Assign fee schedule network fees to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ve, capture provider information which may be supplied to the referral system for non-network provi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isplay the bullets one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price Claims use case calculates a provider network fee for a claim submitted with a provider normal fee.  This use case has four scenario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eprice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ice in area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existing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cenario is documented with a sequence diagram which contains the objects and messages between the objects needed to carry out the functionality of the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65A-6A31-4C3F-8C5B-77699C34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5E7-5813-4F84-ABAC-39A3D8AE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2B0-DE80-4540-BD56-93D5EED0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899-CC1A-459C-98ED-AFF6CB75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5E80-A24E-4032-AAA5-AD4F3979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0029-CB44-40B0-828F-7A75BCE7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EDAF-4A32-4A18-A000-F1098423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06B2-28DF-48BB-AD1B-7185084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D0C4-DA81-4186-AF7D-8E5E1340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5724-F4EF-4260-8AC0-DF342C6D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D878-F801-4380-8CC0-5B590B1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087-C77A-4360-AA28-769ABD3E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47C6-FA2F-410E-854A-26AE36F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0FD-F149-427D-965C-F21E945F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62E1-12B0-42A7-8383-326EEAC0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D4C1-43D5-4680-A3E5-383A2D8A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B866-4932-4CCB-B934-2634D493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A37-6D24-40A5-B6FC-75125CFE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7BD-DBAF-4182-A018-B124D51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4BC-4FF2-45D4-9595-60C73C1E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1D4-BF20-4DFD-B551-D5D1A719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69B-E7EE-4026-A018-9D509EE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557-26FC-45B7-ABC6-8F4E8E29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A3E-EA9F-4D1B-A1AD-71319B7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9B6-5DFC-4BFC-B0FF-00C7B92E6C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8366-E6E0-4EAD-AABB-066965D7B4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nsurance Network Fees and Claim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Access, In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r client represented in this model is a managed care provider subsidiary of a major international insurance and financial services company conducting business from their New York City corporate headquart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ognizing software limitations, declining data integrity, and an enormous maintenance effort regarding their legacy system, our client decided to develop a new system, which could react smoothly to business opportunities and future grow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rice claims by entering claim information and receive a repriced amount for each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ad and utilize legacy claim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ility to review claim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ad proprietary information used in fee calcul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alculate provider fee schedules annuall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r’s fee sched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tain provider medical procedures, categories,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sign multiple providers the same fee sche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ad legacy provider’s fee schedules and other related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cally appro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 a PC based system with high end PC Servers to deliver on our require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the Rational Unified Process (RUP) as our software development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duce use cases to deliver our high level requirements and further identify application function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Rational Rose 98 to model th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nguage development dictated by client - Visual Bas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base development dictated by client - Orac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urance Network Fees and Claims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insurance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le Business Opportunity 6_0.doc on this CD contains additional information about the pro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le Reprice Claims Use Case.doc contains sample use case tex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InterAccess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interaccesscorp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4T02:28:56Z</dcterms:created>
  <dc:creator>Terry Quatrani</dc:creator>
  <dc:description/>
  <dc:language>en-US</dc:language>
  <cp:lastModifiedBy>Terry Quatrani</cp:lastModifiedBy>
  <dcterms:modified xsi:type="dcterms:W3CDTF">1999-03-12T20:58:19Z</dcterms:modified>
  <cp:revision>7</cp:revision>
  <dc:subject/>
  <dc:title>Insurance Network Fees and Claims</dc:title>
</cp:coreProperties>
</file>