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F19-9BD5-4DCC-A72C-EA95D415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708-8CE2-4294-9BE5-8B3FA4D3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C06-EBCA-40C4-9EBE-C0AA4F82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D46-60CC-49C7-83CE-55D32702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D3CF-7FAD-40F5-995F-959F7AE8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3C6B-4DF2-4137-B2A3-90E9CBD3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2E26-2C5B-4A4F-BCCB-31071194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80DD-C388-4920-94EB-4B4572EF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33F7-859D-4195-A145-95BBA7A2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7BE1-4E67-420C-B6A5-7083F163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9457-443E-4D71-9796-2359A5EF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D10-AE9C-4E71-AF5C-7129416A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CC4C-14AB-47B1-A5BD-F4171F18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A99A-EB29-4CAD-B2C3-5F16E160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A94B-EEA6-49F8-AA94-CD472546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DA3B-4343-49DA-ADF7-EEBEDD52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B327-A5DC-4A72-B1AC-7BE0E864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EA7-9597-4A86-B2AF-2FE8A7EB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26D-439C-4CFC-8CA9-3952F9C8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AF6-E79F-4FE3-9EC1-DE65767E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654-86A2-4B28-A4BE-272BB628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206-2615-409A-81E5-49525D8B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DA1-0C4C-46CC-89DC-A194183D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3D1-1578-4741-AAA9-3A8B690D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12A0-2BB8-414B-BA22-07518F29B0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38172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8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087A-0F63-45DA-8EDD-03E7C02A8C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eal Time Auction Syst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ex Systems In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ctioning in real time over the Web requires that many people connect and participate simultaneous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l-time Web applications that require human control interaction also require remote interfaces for controlling the softw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header2" descr=""/>
          <p:cNvPicPr/>
          <p:nvPr/>
        </p:nvPicPr>
        <p:blipFill>
          <a:blip r:embed="rId1"/>
          <a:stretch/>
        </p:blipFill>
        <p:spPr>
          <a:xfrm>
            <a:off x="0" y="5918040"/>
            <a:ext cx="9144000" cy="939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letely distributable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l-time synchronization of all compon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alability of the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ply the Publish Subscribe (or Observer GHJV94) Pattern to the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eate components that are independent of each other but which blindly output the appropriate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nsmit this data as messages through the Publish Subscribe mechani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l Time Auction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auction.mdl on this C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Metex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metex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Gamma, E., Helm, R., Johnson, R., and Vlissides, J.. Design Patterns: Elements of Reusable Object-Oriented Software. 1995, Addison Wesley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17:09:21Z</dcterms:created>
  <dc:creator>adrianai</dc:creator>
  <dc:description/>
  <dc:language>en-US</dc:language>
  <cp:lastModifiedBy>Brett Collins</cp:lastModifiedBy>
  <dcterms:modified xsi:type="dcterms:W3CDTF">1999-03-23T21:04:59Z</dcterms:modified>
  <cp:revision>12</cp:revision>
  <dc:subject/>
  <dc:title>No Slide Title</dc:title>
</cp:coreProperties>
</file>