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1E4-6A1F-402B-B5A7-9B83FF38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CEC-A9F2-441F-9A7C-91529B00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A08B-891E-4723-9F70-7F71A3DD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055-D3EC-4664-8C24-B758EA4D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D14A-3875-484A-B8EA-5C51AF01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0C51-49D3-4BD8-94C2-5B31E3B4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B14E-AB4C-4DE8-95E2-7BB4D812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CE82-5ECE-4398-9199-4BE9AF2E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95ED-A508-4D4C-A71F-98EFF8CE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217B-DA52-45E2-A03C-AC95ADFA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6D4B-0933-4184-931E-1532C2FA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722D-66A5-4562-B640-B8E8ACFB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50AB-B720-4E0E-9B5F-FD9CB463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CE4F-0A11-4CE2-9505-5ADAB574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3283-ED6F-46CA-AD16-237A0843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609D-5DEF-46CD-96C5-BAC7B696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76E8-6B7A-4225-A9D5-1700BD19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FE96-EEC5-4063-B394-73EA9BB6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5AB-16A0-44C9-96A5-67C1E1C2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19A-BA12-4A16-B0B3-87856B4B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B44-56F2-4641-9BD0-D07240E2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FA2-DF8E-4251-86C9-53447815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C99-4F97-4BC3-913E-F1E35381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149-B545-47DA-A9BE-2E4345D2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80880"/>
            <a:ext cx="8152920" cy="1599840"/>
            <a:chOff x="457200" y="38088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38088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54612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76680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0969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side the U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DA32-C7F4-4BCB-BDEC-6F3743C7E9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RatLogo_rev_2color_crisp" descr=""/>
          <p:cNvPicPr/>
          <p:nvPr/>
        </p:nvPicPr>
        <p:blipFill>
          <a:blip r:embed="rId2"/>
          <a:stretch/>
        </p:blipFill>
        <p:spPr>
          <a:xfrm>
            <a:off x="7489800" y="6381720"/>
            <a:ext cx="1603440" cy="43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8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6E95-81CE-4F22-A566-28EAAF0F9A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Business Solutions with UM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ubi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formation systems are not aligned with the busi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siness evolving faster than existing technologies can handle chan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ck of business process understanding by the user due to no standard visual communication meth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enterprise wide workflow resulting in disjointed process workers and islands of inform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tools exist to integrate or map logical and physical components within the enterpri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bico (Pty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B33-9B73-4CBD-9CC7-C428D1B70F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terprise wide solution that aligns with business strateg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cess by process build using a standard communication mechani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porting and enquiry cap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r security by ro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tomated workflow solution with total component information integ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inuos 100% business information f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bico (Pty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6D9-DCB4-40AD-8DDB-B5BD88A5F0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siness foc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orkflow driv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echnology issues shield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derstanding of system complexi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mooth implementation design into technolog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ttern driv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sterfile patterns; classes, interactions, states, use 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ansaction patterns; classes, interactions, states, use 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porting patterns; classes, intera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oles and securities; actors, intera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bico (Pty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596-1961-46A1-B958-F012BF2D7C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heck ou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siness Solutions with UML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ose model titled business.mdl on this C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more information visit the Rubico web s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ww.rubico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bico (Pty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C0FF-9612-4475-8D76-4577D34A22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ay van Zyl, Anthony Stewart</dc:creator>
  <dc:description/>
  <dc:language>en-US</dc:language>
  <cp:lastModifiedBy>Terry Quatrani</cp:lastModifiedBy>
  <cp:lastPrinted>1998-03-09T08:44:59Z</cp:lastPrinted>
  <dcterms:modified xsi:type="dcterms:W3CDTF">1999-03-12T19:50:58Z</dcterms:modified>
  <cp:revision>1126</cp:revision>
  <dc:subject>Competition</dc:subject>
  <dc:title>UML Model</dc:title>
</cp:coreProperties>
</file>