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4440" y="686880"/>
            <a:ext cx="4569120" cy="3426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A2945-7570-43D4-B6C2-63D21680AC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lecommunications framework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004760" y="615960"/>
            <a:ext cx="4846680" cy="36352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3680" y="4500360"/>
            <a:ext cx="5198760" cy="39733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mong the vast set of requirements, this client wanted the system to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us this system needed to communicate with the already existing command and control syste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D21F-E80D-41BF-9C34-69B8CCD25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882600"/>
            <a:ext cx="7924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4995-52C6-438F-981C-7195AAB75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4E99-6003-43B6-A438-327797BA5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9492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9492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88260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88260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88260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CCAE-C21A-4CA8-A8BE-FAF239841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30CD1-8DBD-46C6-82B5-6635DD7CC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F72DC-9E2D-446D-89F9-94F07DA43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A8A47-4E96-4C0D-8035-B8E196A81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B2A03-8115-4D83-AFCD-6B062E54B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0876C-9BE1-4149-B000-468F05826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762120" y="151920"/>
            <a:ext cx="76960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C5C37-1ED4-4214-9EBB-5FD199F02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4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B779B-39ED-4CBE-AA99-CE5DDE67F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1539-D977-4B5B-929A-555CBA46A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462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AE11B-1147-404F-BEE9-4638AC18A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440" y="3882600"/>
            <a:ext cx="7924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149D0-957B-46AC-9291-5691C21B5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85440" y="3882600"/>
            <a:ext cx="7924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43DD0-8049-4B97-96B8-FF8A7F00D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4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462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2DAC1-883A-4B61-A24E-484720C68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64920" y="129492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4760" y="129492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85440" y="388260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64920" y="388260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4760" y="388260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78E2F-E159-4343-A2B1-86C69E5F2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DFB8-7701-4682-A89B-80E9EDCC4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7759-4FE0-4C3F-A69D-9E8A56265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7CBE-5E91-4BA1-B963-9FD0B8E26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762120" y="151920"/>
            <a:ext cx="76960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6C7E-53F0-4F17-A1E3-5A409F580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927D-4471-48F7-ABCF-8175A05B2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465A-5325-4C73-A62E-7FD10E7B5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882600"/>
            <a:ext cx="7924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0BD5-CFD2-4D24-B3AF-E82CD4A5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380880"/>
            <a:ext cx="8152920" cy="1599840"/>
            <a:chOff x="457200" y="38088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38088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54612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76680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09692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Inside the U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62F23-1A9E-469F-8216-4F30E84495A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" name="RatLogo_rev_2color_crisp" descr=""/>
          <p:cNvPicPr/>
          <p:nvPr/>
        </p:nvPicPr>
        <p:blipFill>
          <a:blip r:embed="rId2"/>
          <a:stretch/>
        </p:blipFill>
        <p:spPr>
          <a:xfrm>
            <a:off x="7489800" y="6278400"/>
            <a:ext cx="1603440" cy="4384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f5f5f"/>
            </a:outerShdw>
          </a:effectLst>
        </p:spPr>
      </p:pic>
      <p:pic>
        <p:nvPicPr>
          <p:cNvPr id="11" name="ssi%20logo1" descr=""/>
          <p:cNvPicPr/>
          <p:nvPr/>
        </p:nvPicPr>
        <p:blipFill>
          <a:blip r:embed="rId3"/>
          <a:stretch/>
        </p:blipFill>
        <p:spPr>
          <a:xfrm>
            <a:off x="101520" y="6215040"/>
            <a:ext cx="157500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9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EF920-960E-4382-A9F8-3860D78C46A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6222960"/>
            <a:ext cx="1871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33800" y="6222960"/>
            <a:ext cx="2876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22960"/>
            <a:ext cx="1871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33800" y="6222960"/>
            <a:ext cx="2876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6222960"/>
            <a:ext cx="1871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33800" y="6222960"/>
            <a:ext cx="2876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6222960"/>
            <a:ext cx="1871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33800" y="6222960"/>
            <a:ext cx="2876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6222960"/>
            <a:ext cx="1871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33800" y="6222960"/>
            <a:ext cx="2876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6222960"/>
            <a:ext cx="1871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33800" y="6222960"/>
            <a:ext cx="2876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6222960"/>
            <a:ext cx="1871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33800" y="6222960"/>
            <a:ext cx="2876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6222960"/>
            <a:ext cx="1871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33800" y="6222960"/>
            <a:ext cx="2876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Art Advisory Management System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oftware Services Internationa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The Problem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uild a system for the Art Advisory Service (AAS) which will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ssist a large group of high net worth private banking clients in building and maintaining personal art collec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rack and maintain all information pertaining to a global art loan portfoli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rack accounts payable and accounts receivabl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aintain historical activity records for all client, inventory, vendor and loan even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The Requirement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rack all transactional information, including client information, inventory information, accounts payable/receivable, and loan information, all to be available from a single source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ave the ability to maintain visual images of the art itself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ovide a database of information to clients of AA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The Solution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evelop the user interface using Visual C++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s provided code reuse which reduced the development time on subsequent projec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aintenance time was also reduced as many additions to the system could be made without code redundanc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database structure was built in Oracle 7, and all existing data was ported to the new databas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lient and inventory information, accounts payable/receivable, and loan information are all stored conveniently in one plac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old information is not overwritten so complete purchase histories are now available for review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The Solution (continued)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visual image of the art would be made available by using WaterMark software, and the image attributes themselves would be stored using SQL serv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Rational Rose Model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heck out the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rt Advisory Management System 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Rose model titled art.mdl on this CD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or more information visit the Software Services International (SSI) web sit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ww.ssius.co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2T21:24:11Z</dcterms:created>
  <dc:creator>Internal Use</dc:creator>
  <dc:description/>
  <dc:language>en-US</dc:language>
  <cp:lastModifiedBy>Terry Quatrani</cp:lastModifiedBy>
  <cp:lastPrinted>1999-03-12T19:03:08Z</cp:lastPrinted>
  <dcterms:modified xsi:type="dcterms:W3CDTF">1999-03-13T02:42:37Z</dcterms:modified>
  <cp:revision>24</cp:revision>
  <dc:subject/>
  <dc:title>No Slide Title</dc:title>
</cp:coreProperties>
</file>